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34B-3992-4A9B-B7B8-40DB16A9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E44-00E0-4D41-B080-674D45EB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3AA-6F52-473A-8A0C-B796C134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947-4D88-4E70-ABE5-077E6740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43A-D51A-411F-A2A7-D89BCA0B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2AB-21AC-4304-B17E-4592302C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A78-67B2-43CC-918A-8022DAA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963-725A-4128-97C3-9BF1F560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04F-54F7-4FE8-A1DE-E39F6582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E6E-8B49-4A5D-B465-112E766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D22-2D41-4F67-80B3-B0FC57A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FA0-DAF5-40BC-8108-B3052C0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183E-4AC8-49D4-AC6F-995DBC69331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resh.co.il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resh.co.il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38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70c0"/>
                </a:solidFill>
                <a:latin typeface="Calibri"/>
              </a:rPr>
              <a:t>טופס </a:t>
            </a:r>
            <a:r>
              <a:rPr b="1" lang="he-IL" sz="4800" spc="-1" strike="noStrike">
                <a:solidFill>
                  <a:srgbClr val="0070c0"/>
                </a:solidFill>
                <a:latin typeface="Calibri"/>
              </a:rPr>
              <a:t>101</a:t>
            </a:r>
            <a:r>
              <a:rPr b="1" lang="he-IL" sz="4800" spc="-1" strike="noStrike">
                <a:solidFill>
                  <a:srgbClr val="0070c0"/>
                </a:solidFill>
                <a:latin typeface="Calibri"/>
              </a:rPr>
              <a:t> אלקטרוני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213000"/>
            <a:ext cx="672948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70c0"/>
                </a:solidFill>
                <a:latin typeface="Calibri"/>
              </a:rPr>
              <a:t>יורם אזר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70c0"/>
                </a:solidFill>
                <a:latin typeface="Calibri"/>
              </a:rPr>
              <a:t>יועץ מס ופריש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רב קוק 8 ירושלי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8989"/>
                </a:solidFill>
                <a:latin typeface="Calibri"/>
              </a:rPr>
              <a:t>www.poresh.co.il</a:t>
            </a:r>
            <a:r>
              <a:rPr b="1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1619280" y="692280"/>
            <a:ext cx="604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70c0"/>
                </a:solidFill>
                <a:latin typeface="Calibri"/>
              </a:rPr>
              <a:t>מסמכים ,הכיצד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4100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מסמכים יסרקו למערכת ויישמרו כקובץ בארכיון ממוחש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מעביד יקיים תהליך של אימות של המסמכים שצורפ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אחר שהעובד יסיים את מילוי הטופס ,יזין שוב את הסיסמ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וזאת על מנת לאשר הצהרת עובד שכל הנתונים שמסר מלאים ונכונים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קיים ניסוח קבוע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מה המעביד עושה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לאחר שהעובד סיים למלות את הטופס ,ולאחר שהעובד חתם חתימה על הצהרתו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ינעל הטופס כקובץ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DF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המעביד יחתום בחתימה אלקטרונית ממוחשב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הטופס החתום יעבור לעובד לחיווי – לבדיקת הפרטים שמילא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כל עדכון ואו שינוי ידווח בגרסה חדש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המערכת חייבת לשמור את כל הגרסאות שהיו לעובד במהלך השנה ,כולל הטפסים ,המסמכים ,וחתימת העוב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הוראות נלוות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צב שהטופס לא מולא נכון על ידי העובד יחשב הטופס כלקוי – המעביד יחייב שיעור מס מרב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ידה והעובד הרים את נטל הראיה מול המעביד כי הטופס לא מולא על ידי המעסיק ,יישא המעסיק בנטל המס החס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שות המיסים שומרת לעצמה את הזכות לפנות גם לעוב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שות המיסים יכולה לבטל אישור למעסיק ולבית תוכנה בכל נקודת זמ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הוראות למשלמי קצבה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כיום כל מי שמקבל קצבה חייב במילוי טופס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כל שנ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אוכלוסיית מקבלי הקצבה לרוב מבוגרים ,אשר לעיתים קשה להם במילוי הטופ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מידה והם לא חותמים משלם הקצבה מנכה להם מס מרב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רוב לא יודעים בגלל גילם שנוכה להם מס מרב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רוב לא מגישים דוחות להחזר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מה קורה החל מ- </a:t>
            </a: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1/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500" spc="-1" strike="noStrike" u="sng">
                <a:solidFill>
                  <a:srgbClr val="ff0000"/>
                </a:solidFill>
                <a:uFillTx/>
                <a:latin typeface="Calibri"/>
              </a:rPr>
              <a:t>משלמי קצבאות  יוכלו לקבל פטור מי מילוי הטופס הידני בכל שנה בתנאים הבאים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משלם קצבאות ל-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מקבלי קצבאות לפחו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הוגשו כל טפסי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126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לרשויות המס בזמ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הקצבה משולמת באמצעות מיכון ולשכת שירו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בפעם הראשונה לתשלום הקצבה ,יחתום מקבל הקצבה על טופס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ידני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משלם הקצבה יעביר  למקבל הקצבה מכתב המסביר לו שהוא חייב להודיע על כל שינוי במצבו המשפחת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גמלאי שטרם מלאו לו –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ימלא טופס ידני בכל שנה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גמלאי שיש לו הכנסה נוספת – יחתום כל שנה ויודיע האם קיימת הכנסתו הנוספת מידי כל שנה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המשך הוראות למקבלי קצב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גמלאי המקבל נקודת זיכוי על בן או בת זוג לא עובדת לפי סעיף 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 – יחתום בכל שנה על הצהרה כי בן/ת זוגו איננה עובדת ,טופס זה יצורף לטופס 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 המקורי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לא נתקבלה הצהרה – אין נקודת זיכו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נקודת זיכוי על ילדים – יינתנו על סמך ההצהרה הראשונית והמערכת תפסיק בהתאם לגיל הילדי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אחת ל- 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 שנים ימלאו כל הגמלאים טופס 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משלם הקצבה הודיע לפקיד השומה על בקשתו ,וחתם על הצהרת כי הוא עומד בכל אותם תנאי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>
                <a:solidFill>
                  <a:srgbClr val="000000"/>
                </a:solidFill>
                <a:latin typeface="Calibri"/>
              </a:rPr>
              <a:t>פקיד השומה אישר בכתב את בקשתו של משלם הקצב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631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 u="sng">
                <a:solidFill>
                  <a:srgbClr val="0070c0"/>
                </a:solidFill>
                <a:uFillTx/>
                <a:latin typeface="Calibri"/>
              </a:rPr>
              <a:t>תודה על ההקשבה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5851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70c0"/>
                </a:solidFill>
                <a:latin typeface="Calibri"/>
              </a:rPr>
              <a:t>יורם אזר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70c0"/>
                </a:solidFill>
                <a:latin typeface="Calibri"/>
              </a:rPr>
              <a:t>יועץ מס ופריש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70c0"/>
                </a:solidFill>
                <a:latin typeface="Calibri"/>
              </a:rPr>
              <a:t>הרב קוק </a:t>
            </a:r>
            <a:r>
              <a:rPr b="0" lang="he-IL" sz="30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0" lang="he-IL" sz="3000" spc="-1" strike="noStrike">
                <a:solidFill>
                  <a:srgbClr val="0070c0"/>
                </a:solidFill>
                <a:latin typeface="Calibri"/>
              </a:rPr>
              <a:t> ירושלי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70c0"/>
                </a:solidFill>
                <a:latin typeface="Calibri"/>
              </a:rPr>
              <a:t>052-3808345</a:t>
            </a:r>
            <a:r>
              <a:rPr b="0" lang="he-IL" sz="3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oresh.co.il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1619280" y="2349360"/>
            <a:ext cx="619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נושא המצגת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ערכות לקראת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/12013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שינויים בצורת הדיווח של כרטיס עובד (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כל האישורים שניתנו בעבר לפטור מדיווח ומילוי בוטלו מיום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/1/2013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יש צורת דיווח חדשה אלקטרוני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עסיקים צרכים להודיע על כוונתם למס הכנס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373720"/>
            <a:ext cx="1942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ההיסטוריה של הטופס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כידוע טופס זה גרם ללא מעט כאבי ראש למעסיק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אחריות האומנם של המעסיק ,אבל מי שהיה דואג למילויו היה העוב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א מעט פעמים העובד לא היה ממלא את כל השדות בטופס בשוגג או במזי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ואז המעביד היה מוצא את עצמו חסר הונים בביקורת ניכויים ,ומשלם מס יתר במקום העוב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מהו טופס </a:t>
            </a: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101</a:t>
            </a: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התאם לתקנ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לתקנות מס הכנסה (ניכוי ממשכורת ומשכר עבודה), התשנ"ג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999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,עובד חייב למלא בכרטיס עובד (טופס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0101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) את פרטיו האישיים ומקורות הכנסתו בתחילת עבודתו אצל מעביד חד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וכן ב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בינואר של כל שנה שלאחר מכן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מידה ויש שינויים במהלך השנה העובד יעביר עדכון השינוי למעסיק תוך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ימ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373720"/>
            <a:ext cx="1942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מה תפקידו של הטופס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חישוב המס של העובד מתבסס על הצהרת העוב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חישוב ההקלות במס – מבוסס על טופס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יות והמעביד לפי סעיף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64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לפקודה אחראי להעברת המס וחישובו ,חלה אחריות מוחלטת על תקינות הטופ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תקנ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(ה) קובעת פטור למעבידים מסוימים במילוי הטופס על ידי עובדיהם בכל שנ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חידוש – בעידן הדיווח המקוו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על מנת ולחסוך את מילוי הטופס בצורה ידנית כל שנ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היות וכמעט כל המעסיקים כיום מנהלים שכר וכוח אדם בתוכנות שכר מתקדמו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הוחלט החל משנת המס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לדווח באמצעות טופס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אלקטרוני ממוחשב במקום הטופס הידני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ובתנאי שהמעסיק יקבל את אישור מס הכנסה לתוכנית המאשרת את גרסת המחשב לפי הנחיות מס הכנס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אילו מערכות קיימות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מערכת מס הכנס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מערכת פרטית ופנימית של המעסיק ובתנאי שעברה את בדיקת מס הכנס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לרוב לשכות השירות פיתחו מערכת בתוך מערך השכר ומשאבי אנו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979640" y="5229360"/>
            <a:ext cx="446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איך בוחרים מערכת דיווח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עסיק המעוניין להשתמש במערכת מס הכנסה יגיש בקשה על טופס מיוחד תוך חודשיים לפני תום שנת המס הקודמת לשנה שמעוניין להשתמש 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עסיק המעוניין לפתח מערכת משלו – תוך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חודשים מתום שנת המ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שכת שירות – כנ"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את טופס הבקשה ניתן להוריד מאתר רשות המיס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אופן הפקת הטופס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ניסה למערכת על ידי העובד – זיהוי סיסמא אישית חד ערכי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עובד יעדכן את פרטיו על המס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ערכת תבצע בדיקת שלמות הטופס ,של שדות החובה בטופ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שלמת מילוי הטופס מותנית במילוי כל שדות החוב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ערכת תאכוף דרישה לצירוף מסמכים טרם השלמת התהלי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950080"/>
            <a:ext cx="1944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15:06:09Z</dcterms:created>
  <dc:creator>Atidot</dc:creator>
  <dc:description/>
  <dc:language>en-US</dc:language>
  <cp:lastModifiedBy>owner</cp:lastModifiedBy>
  <dcterms:modified xsi:type="dcterms:W3CDTF">2012-07-01T13:15:20Z</dcterms:modified>
  <cp:revision>7</cp:revision>
  <dc:subject/>
  <dc:title>טופס 101 אלקטרוני </dc:title>
</cp:coreProperties>
</file>