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5C8-E4FE-4705-8DE5-C45309B8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B67-8749-49C4-8238-92422DC2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75A-6809-4A64-909D-EB607C1A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D1A-BFE1-47C9-A544-056CDEAC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86A1-2C44-47DE-BA61-1B12C83D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A580-E6C2-4785-AB51-7F3ADBF6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A6E-3814-4C62-906D-99A81F2A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4DC9-2D2A-4855-9F5E-438EC7C0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3B4-3D29-4E0D-B415-691F24D8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699-BE1E-4552-A76C-898ADD9D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2A1-AE6D-4EE7-8C97-76159902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0FA-E8B7-46DB-B3B8-A017FA11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2F98-A4AE-42FB-A9F5-743F4A4D630C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resh.co.il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&#1496;&#1508;&#1505;&#1497;&#1501;%20&#1502;&#1505;%20&#1492;&#1499;&#1504;&#1505;&#1492;/&#1489;&#1511;&#1513;&#1492;%20&#1500;&#1511;&#1497;&#1489;&#1493;&#1506;%20&#1494;&#1499;&#1493;&#1497;&#1493;&#1514;%20&#1505;&#1506;&#1497;&#1507;%209%20&#1488;%20-%20&#1496;&#1493;&#1508;&#1505;%20161%20&#1491;.pdf" TargetMode="External"/><Relationship Id="rId2" Type="http://schemas.openxmlformats.org/officeDocument/2006/relationships/hyperlink" Target="file:///../&#1496;&#1508;&#1505;&#1497;&#1501;%20&#1502;&#1505;%20&#1492;&#1499;&#1504;&#1505;&#1492;/&#1489;&#1511;&#1513;&#1492;%20&#1500;&#1511;&#1497;&#1489;&#1493;&#1506;%20&#1494;&#1499;&#1493;&#1497;&#1493;&#1514;%20&#1505;&#1506;&#1497;&#1507;%209%20&#1488;%20-%20&#1496;&#1493;&#1508;&#1505;%20161%20&#1491;.pdf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6010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 rtl="1"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00ff"/>
                </a:solidFill>
                <a:uFillTx/>
                <a:latin typeface="Calibri"/>
              </a:rPr>
              <a:t>טופס </a:t>
            </a:r>
            <a:r>
              <a:rPr b="1" lang="he-IL" sz="6000" spc="-1" strike="noStrike" u="sng">
                <a:solidFill>
                  <a:srgbClr val="0000ff"/>
                </a:solidFill>
                <a:uFillTx/>
                <a:latin typeface="Calibri"/>
              </a:rPr>
              <a:t>161</a:t>
            </a:r>
            <a:r>
              <a:rPr b="1" lang="he-IL" sz="6000" spc="-1" strike="noStrike" u="sng">
                <a:solidFill>
                  <a:srgbClr val="0000ff"/>
                </a:solidFill>
                <a:uFillTx/>
                <a:latin typeface="Calibri"/>
              </a:rPr>
              <a:t>-ד,ח,י  - </a:t>
            </a:r>
            <a:r>
              <a:rPr b="1" lang="he-IL" sz="6000" spc="-1" strike="noStrike" u="sng">
                <a:solidFill>
                  <a:srgbClr val="0000ff"/>
                </a:solidFill>
                <a:uFillTx/>
                <a:latin typeface="Calibri"/>
              </a:rPr>
              <a:t>2019</a:t>
            </a:r>
            <a:r>
              <a:rPr b="1" lang="he-IL" sz="60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6564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אזרד יורם –יועץ מס ופרישה ושכ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הרב קוק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ירושלי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טלפון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02-53574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poresh.co.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orammas1@012.net.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עתודות - הרב קוק 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ירושלים - ט"ל -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02-62330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עתודות - המרכז ללימודי מקצועות השכר בישרא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Administrator\שולחן העבודה\atudot_final.gif"/>
          <p:cNvPicPr/>
          <p:nvPr/>
        </p:nvPicPr>
        <p:blipFill>
          <a:blip r:embed="rId2"/>
          <a:stretch/>
        </p:blipFill>
        <p:spPr>
          <a:xfrm>
            <a:off x="4929120" y="357120"/>
            <a:ext cx="3929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00ff"/>
                </a:solidFill>
                <a:uFillTx/>
                <a:latin typeface="Calibri"/>
              </a:rPr>
              <a:t>המשך אפשרות ב- מקבלי קצבה מי </a:t>
            </a:r>
            <a:r>
              <a:rPr b="1" lang="he-IL" sz="3600" spc="-1" strike="noStrike" u="sng">
                <a:solidFill>
                  <a:srgbClr val="0000ff"/>
                </a:solidFill>
                <a:uFillTx/>
                <a:latin typeface="Calibri"/>
              </a:rPr>
              <a:t>1/1/2012</a:t>
            </a:r>
            <a:r>
              <a:rPr b="1" lang="he-IL" sz="36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שלם הקצבה ינכה את המס מהקצבה המזכה תוך מתן הפטור הנוסף בלבד וזאת בהתקיים שני תנאים הבא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א. הנישום מילא טופס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ח בשלמותו והגישו למשלם הקצבה חתום על ידו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נישום הצהיר בטופס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0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בכל שנה שאין לו הכנסות אחרות או לחלופין שיש לו הכנסות אחרות אך לא מקצב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ff"/>
                </a:solidFill>
                <a:uFillTx/>
                <a:latin typeface="Calibri"/>
              </a:rPr>
              <a:t>הנחיות למשלמי הקצבה אפשרות ב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החל מיום הכניסה של ההנחיות החדשות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/1/202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משלם קצבה ישלח טופס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ח לכל מקבל קצבה ,בסמוך להגיעו לגיל פרישה (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62,67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משלם הקצבה ישלח טופס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ח גם לכל מקבלי הקצבה שהגיעו לגיל המזכה לאחר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/1/2012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ולפני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/1/202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שהצהירו על גבי טופס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01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שאין להם הכנסות אחרות או לחילופין שיש להם הכנסות אחרות אך לא מקצבה ,ואשר לא הציגו למשלם הקצבה בעבר אישורים על שיעור הפטור מפקיד השומה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משלם שניכה לפי אפשרות ב- ידווח על כך בטופס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26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ff"/>
                </a:solidFill>
                <a:uFillTx/>
                <a:latin typeface="Calibri"/>
              </a:rPr>
              <a:t>לסיכו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נחיות חדשו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1/202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נישום אשר לא הגיש למשלם קצבה טופס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י או טופס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ח או אישור פקיד שומה משלם הקצבה ינכה מס מקצבתו המזכה ללא מתן פטור ממס הקבוע בסעיף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א לפקוד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428760"/>
            <a:ext cx="791352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טופס </a:t>
            </a: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161</a:t>
            </a: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 ד- קיבוע זכויות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792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טופס חדש -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2019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באמצעות טופס זה מבקש העובד מרשות המיסים כיצד לנהוג לגבי קופות הגמל וכספי התגמולים בקופות הפקדות אחרי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/1/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טופס זה ניתן למילוי רק כאשר הפורש הגיע לגיל פרישה כחו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נכון לשנת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2018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- 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62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  נשים ,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גברי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כידוע בעקבות תיקון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9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לפקודה מחודש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5/2012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לכול פורש כיום יש יתרת הון פטור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נכון לשנת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2019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747,936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₪ (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8,48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49%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18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כול פורש בגיל הזכאות יכול לבחור מתוך עוגה זו כמה להון וכמה פטור לקצבה </a:t>
            </a:r>
            <a:r>
              <a:rPr b="0" lang="he-IL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..\טפסים חדש מס הכנסה ביטוח לאומי  2016\בקשה לקיבוע זכויות סעיף 9 א - טופס 161 ד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עתודות - הרב קוק 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ירושלים - ט"ל -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02-62330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עתודות - המרכז ללימודי מקצועות השכר בישרא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C:\Documents and Settings\Administrator\שולחן העבודה\atudot_final.gif"/>
          <p:cNvPicPr/>
          <p:nvPr/>
        </p:nvPicPr>
        <p:blipFill>
          <a:blip r:embed="rId3"/>
          <a:stretch/>
        </p:blipFill>
        <p:spPr>
          <a:xfrm>
            <a:off x="395280" y="5877000"/>
            <a:ext cx="2894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57120"/>
            <a:ext cx="81676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המשך טופס </a:t>
            </a: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161</a:t>
            </a: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 ד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הפורש מבקש באמצעות טופס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ד מה הסכומים שהוא מעוניין להוון כקצבה אותן הפקדות שהופקדו אחרי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1/1/2008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מומלץ מאוד להגיע לפקיד השומה בעת אירוע הפרישה כאשר יש רשימה מדויקת של כול יתרות  התגמולים לגבי הפקדות בהפקדות  אחרי 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1/1/2008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היות ויש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יום להחליט  ,מיום הפרישה וההסדרה מול רשות המיסים על מענקי הפרישה , לאחר תקופה זו לא נוכל לקבל בהיוון פטור בהמשך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היות ונבחר מסלול מיסוי ואין דרך חזר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עתודות - הרב קוק 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ירושלים - ט"ל -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02-62330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עתודות - המרכז ללימודי מקצועות השכר בישרא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5750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מה העובד קובע בטופס </a:t>
            </a: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161</a:t>
            </a: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 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כמה מהתגמולים לאחר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1/2008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מעוניין להוו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כמה מתוך אותם תגמולים יקטינו את יתרת ההון הפטורה (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747,93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ה יקרה בעתיד כאשר שיעור הפטור יגדל ,האם לבקש את הגדלתו היחסית ,הגדלת פטור רק על ההון ,הגדלת הפטור רק על הקצב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כמה מהתגמולים שלו יהיו פטורים היום למרות שהם מוגדרים לקצב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והכל רק כאשר הוכיח כי יש לו פנסיה מטר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עתודות - הרב קוק 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ירושלים - ט"ל -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02-62330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עתודות - המרכז ללימודי מקצועות השכר בישרא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093000"/>
            <a:ext cx="257508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70c0"/>
                </a:solidFill>
                <a:uFillTx/>
                <a:latin typeface="Calibri"/>
              </a:rPr>
              <a:t>מה התנאים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גיל זכאות-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2,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( בהמשך נשים הגיל ישתנה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נסיה מטרה - קצבה מינימום מחצית מהשכר הממוצע במשק נכון ל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18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,65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לחוד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כלומר מי שלא הגיע לפנסיה זו לא יכול לבקש היוון של כספי הגמל שהופקדו לאחר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1/2008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כן בטופס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ד יכול הפורש לבקש מפקיד השומה להוון את כספי הגמל שיש לו ומוגדרים בצבע קצבתי ,לסכום הוני פטור ממ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עתודות - הרב קוק 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ירושלים - ט"ל -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02-62330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עתודות - המרכז ללימודי מקצועות השכר בישרא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688000"/>
            <a:ext cx="316872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4f81bd"/>
                </a:solidFill>
                <a:uFillTx/>
                <a:latin typeface="Calibri"/>
              </a:rPr>
              <a:t>מגבלת </a:t>
            </a:r>
            <a:r>
              <a:rPr b="1" lang="he-IL" sz="4400" spc="-1" strike="noStrike" u="sng">
                <a:solidFill>
                  <a:srgbClr val="4f81bd"/>
                </a:solidFill>
                <a:uFillTx/>
                <a:latin typeface="Calibri"/>
              </a:rPr>
              <a:t>90</a:t>
            </a:r>
            <a:r>
              <a:rPr b="1" lang="he-IL" sz="4400" spc="-1" strike="noStrike" u="sng">
                <a:solidFill>
                  <a:srgbClr val="4f81bd"/>
                </a:solidFill>
                <a:uFillTx/>
                <a:latin typeface="Calibri"/>
              </a:rPr>
              <a:t> יו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חשוב לדעת שמיום ההסדר מול רשות המיסים על מענקי הפרישה וקבלת הפטורים על המענקים ואו הקצב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יש לפורש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יום להסדיר את עניין הפטור על כספי התגמולים הפקדות אחרי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/1/2008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במידה  וחלפו אותם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יום כספי התגמולים יחויבו במס של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5%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עתודות - הרב קוק 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ירושלים - ט"ל -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02-62330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עתודות - המרכז ללימודי מקצועות השכר בישרא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Calibri"/>
              </a:rPr>
              <a:t>תבנית הפרישה תיקון 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Calibri"/>
              </a:rPr>
              <a:t>190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Calibri"/>
              </a:rPr>
              <a:t> שנת 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Calibri"/>
              </a:rPr>
              <a:t>20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מציין מיקום תוכן 5"/>
          <p:cNvGraphicFramePr/>
          <p:nvPr/>
        </p:nvGraphicFramePr>
        <p:xfrm>
          <a:off x="541440" y="1657440"/>
          <a:ext cx="8138880" cy="451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מציין מיקום תוכן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657440"/>
                    <a:ext cx="813888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E54B-8243-45C8-8A2E-AB0B0E5A0FBE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84B4A3-0C0F-46A6-9509-707C26D9007D}" type="datetime12">
              <a:rPr b="0" lang="he-IL" sz="1200" spc="-1" strike="noStrike">
                <a:solidFill>
                  <a:srgbClr val="898989"/>
                </a:solidFill>
                <a:latin typeface="Calibri"/>
              </a:rPr>
              <a:t>04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Documents and Settings\Administrator\שולחן העבודה\atudot_final.gif"/>
          <p:cNvPicPr/>
          <p:nvPr/>
        </p:nvPicPr>
        <p:blipFill>
          <a:blip r:embed="rId3"/>
          <a:stretch/>
        </p:blipFill>
        <p:spPr>
          <a:xfrm>
            <a:off x="539640" y="5661000"/>
            <a:ext cx="232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הגדרות חדשות לנוסחה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000" y="119700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תואם מכפיל המרה להון –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( היה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גיל הזכאות – גיל הפרישה או הגיל שבו היחיד החל לקבל קצבה מזכה / המאוחר מבין השתיי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נקבע מקדם –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.35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(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35%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ענקים פטורים ממס – עבור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שנות עבוד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יתרת ההון הפטורה ממס –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67%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*קצבה מ. מה"ל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(א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ענקים הפטורים ממס – ממודד מיום קבלתם עד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/1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של השנה שבה חל גיל הזכאות מוכפל במקדם 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(ב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התוצאה של א – ב = יתרת ההון הפטורה /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18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=יתרת הפטור על הקצב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BCA7-D215-4163-91B4-3D743A09002A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7B0DA9-7922-4067-B03F-8BF40FA33701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4:1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ff"/>
                </a:solidFill>
                <a:uFillTx/>
                <a:latin typeface="Calibri"/>
              </a:rPr>
              <a:t>הנחיות לפטור הנוסף </a:t>
            </a:r>
            <a:r>
              <a:rPr b="1" lang="he-IL" sz="4400" spc="-1" strike="noStrike" u="sng">
                <a:solidFill>
                  <a:srgbClr val="0000ff"/>
                </a:solidFill>
                <a:uFillTx/>
                <a:latin typeface="Calibri"/>
              </a:rPr>
              <a:t>1/1/20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סעיף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א(ב) קובע כי על הכנסה מ-קצבה מזכה שמקבל נישום שהגיע "לגיל פרישה "יחול פטור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עד לשנת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35%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מהקצבה המזכה בפוע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מסגרת תיקון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9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(יום התחילה )</a:t>
            </a:r>
            <a:r>
              <a:rPr b="1" lang="he-IL" sz="2800" spc="-1" strike="noStrike" u="sng">
                <a:solidFill>
                  <a:srgbClr val="000000"/>
                </a:solidFill>
                <a:uFillTx/>
                <a:latin typeface="Calibri"/>
              </a:rPr>
              <a:t>1/1/12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– הוגדל שיעור הפטור המחושב מ"תקרת הקצבה המזכה " עד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2025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יעמוד הפטור בשיעור של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6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שיעור הפטור מורכב משני רבדים האחד שיעור מרבי של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35%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מ"תקרת הקצבה המזכה 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והשני שיעור פטור נוסף שהוגדל באופן הדרגתי (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הפטור הנוסף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1f497d"/>
                </a:solidFill>
                <a:uFillTx/>
                <a:latin typeface="Calibri"/>
              </a:rPr>
              <a:t>מה השינוי בנוסחה 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267920"/>
            <a:ext cx="8435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בנוסחה החדשה מחשבים את קיזוז הקצבה ביחס בין המענקים הפטורים בגין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שנות עבודה שקדמו להגיעו לגיל הזכא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לבין סכום התקרה המזכה המקסימאלית לאותן שנות עבודה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גיל הזכאות" – גיל הפרישה או תחילת הקצבה – לפי המאוח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מענקים פטורים" - סכום המענקים הפטורים לפי סעיף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א)(א) שקיבל יחיד בעד שנות עבודתו שקדמו לגיל הזכאות, ולא יותר מ-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שנות עבודה למעט מענקים המנויים בסעי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8,48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*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35%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*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18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/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12,38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*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32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1.35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מקדם .</a:t>
            </a:r>
            <a:br>
              <a:rPr sz="2400"/>
            </a:b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24000" y="5850000"/>
            <a:ext cx="1979640" cy="1008000"/>
          </a:xfrm>
          <a:prstGeom prst="rect">
            <a:avLst/>
          </a:prstGeom>
          <a:ln w="0">
            <a:noFill/>
          </a:ln>
        </p:spPr>
      </p:pic>
      <p:sp>
        <p:nvSpPr>
          <p:cNvPr id="106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D5E6-876A-48BE-B4F3-0939FFD6B902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FC536B-2E42-4594-B92C-CDF5D09DCEE9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4:1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ff"/>
                </a:solidFill>
                <a:uFillTx/>
                <a:latin typeface="Calibri"/>
                <a:cs typeface="Arial"/>
              </a:rPr>
              <a:t>מענק כוחות הביטחון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ענק כוחות הביטחון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משכורות לא נלקח בחשבון בחישוב הפטור בעתיד ובחישוב הפגיעה על הפטור על הפנסיה בגיל הזכא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רק פדיון ימי מחלה ,מענק לוחם,מענק שנים עודפות נלקחים בחשבון בחישוב הפגיעה על הפטו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טופס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החדש מופיע הערה זו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עתודות - הרב קוק 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ירושלים - ט"ל -</a:t>
            </a: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02-62330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עתודות - המרכז ללימודי מקצועות השכר בישרא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24000" y="5850000"/>
            <a:ext cx="1979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יתרת ההון הפטורה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יתרת ההון הפטורה" - הסכום המתקבל מהפחתת הסכום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האמור בפסקת משנה (ב) מהסכום האמור בפסקת משנה (א):</a:t>
            </a:r>
            <a:br>
              <a:rPr sz="2500"/>
            </a:b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(א)סכום השווה ל-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67%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מתקרת הקצבה המזכה כשהוא מוכפל במכפיל ההמרה להון:</a:t>
            </a:r>
            <a:br>
              <a:rPr sz="2500"/>
            </a:b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(ב)המענקים הפטורים כשהם צמודים למדד מהיום שבו התקבלו עד יום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בינואר בשנה שבה חל גיל הזכאות, ומוכפלים במקדם; לעניין זה, "מקדם" - סכום השווה ל-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35%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מתקרת הקצבה המזכה כשהוא מוכפל במכפיל ההמרה להון ומחולק בסכום המתקבל מהכפלת הסכום הפטור המרבי לכל שנת עבודה כאמור בסעיף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א)(א)(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ב-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32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;</a:t>
            </a:r>
            <a:br>
              <a:rPr sz="2500"/>
            </a:b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"מענקים פטורים" - סכום המענקים הפטורים לפי סעיף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א)(א) שקיבל יחיד בעד שנות עבודתו שקדמו לגיל הזכאות, 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ולא יותר מ-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32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 שנות עבודה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069F-BC81-411D-85A1-90B5072D8301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D9EFEB-B8DA-4A6A-AE77-204F864D7436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4:1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89720"/>
            <a:ext cx="2627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Calibri"/>
              </a:rPr>
              <a:t>לדוגמא – חלוקת התבנית-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Calibri"/>
              </a:rPr>
              <a:t>2019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מציין מיקום תוכן 5"/>
          <p:cNvGraphicFramePr/>
          <p:nvPr/>
        </p:nvGraphicFramePr>
        <p:xfrm>
          <a:off x="406440" y="1603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מציין מיקום תוכן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603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D4A0-BB2F-4CD9-8860-824795B8E4C2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530821-2F66-451A-BE8C-E79489A2F794}" type="datetime12">
              <a:rPr b="0" lang="he-IL" sz="1200" spc="-1" strike="noStrike">
                <a:solidFill>
                  <a:srgbClr val="898989"/>
                </a:solidFill>
                <a:latin typeface="Calibri"/>
              </a:rPr>
              <a:t>04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Documents and Settings\Administrator\שולחן העבודה\atudot_final.gif"/>
          <p:cNvPicPr/>
          <p:nvPr/>
        </p:nvPicPr>
        <p:blipFill>
          <a:blip r:embed="rId3"/>
          <a:stretch/>
        </p:blipFill>
        <p:spPr>
          <a:xfrm>
            <a:off x="250920" y="595008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1f497d"/>
                </a:solidFill>
                <a:uFillTx/>
                <a:latin typeface="Calibri"/>
              </a:rPr>
              <a:t>דוגמא מספר </a:t>
            </a:r>
            <a:r>
              <a:rPr b="1" lang="he-IL" sz="5400" spc="-1" strike="noStrike" u="sng">
                <a:solidFill>
                  <a:srgbClr val="1f497d"/>
                </a:solidFill>
                <a:uFillTx/>
                <a:latin typeface="Calibri"/>
              </a:rPr>
              <a:t>1</a:t>
            </a:r>
            <a:r>
              <a:rPr b="1" lang="he-IL" sz="54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ספר שנות עבוד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רש ב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שכורתו האחרונ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5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ענק פריש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4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נסיה – מקרן פנסי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2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עובד קופת גמל הפקדות קצב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32,48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ה יתרת הפטור על הקצבה לפי תיקון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9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החדש ,ולפי נוסחת השילוב החדשה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F3C8-CCD7-404F-8C2E-5114F445AFB9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855224-F033-4BF8-8B99-421D0E36CAC3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4:1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992920"/>
            <a:ext cx="26272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חישוב דוגמא מספר 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1</a:t>
            </a:r>
            <a:r>
              <a:rPr b="0" lang="he-IL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מענקים פטורים ממס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240,00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/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*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92,00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חייב לזכור כי המענק הפטור יהיה רק על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שנים שקדמו לגיל הזכאו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לפורש יש קופות גמל הפקדות אחרי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32,483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0000"/>
                </a:solidFill>
                <a:uFillTx/>
                <a:latin typeface="Calibri"/>
              </a:rPr>
              <a:t>חישוב יתרת ההון הפטורה ממ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49%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8,48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80 = 747,936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בהנחה מדד ס –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92,00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1.35 = 259,20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א- ב =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747,936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259,20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488,7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משיכת קופות גמל –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32,483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פטור קצבה = 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356,253/180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 = 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1,979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כלומר הפטור – 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8,480/1,979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 = 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23.3%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 במקום 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4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3FDC-6F98-40D8-83B1-28280EB8D979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9F8E72-64FD-4DB2-9A5E-D038DB17AA35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4:1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Calibri"/>
              </a:rPr>
              <a:t>חלוקת התבנית בין הנתונים-גיל פרישה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מציין מיקום תוכן 5"/>
          <p:cNvGraphicFramePr/>
          <p:nvPr/>
        </p:nvGraphicFramePr>
        <p:xfrm>
          <a:off x="488880" y="13622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מציין מיקום תוכן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3622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2B2E-DA4D-4C7D-8921-77FE7C7C00F5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826556-5573-477B-86BA-DF6930231E88}" type="datetime12">
              <a:rPr b="0" lang="he-IL" sz="1200" spc="-1" strike="noStrike">
                <a:solidFill>
                  <a:srgbClr val="898989"/>
                </a:solidFill>
                <a:latin typeface="Calibri"/>
              </a:rPr>
              <a:t>04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C:\Documents and Settings\Administrator\שולחן העבודה\atudot_final.gif"/>
          <p:cNvPicPr/>
          <p:nvPr/>
        </p:nvPicPr>
        <p:blipFill>
          <a:blip r:embed="rId3"/>
          <a:stretch/>
        </p:blipFill>
        <p:spPr>
          <a:xfrm>
            <a:off x="6821640" y="558972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859880" cy="1140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תודה רבה על ההקשב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2320"/>
            <a:ext cx="769464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כול פורש חייב להתייעץ בעת הפרישה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לקבל ייעוץ מיועץ פרישה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יורם אזרד  –   יועץ מס ופרישה .פגישה אישי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פגישה – ייעוץ ותכנון – מומחה לסוגיות פריש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ט.ל.ח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אין להעתיק תוכן מצגת זאת ללא רשות הכותב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כול הזכויות שמורות – יורם אזרד יועץ מס ופריש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6C84-B8F7-4CDC-8730-1E89A56B31BF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DF3EFB-BAEB-480F-BB48-D4900E8F0AD5}" type="datetime12">
              <a:rPr b="0" lang="he-IL" sz="1200" spc="-1" strike="noStrike">
                <a:solidFill>
                  <a:srgbClr val="898989"/>
                </a:solidFill>
                <a:latin typeface="Calibri"/>
              </a:rPr>
              <a:t>04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276720" y="5732640"/>
            <a:ext cx="232236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ff"/>
                </a:solidFill>
                <a:uFillTx/>
                <a:latin typeface="Calibri"/>
              </a:rPr>
              <a:t>להלן טבלת שיעור הפטור הנוסף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48680" cy="3413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62280"/>
              </a:tblGrid>
              <a:tr h="6825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שיעור הפטור הכולל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בסיס + נוס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שיעור הפטור הנוס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שנת המ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25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29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-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4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25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5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ואיל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ff"/>
                </a:solidFill>
                <a:uFillTx/>
                <a:latin typeface="Calibri"/>
              </a:rPr>
              <a:t>כיצד משלם הקצבה מתייחס לפטור הנוסף -</a:t>
            </a:r>
            <a:r>
              <a:rPr b="1" lang="he-IL" sz="2400" spc="-1" strike="noStrike" u="sng">
                <a:solidFill>
                  <a:srgbClr val="0000ff"/>
                </a:solidFill>
                <a:uFillTx/>
                <a:latin typeface="Calibri"/>
              </a:rPr>
              <a:t>1/1/2020</a:t>
            </a:r>
            <a:r>
              <a:rPr b="1" lang="he-IL" sz="2400" spc="-1" strike="noStrike" u="sng">
                <a:solidFill>
                  <a:srgbClr val="0000ff"/>
                </a:solidFill>
                <a:uFillTx/>
                <a:latin typeface="Calibri"/>
              </a:rPr>
              <a:t>-נישום שהגיע לגיל פרישה לפני </a:t>
            </a:r>
            <a:r>
              <a:rPr b="1" lang="he-IL" sz="2400" spc="-1" strike="noStrike" u="sng">
                <a:solidFill>
                  <a:srgbClr val="0000ff"/>
                </a:solidFill>
                <a:uFillTx/>
                <a:latin typeface="Calibri"/>
              </a:rPr>
              <a:t>1/1/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משלם הקצבה ינכה מס מהקצבה המזכה תוך מתן הפטור הנוסף בלבד ( שנת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2019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4%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ובתנאים הבאים ( שני תנאים מצטברים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א. מקבל הקצבה  חתם  על טופס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י, בטופס מקבל הקצבה מצהיר כי לא יהוון קצבה פטורה ממס לאחר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1/1/12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( להלן יום התחילה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ב.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מקבל הקצבה הצהיר בטופס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01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בכל שנה שאין לו הכנסות אחרות או הצהיר שיש לו הכנסות אחרות אך אינן מקצבה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ff"/>
                </a:solidFill>
                <a:uFillTx/>
                <a:latin typeface="Calibri"/>
              </a:rPr>
              <a:t>הנחיות פעולה למשלמים את הקצב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לקראת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1/1/2020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כל משלמי הקצבה חייבים לשלוח את טופס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י לכל עמית מקבל קצבה שהתמלאו לגביו כל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התנאים הבאים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א. מקבל הקצבה הגיע לגיל פרישה לפני יום תחילה (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1/1/2012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ב. מקבל הקצבה הצהיר בטופס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101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שאין לו הכנסות נוספות מקצבה אצל משלם קצבה אחר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ג. משלם הקצבה מנכה מס מהקצבה ללא מתן הפטור הנוסף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ד. מקבל הקצבה לא הציג למשלם אישור פקיד שומה שניתן לאחר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1/1/2012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לעניין קביעת אחוז הפטור על הקצבה המזכה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ff"/>
                </a:solidFill>
                <a:uFillTx/>
                <a:latin typeface="Calibri"/>
              </a:rPr>
              <a:t>המשך הנחיות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קבל קצבה שבחר בדרך זאת יידרש למלא טופס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י פעם אחת בלבד ולהגישו למשלם הקצב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שלם הקצבה ידווח לפקיד שומה באמצעות טופס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2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את גובה הפטור שניתן למקבל הקצבה בשדה מיוחד אשר יוקם בטופס ב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שיפור מהותי לקבלת הפטור הנוסף ללא צורך לגשת למשרדי השומה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ff"/>
                </a:solidFill>
                <a:uFillTx/>
                <a:latin typeface="Arial"/>
                <a:cs typeface="Arial"/>
              </a:rPr>
              <a:t>נישום שהגיע לגיל פרישה לאחר </a:t>
            </a:r>
            <a:r>
              <a:rPr b="1" lang="he-IL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1/1/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חל ממועד השינוי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1/202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יעמדו בפני נישום המקבל קצבה יחידה שתי אפשריות במסגרתן יוכל לקבל את הפטור הנוסף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אפשרות א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באמצעות טופס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ד אשר יגיש לפקיד שומה –ואת האישור שיקבל יעביר למשלם הקצב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מסגרת זאת יוכל לקבל את הפטור על מענקים ,היוון קופות גמל ,ניצול עתידי של שיעור הפטור הנוסף בפעימות הבא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ff"/>
                </a:solidFill>
                <a:uFillTx/>
                <a:latin typeface="Calibri"/>
              </a:rPr>
              <a:t>המשך אפשרות א – טופס </a:t>
            </a:r>
            <a:r>
              <a:rPr b="1" lang="he-IL" sz="4400" spc="-1" strike="noStrike" u="sng">
                <a:solidFill>
                  <a:srgbClr val="0000ff"/>
                </a:solidFill>
                <a:uFillTx/>
                <a:latin typeface="Calibri"/>
              </a:rPr>
              <a:t>161</a:t>
            </a:r>
            <a:r>
              <a:rPr b="1" lang="he-IL" sz="4400" spc="-1" strike="noStrike" u="sng">
                <a:solidFill>
                  <a:srgbClr val="0000ff"/>
                </a:solidFill>
                <a:uFillTx/>
                <a:latin typeface="Calibri"/>
              </a:rPr>
              <a:t> 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שלם קצבה שהועבר אליו אישור קיבוע זכויות ינכה את המס מהקצבה המזכה תוך מתן שיעור הפטור ממס ,כפי שנקבע באישור קיבוע הזכוי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תנאי שהנישום הצהיר על טופס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0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אין לו הכנסות או לחלופין שאין לא הכנסות מקצבה נוספ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ff"/>
                </a:solidFill>
                <a:uFillTx/>
                <a:latin typeface="Calibri"/>
              </a:rPr>
              <a:t>אפשרות ב- ללא צורך לגשת למס הכנס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נישום יגיש למשלם הקצבה בקשה לצורך קבלת הפטור הנוסף בלב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אמצעות טופס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טופס זה יכלול בין היתר הצהרה של הנישום לפיה מוסכם עליו כי בשל בקשה זו ,ובחלוף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יום מיום קבלת הפטור הנוסף לא יוכל להוון קצבה בפטור ממס בעתי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וכן ידוע לו שבעתיד כל הגדלה של הפטור הנוסף תחול על הקצבה בלבד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5T08:33:06Z</dcterms:created>
  <dc:creator>nofar</dc:creator>
  <dc:description/>
  <dc:language>en-US</dc:language>
  <cp:lastModifiedBy>Admin</cp:lastModifiedBy>
  <dcterms:modified xsi:type="dcterms:W3CDTF">2019-11-30T20:36:13Z</dcterms:modified>
  <cp:revision>23</cp:revision>
  <dc:subject/>
  <dc:title>שקופית 1</dc:title>
</cp:coreProperties>
</file>