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8E1-B6A8-46D8-83D5-145799FF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A89-84FE-428E-AB84-CDC0F4DA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71B-A0CF-4AAF-94ED-510F128B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E38-1013-4936-B6B5-5C416D5B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0F9-90DB-48E7-A60D-E3AF70FD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DA0-EFDF-4F57-8B14-2C16560A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C7C-BE30-494B-A11C-AC7DF885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9FB-FB69-45C7-A9BA-56282E9F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F64-CAA8-4D14-9B09-55584BA6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14D-60C6-460F-B241-0AC4A571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D7F-0BF3-4814-AD73-1AE31D11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E04-0DBF-4AA6-8A05-E15889E1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41D6-BAA3-4898-8857-2F92CFEABD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772400" cy="194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 u="sng">
                <a:solidFill>
                  <a:srgbClr val="000000"/>
                </a:solidFill>
                <a:uFillTx/>
                <a:latin typeface="Arial"/>
              </a:rPr>
              <a:t>ביטוח לאומי קצבאו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אזרד יורם –יועץ מס ופריש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הרב קוק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ירושל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0523808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טבלת ימים – </a:t>
            </a: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2011</a:t>
            </a: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 מילואי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517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מספר ימי תגמול - תשלו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מספר ימי שירו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ימ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מציין מיקום של תאריך 3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מציין מיקום של כותרת תחתונה 3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העלאת גובה תגמול המינימו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עד היום תגמול מינימום = שכר מינימום/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ו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נכון להיום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28.3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ח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/8/08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8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הסכום הבסיסי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,9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כ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ליום ,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,42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₪  לחוד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גם אם השתכר החייל פחות משכר מינימום לפני השירות יקבל מינימום ל-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ום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,42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תגמו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שירות של פחות מ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שעות ביום ( חצי תגמו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571680" y="6232680"/>
            <a:ext cx="276048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00cc"/>
                </a:solidFill>
                <a:uFillTx/>
                <a:latin typeface="Arial"/>
              </a:rPr>
              <a:t>פריסת שכ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כל תשלום העולה על </a:t>
            </a: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25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החודש השוט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הבראה, מענקים,ביטוחי רכב, שי לח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יש לפרוס את התשלום ל- </a:t>
            </a: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פרוסות שוות לאחו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יש לדווח בטופס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0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בקו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ואו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הפרש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במידה ועובד החל לעבוד רק במהלך השנה הפריסה תהיה לפי מספר החודשים שעבד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פוע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500040" y="357120"/>
            <a:ext cx="2770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המשך פריסה שכר – ביטוח לאומ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cc"/>
                </a:solidFill>
                <a:uFillTx/>
                <a:latin typeface="Arial"/>
              </a:rPr>
              <a:t>להלן דוגמ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עובד משתכר כול השנה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ש" לחוד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בחודש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2/08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קבל בונוס של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אלף 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לכאורה רק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36,76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בחודש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2/08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חייבים בדמי ביטו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לפי הוראת הפריסה- עולה על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ולכו יש לפרו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אלף /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6,666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₪ &lt;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36,76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תקר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כול הסכום חייב בדמי ביטו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חשב השכר חייב לתת ביטוי לפריסה בטופס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0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בקוד דיווח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בכול ביקורת – דבר ראשון בודקים פריסה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28760" y="6215040"/>
            <a:ext cx="26431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141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cc"/>
                </a:solidFill>
                <a:uFillTx/>
                <a:latin typeface="Arial"/>
              </a:rPr>
              <a:t>חוק אימהות- סעיפי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דמי לידה- חופשת ליד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מענק לידה- לכול תושבת ישרא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קצבת לידה – לידה של שלישיה ומעל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מענק אשפוז- תשלום לבית החול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לידה רב עוברית- אשפוז  במהלך חופשת ליד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שמירת הריון –שינויים – אי ניצול מחלה- הפרש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חופשת לידה לגבר- תנאים והורא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00"/>
                </a:solidFill>
                <a:uFillTx/>
                <a:latin typeface="Arial"/>
              </a:rPr>
              <a:t>טיפולי פוריות- נשים במקלט מוג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85840" y="6143760"/>
            <a:ext cx="30272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00cc"/>
                </a:solidFill>
                <a:uFillTx/>
                <a:latin typeface="Arial"/>
              </a:rPr>
              <a:t>דמי לידה- חופשת ליד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תקופת חופשת לידה- </a:t>
            </a:r>
            <a:r>
              <a:rPr b="1" lang="he-IL" sz="2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שבועות – </a:t>
            </a:r>
            <a:r>
              <a:rPr b="1" lang="he-IL" sz="2800" spc="-1" strike="noStrike">
                <a:solidFill>
                  <a:srgbClr val="ff0000"/>
                </a:solidFill>
                <a:latin typeface="Arial"/>
              </a:rPr>
              <a:t>98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ימ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חופשה ללא תשלום -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שבוע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תקופת אכשרה-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מתוך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או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מתוך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תקופה אכשרה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– מינימום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מתוך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                          מחופשת ליד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תקופת שהייה לאחר הלידה –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שבוע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בסיס חישוב – (שכר ב-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חודשים/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) *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ניכויים- מס הכנסה,ביטוח לאומי,מס בריאו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לרוב ניכוי מס הכנסה נמוך ולא נכון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85840" y="6286680"/>
            <a:ext cx="25635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00cc"/>
                </a:solidFill>
                <a:uFillTx/>
                <a:latin typeface="Arial"/>
              </a:rPr>
              <a:t>שמירת הריו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תקופת אכשרה-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חודשים שכירה ואו עצמאי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לפני הפסקת העבודה כתוצאה משמירת הריו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תנאי נוסף- </a:t>
            </a:r>
            <a:r>
              <a:rPr b="1" lang="he-IL" sz="4000" spc="-1" strike="noStrike" u="sng">
                <a:solidFill>
                  <a:srgbClr val="ff0000"/>
                </a:solidFill>
                <a:uFillTx/>
                <a:latin typeface="Arial"/>
              </a:rPr>
              <a:t>3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ימי מחלה רצופים- רופא נש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באותו הריון – שמירה נוספת – תקופת המתנה </a:t>
            </a:r>
            <a:r>
              <a:rPr b="1" lang="he-IL" sz="40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ימים בלב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 u="sng">
                <a:solidFill>
                  <a:srgbClr val="ff0000"/>
                </a:solidFill>
                <a:uFillTx/>
                <a:latin typeface="Arial"/>
              </a:rPr>
              <a:t>אין חובה לנצל ימי מחלה אצל המעסיק –שינוי משמעות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שיעור הקצבה – שכר ממוצע במשק (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7,928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) א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השכר בפועל ברוטו  -  הנמוך מבין השניים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28760" y="285840"/>
            <a:ext cx="2928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62800" cy="1228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קצבת לידה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425080" cy="587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.כל לידה של שלישיה ומעל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.מבחן התושבות בלבד- לא חייבת לעבו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.תנאי- שהיו בחיים לפחות שלושה ילדים מתום 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 יום מהליד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.קצבה למשך 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 חודשים – בהדרגה מהשכ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   הממוצע במש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. קצבה פטורה ממ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0"/>
            <a:ext cx="27860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cc"/>
                </a:solidFill>
                <a:uFillTx/>
                <a:latin typeface="Arial"/>
              </a:rPr>
              <a:t>מענק ליד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 ילד ראשון במשפחה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השכר הממוצ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ילד שני במשפחה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9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השכר הממוצע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ילד שלישי ומעלה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השכר הממוצ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לידת תאומים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השכר הממוצ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כל ילד נוסף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נוספי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מענק פטור ממ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מקבלת אותו כל תושבת מדינת ישראל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14200" y="6072120"/>
            <a:ext cx="26434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חופשת לידה לגב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רק ובמידה והיולדת מסכימה- ויש לה תקופת אכשר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רק ולבעל יש תקופת אכשר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חופשת לידה לפחות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 רצופי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דמי לידה מחושבים לפי שכר הבעל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שנת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ניצלו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0.5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גברים מסך התביע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286680"/>
            <a:ext cx="28494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נושא ההרצא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000099"/>
                </a:solidFill>
                <a:uFillTx/>
                <a:latin typeface="Arial"/>
              </a:rPr>
              <a:t>קצבאות מחליפות שכ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 שיעורי דמי ביטוח לאומי-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תגמולי מילואים- חידוש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פריסת שכר – הוראות פריס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חוק אימהות – דמי לידה, שמירת הריון,ח.ל גב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תאונות עבודה – מחלת מקצו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דמי אבטלה-שינויים והרחבות(מגבלת חיילי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פש"ר – פשיטות רגל (כונס,מפרק,פשיטת רגל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571680" y="428760"/>
            <a:ext cx="30715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תאונות עבוד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בדרך אל העבודה ללא סטייה מהמסלול הרגי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 למעט תפילה ולקיחת הילדים למסגר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 הלימודיות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תוך כדי עבודה- במהלך יום העבוד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בדרך חזרה מהעבודה – ללא סטייה מהמסלו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 הרגיל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פעילות של ועד עובדים- נציגות עובד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.השתלמויות – מחוץ למקום העבוד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42920" y="6215040"/>
            <a:ext cx="25290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מניין הימי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002440" cy="4713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יום הפגיעה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שכ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הימים הראשונים שלאחר יום הפגיעה- מעסי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שיעור ש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השכ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מהיום ה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ועד היום ה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על חן ביטוח לאומ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מידה ותקופת דמי פגיעה ע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יום הראשון + השני על חשבון הנפג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אין חיוב ימי מחלה – בתאונת עבוד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142920" y="6215040"/>
            <a:ext cx="25797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חישוב דמי פגיע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(שכר ברוטו ב- 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החודשים שקדמו לפגיעה)*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תוצאה שווה ערך יום פגיע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א יותר מהתקרה – </a:t>
            </a:r>
            <a:r>
              <a:rPr b="0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38,4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ניכוי מיסוי ביטוח לאומי,מס בריאות,מס הכנס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85840" y="6143760"/>
            <a:ext cx="23097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תקנה </a:t>
            </a: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22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מעסיק החתום על התקנ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משלם לעובד את ימי הפגיעה עד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ו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המוסד מעביר את התמורה למעסיק ברוט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מתשלום זה מקזז המוסד את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הימי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מוסיף למעביד עמלה ש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14200" y="6215040"/>
            <a:ext cx="1995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ללא תקנה </a:t>
            </a: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22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מעסיק משלם את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הימים הראשונ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מוסד מעביר את דמי הפגיעה לחשבון העוב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תשלום כול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הימים הראשונ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תשלום על בסיס נטו בניכוי מיסו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מקביל מבקש מהמעסיק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 ראשוני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יכול להיווצר כפל תשלום ש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הימי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יש עדיפות לתביעות שלא בתקנה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215040"/>
            <a:ext cx="25718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 u="sng">
                <a:solidFill>
                  <a:srgbClr val="0000cc"/>
                </a:solidFill>
                <a:uFillTx/>
                <a:latin typeface="Arial"/>
              </a:rPr>
              <a:t>אבטל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תנאי לקבלת דמי אבטל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. מפוטר מעבוד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.תקופת אכשר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.התייצבות אצל פקיד השמ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143760"/>
            <a:ext cx="30322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cc"/>
                </a:solidFill>
                <a:uFillTx/>
                <a:latin typeface="Arial"/>
              </a:rPr>
              <a:t>תקופת אכשר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עובד במשכורת (חודש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מתוך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54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ימים שקדמו לפיטורין-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ימי שכ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עובד בשכר ( יומי ,שעתי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מתוך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54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ימים שקדמו לפיטורין –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ימי שכ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ניתן לקבל אבטלה- גם בהתפטרות –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ימי המתנ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357120" y="6072120"/>
            <a:ext cx="24289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מניין הימים -זכאו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600200"/>
          <a:ext cx="8229600" cy="4992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בתוספת תלוי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מספר ימים בשנ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ללא תלויי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מספר ימים בשנה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גיל המובט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עד גיל 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5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מגיל 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5-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מעל 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8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עד 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מעל גיל 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5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עד 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מעל גיל 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5</a:t>
                      </a:r>
                      <a:r>
                        <a:rPr b="1" lang="he-I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מציין מיקום של תאריך 3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מציין מיקום של כותרת תחתונה 3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חישוב יום אבטל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מקסימום שכר ממוצע /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7928/2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317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רק ל-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הימים הראשונ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כל יום מעבר מקסימום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מהשכר היומי הממוצ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כל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שנים –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80%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מהזכא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החישוב לפי מדרגות ביחס לשכר היומי הממוצ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טבלה עד גיל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– פיצוי נמוך יות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טבלה מעל גיל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 - פיצוי גבוהה יות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חיילים משוחררים – רק 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 יום תקופת שיר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143760"/>
            <a:ext cx="292896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עצמאיים-ואוכלוסיות נוספו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לא מבוטחים באבטל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קיימת תוכנית שבשנת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קבלו דמי אבט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עלי שליטה – לא מבוטחים באבט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תושב זר – לא מבוטח באבט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חבר קיבוץ – לא מבוטח באבטל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מבוטח – רק בגי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ומעלה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28760" y="6215040"/>
            <a:ext cx="27255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המשך נושא ההרצא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קצבאות ארוכות מועד-לא מחליפות שכ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. קצבת זקנה- שינוי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. קצבת שארים - שינוי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.קצבת נכות –כללי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.רכיבים פטורים מדמי ביטוח לאומ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642960" y="571680"/>
            <a:ext cx="281952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cc"/>
                </a:solidFill>
                <a:uFillTx/>
                <a:latin typeface="Arial"/>
              </a:rPr>
              <a:t>פש"ר – פשיטת רג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קצבה מחליפת שכ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רק כאשר יש פשיטת רגל,פירוק, כונס נכס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תביעה רק דרך המפר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שיעור הקצב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. שכר ופיצויים עד </a:t>
            </a: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13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פעמים השכר הממוצ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. תשלום חוב לקופת גמל, פנסיה, השתלמו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עד </a:t>
            </a: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2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פעמים השכר הממוצע במש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.פיצוי שכר מקסימום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חודשים אחור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14200" y="6275520"/>
            <a:ext cx="2711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cc"/>
                </a:solidFill>
                <a:uFillTx/>
                <a:latin typeface="Arial"/>
              </a:rPr>
              <a:t>קצבת זקנ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 גיל קובע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גבר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איש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גיל מוחלט ללא מבחן הכנסות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גבר ואיש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3</a:t>
            </a: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.תקופת אכשר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  א.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חודשי ביטוח ב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השנים שקדמו לגי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  ב. 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44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חודשי ביטוח במהלך חיו של המבוט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143760"/>
            <a:ext cx="30718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0000cc"/>
                </a:solidFill>
                <a:uFillTx/>
                <a:latin typeface="Arial"/>
              </a:rPr>
              <a:t>שיעור הקצב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קצבה בסיס  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7.7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השכר הממוצע במש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בן/בת הזוג- 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8.9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 (תלוי בגיל, והכנסה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ילד ע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.6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(מקסימום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לדים , נכ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תוספת ותק - 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8.85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קסימום ל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שנות עבוד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תוספת דחייה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לכול שנת דחייה מכול התוספות הקודמ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גבר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שנים =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 אישה 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שנים=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85840" y="6303960"/>
            <a:ext cx="24573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מבחן הכנסות-קצבת זקנ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מי שיש לו הכנסה מעבוד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הכנסה נמוכה מ-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4,519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₪ יחיד או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5,824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לזוג זכאי לקצבה מלא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יחיד מ-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4,519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עד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6,188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₪ -קצבה חלקי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זוג  מ-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5,824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₪  עד -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8,558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₪ -קצבה חלקי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יחיד מעל -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6,188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₪ זוג מעל -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8,588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₪ -לא זכאי לקצבה – מסלול דחיי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מעל גיל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70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אין מבחן הכנס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642960" y="6215040"/>
            <a:ext cx="2739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הכנסה לא מעבודה-קצבת זקנ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הכנסות אחרות שלא ממשכורת ואו עס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שכירות , ריבית על השקעו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עד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13,104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₪ (יחיד) או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17,472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₪ (זוג)- מל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הכנסה גבוהה מסכומים אלה – קצבה חלקי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ואו שלילת קצב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כאשר יש הכנסות מעורבות ,שכר+ אחר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יש בדיקה של אותן ההכנסות לפי תקר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500040" y="6143760"/>
            <a:ext cx="26766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רכיבי שכר הפטורים מביטוח לאומ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פיצוי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הסתגל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מענק מחל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פדיון חופשה- בעזיבה בלב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cc"/>
                </a:solidFill>
                <a:uFillTx/>
                <a:latin typeface="Arial"/>
              </a:rPr>
              <a:t>בדרך כלל כל תשלום המשולם בסיום יחסי עובד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ומעביד פטור ממס בריאות ,ביטוח לאומ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143760"/>
            <a:ext cx="3286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7260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 u="sng">
              <a:solidFill>
                <a:srgbClr val="0000cc"/>
              </a:solidFill>
              <a:uFillTx/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2960" y="164304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0000"/>
                </a:solidFill>
                <a:latin typeface="Arial"/>
              </a:rPr>
              <a:t>אזרד יורם -  יועץ מס ופריש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מומחה לנושא מיסוי יחיד ושכ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הרב קוק 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he-IL" sz="3200" spc="-1" strike="noStrike" u="sng">
                <a:solidFill>
                  <a:srgbClr val="000000"/>
                </a:solidFill>
                <a:uFillTx/>
                <a:latin typeface="Arial"/>
              </a:rPr>
              <a:t> ירושלי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טלפון –  משר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0253574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נייד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052-3808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571680" y="0"/>
            <a:ext cx="7858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שיעור דמי ביטוח לאומי -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2011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 עלות מופחתת- 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60%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 מהשכר הממוצע במשק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3708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</a:rPr>
                        <a:t>סך הכו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</a:rPr>
                        <a:t>עוב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</a:rPr>
                        <a:t>מעסי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מחלק השכר    שעד -</a:t>
                      </a: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0%</a:t>
                      </a: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מהשכר הממוצע במשק</a:t>
                      </a: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דמי ביטוח לאומ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דמי ביטוח בריאו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סך הכו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מציין מיקום של תאריך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מציין מיקום של כותרת תחתונה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214200" y="5715000"/>
            <a:ext cx="2889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שיעור דמי ביטוח לאומי -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2011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 עלות רגילה- עד 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79,280</a:t>
            </a:r>
            <a:r>
              <a:rPr b="1" lang="he-IL" sz="4000" spc="-1" strike="noStrike" u="sng">
                <a:solidFill>
                  <a:srgbClr val="0000cc"/>
                </a:solidFill>
                <a:uFillTx/>
                <a:latin typeface="Arial"/>
              </a:rPr>
              <a:t> 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3983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</a:rPr>
                        <a:t>סך הכו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</a:rPr>
                        <a:t>עוב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</a:rPr>
                        <a:t>מעסי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מחלק השכר    מעל -</a:t>
                      </a: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0%</a:t>
                      </a: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מהשכר הממוצע במשק</a:t>
                      </a:r>
                      <a:r>
                        <a:rPr b="0" lang="he-I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עד </a:t>
                      </a: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6,830</a:t>
                      </a:r>
                      <a:r>
                        <a:rPr b="1" lang="he-IL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₪</a:t>
                      </a:r>
                      <a:r>
                        <a:rPr b="0" lang="he-I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דמי ביטוח לאומי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דמי ביטוח בריאות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סך הכול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מציין מיקום של תאריך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מציין מיקום של כותרת תחתונה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2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5715000"/>
            <a:ext cx="32860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שיעורי ביטוח לאומי ובריאות -</a:t>
            </a: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507520" cy="43149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924200"/>
              </a:tblGrid>
              <a:tr h="12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סה"כ כללי רגיל-עובד ומעבי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סה"כ כללי מופחת-עובד ומעבי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עלות רגיל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עד </a:t>
                      </a: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415</a:t>
                      </a: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עלות מופחתת (</a:t>
                      </a: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עד </a:t>
                      </a: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r>
                        <a:rPr b="1" lang="he-I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מהשכר הממוצע במשק</a:t>
                      </a: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פרטי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חלק העובד –ביטוח לאומ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חלק העובד ביטוח בריאו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תקרת שכר -</a:t>
                      </a: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830</a:t>
                      </a:r>
                      <a:r>
                        <a:rPr b="1" lang="he-I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e-I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חלק המעסיק ביטוח לאומ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מציין מיקום של תאריך 3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מציין מיקום של כותרת תחתונה 3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7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428760" y="5929200"/>
            <a:ext cx="200016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תגמולי מילוא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 תגמול החל מהיום הראשון – גם חד יומ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חל איסור לפגוע בשכר העובד בשמ"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תגמול גבוהה יותר למעסיק – יועבר לעוב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עובד ע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 – תביעה פרטי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חייב להמציא טופס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301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– עצמאי אין צור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המוסד מעביר תגמול ברוטו ,ללא ניכוי מיסו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.שכר לפי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220680"/>
            <a:ext cx="26431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שינויים מילואים - </a:t>
            </a:r>
            <a:r>
              <a:rPr b="1" lang="he-IL" sz="4800" spc="-1" strike="noStrike" u="sng">
                <a:solidFill>
                  <a:srgbClr val="0000cc"/>
                </a:solidFill>
                <a:uFillTx/>
                <a:latin typeface="Arial"/>
              </a:rPr>
              <a:t>20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שינוי הנוסחה לחישוב התגמול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עד היום שכר רבע שנתי/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ו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על פי שיטה זאת נפגעו כל מי ששרת פחות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, או שהשירות הסתיים בסוף שבוע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דוגמא- שירות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 פיצוי כיום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/3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שכר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לעומתו מי שעובד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 משתכר בשיעור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/30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משכרו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0" y="6215040"/>
            <a:ext cx="30780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השינוי- בחישוב הגמלה-</a:t>
            </a:r>
            <a:r>
              <a:rPr b="1" lang="he-IL" sz="4400" spc="-1" strike="noStrike" u="sng">
                <a:solidFill>
                  <a:srgbClr val="0000cc"/>
                </a:solidFill>
                <a:uFillTx/>
                <a:latin typeface="Arial"/>
              </a:rPr>
              <a:t>1/8/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שירות רצוף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 – תשלום רגיל נוסחה קיימ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שירות ש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1,2,3,4,5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- נוסחה קיימת בתוספת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למספר הימים ששר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שירות של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 – נוסחה קיימת + יום אח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שירות יותר מ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ימים- מספר ימי השירות/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החישוב לפי נוסחה+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על יתרת הימי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אם לאחר החלוקה ב-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היתרה היא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 – תוספת יו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מציין מיקום של תאריך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כללת עתודות - המרכז ללימודי מקצועות השכר בישרא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עתודות - רחוב הרב קוק 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ירושלים -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026233008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C:\Documents and Settings\Administrator\שולחן העבודה\atudot_final.gif"/>
          <p:cNvPicPr/>
          <p:nvPr/>
        </p:nvPicPr>
        <p:blipFill>
          <a:blip r:embed="rId1"/>
          <a:stretch/>
        </p:blipFill>
        <p:spPr>
          <a:xfrm>
            <a:off x="500040" y="6215040"/>
            <a:ext cx="20192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5T07:12:16Z</dcterms:created>
  <dc:creator>xp</dc:creator>
  <dc:description/>
  <dc:language>en-US</dc:language>
  <cp:lastModifiedBy>xp</cp:lastModifiedBy>
  <dcterms:modified xsi:type="dcterms:W3CDTF">2011-01-05T12:41:45Z</dcterms:modified>
  <cp:revision>79</cp:revision>
  <dc:subject/>
  <dc:title>ביטוח לאומי -קצבאות </dc:title>
</cp:coreProperties>
</file>