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D12-67CD-4845-A028-2479AB45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AA3-91F4-4364-ABAC-C1C98EE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DF1-961F-4E20-808E-64033146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090-DFC4-4F0B-9A29-3789863C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859-C022-46FC-BBE7-5D899DB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119-8117-44A0-B6DE-C487083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10D-DE18-4E33-8EE8-CAE2E7C8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494-5493-4FA3-881B-4C35D3D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133-B412-4BF6-B6DC-EA953FFD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436-3CB4-43DA-8C78-177DA5C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C5F-C636-4F4A-AADE-B98EDEC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088-2422-416A-AEE9-47FF33C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1E51-C367-4EED-8FB0-A3D1E509D2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1944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000000"/>
                </a:solidFill>
                <a:uFillTx/>
                <a:latin typeface="Arial"/>
              </a:rPr>
              <a:t>ביטוח לאומי קצבאות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he-IL" sz="5400" spc="-1" strike="noStrike" u="sng">
                <a:solidFill>
                  <a:srgbClr val="000000"/>
                </a:solidFill>
                <a:uFillTx/>
                <a:latin typeface="Arial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אזרד יורם –יועץ מס ופר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רב קוק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ירושל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0523808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טבלת ימים –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011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 מילואי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517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ספר ימי תגמול - תשלו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ספר ימי שירו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מציין מיקום של תאריך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מציין מיקום של כותרת תחתונה 3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תגמול מילואים מזערי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ח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/1/201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סכום הבסיסי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92.3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ליום ( שכר בסיס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8,48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,77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₪  לחוד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גם ובמידה ולא עובד כלל ( סטודנט,תלמיד מובטל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גם אם השתכר החייל פחות משכר מינימום לפני השירות יקבל מינימום ל-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,77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תגמו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פחות מ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עות ביום ( חצי תגמו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6232680"/>
            <a:ext cx="276048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פריסת שכ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כל תשלום העולה על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2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חודש השוט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בראה, מענקים,ביטוחי רכב, שי לח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ש לפרוס את התשלום ל-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פרוסות שוות לאחו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ש לדווח בטופס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בקו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או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פרש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במידה ועובד החל לעבוד רק במהלך השנה הפריסה תהיה לפי מספר החודשים שעב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פוע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00040" y="357120"/>
            <a:ext cx="277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המשך פריסה שכר – ביטוח לאומ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cc"/>
                </a:solidFill>
                <a:uFillTx/>
                <a:latin typeface="Arial"/>
              </a:rPr>
              <a:t>להלן דוגמ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עובד משתכר כול השנה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" לחוד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חודש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/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קבל בונוס ש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לף 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כאורה רק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2,43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בחודש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/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ייבים בדמי ביטו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פי הוראת הפריסה- עולה ע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ולכו יש לפרו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לף /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6,66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₪ &lt;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1,85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תקר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ול הסכום חייב בדמי ביטו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שב השכר חייב לתת ביטוי לפריסה בטופס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בקוד דיווח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כול ביקורת – דבר ראשון בודקים פריס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6215040"/>
            <a:ext cx="2643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4176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חוק אימהות- סעיפי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דמי לידה- חופשת לי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מענק לידה- לכול תושבת ישרא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קצבת לידה – לידה של שלישיה ומעל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מענק אשפוז- תשלום לבית החול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לידה רב עוברית- אשפוז  במהלך חופשת לי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שמירת הריון –שינויים – אי ניצול מחלה- הפרש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חופשת לידה לגבר- תנאים והורא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טיפולי פוריות- נשים במקלט מוג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143760"/>
            <a:ext cx="3027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דמי לידה- חופשת ליד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חופשת לידה- </a:t>
            </a: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 – </a:t>
            </a: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ופשה ללא תשלום -</a:t>
            </a: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אכשרה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ה אכשרה נוספת  – מינימום -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-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חופשת לידה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שהייה לאחר הלידה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סיס חישוב – (שכר ב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ודשים/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ניכויים- מס הכנסה,ביטוח לאומי,מס בריא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רוב ניכוי מס הכנסה נמוך ולא נכון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286680"/>
            <a:ext cx="25635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שמירת הריו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תקופת אכשרה- 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חודשים שכירה ואו עצמאית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לפני הפסקת העבודה כתוצאה משמירת הריו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תנאי נוסף- </a:t>
            </a:r>
            <a:r>
              <a:rPr b="1" lang="he-IL" sz="2700" spc="-1" strike="noStrike" u="sng">
                <a:solidFill>
                  <a:srgbClr val="ff0000"/>
                </a:solidFill>
                <a:uFillTx/>
                <a:latin typeface="Arial"/>
              </a:rPr>
              <a:t>30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ימי מחלה רצופים- רופא נשי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באותו הריון – שמירה נוספת – תקופת המתנה </a:t>
            </a:r>
            <a:r>
              <a:rPr b="1" lang="he-IL" sz="27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ימים בלב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700" spc="-1" strike="noStrike" u="sng">
                <a:solidFill>
                  <a:srgbClr val="ff0000"/>
                </a:solidFill>
                <a:uFillTx/>
                <a:latin typeface="Arial"/>
              </a:rPr>
              <a:t>אין חובה לנצל ימי מחלה אצל המעסיק –שינוי משמעות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שיעור הקצבה – שכר בסיס 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8,595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) /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286.47</a:t>
            </a: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 ליו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000000"/>
                </a:solidFill>
                <a:latin typeface="Arial"/>
              </a:rPr>
              <a:t>השכר בפועל ברוטו  -  הנמוך מבין השניים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285840"/>
            <a:ext cx="292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12286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קצבת לידה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425080" cy="5877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כל לידה של שלישיה ומעל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מבחן התושבות בלבד- לא חייבת לעבו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תנאי- שהיו בחיים לפחות שלושה ילדים מתום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יום מהליד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קצבה למשך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חודשים – בהדרגה מהשכ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  הממוצע במש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 קצבה פטורה ממ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78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מענק ליד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ילד ראשון במשפח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לד שני במשפח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לד שלישי ומעל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לידת תאומים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כל ילד נוסף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וספ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ענק פטור ממ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קבלת אותו כל תושבת מדינת ישראל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072120"/>
            <a:ext cx="2643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חופשת לידה לג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רק ובמידה והיולדת מסכימה- ויש לה 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רק ולבעל יש 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חופשת לידה לפח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רצופ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דמי לידה מחושבים לפי שכר הבעל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שנ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יצלו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ים מסך התביע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86680"/>
            <a:ext cx="2849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נושא ההרצא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99"/>
                </a:solidFill>
                <a:uFillTx/>
                <a:latin typeface="Arial"/>
              </a:rPr>
              <a:t>קצבאות מחליפות שכ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שיעורי דמי ביטוח לאומי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- שינוי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גמולי מילואים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ריסת שכר – הוראות פריס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חוק אימהות – דמי לידה, שמירת הריון,ח.ל גב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אונות עבודה – מחלת מקצו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דמי אבטלה-שינויים והרחבות(מגבלת חיילי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ש"ר – פשיטות רגל (כונס,מפרק,פשיטת רג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רכיבי שכר פטורים מדמי ביטוח לאומ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428760"/>
            <a:ext cx="30715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אונות עבוד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בדרך אל העבודה ללא סטייה מהמסלול הרגי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למעט תפילה ולקיחת הילדים למסג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הלימודיות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וך כדי עבודה- במהלך יום העבו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בדרך חזרה מהעבודה – ללא סטייה מהמסלו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הרגי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עילות של ועד עובדים- נציגות עובד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השתלמויות – מחוץ למקום העבוד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42920" y="6215040"/>
            <a:ext cx="2529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מניין הימי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00244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ום הפגיע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כ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 שלאחר יום הפגיעה- מעסי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שיעור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היום ה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עד היום ה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על חן 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מידה ותקופת דמי פגיעה ע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יום הראשון + השני על חשבון הנפג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אין חיוב ימי מחלה – בתאונת עבו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42920" y="6215040"/>
            <a:ext cx="2579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חישוב דמי פגיע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(שכר ברוטו ב-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החודשים שקדמו לפגיעה)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וצאה שווה ערך יום פגיע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 יותר מהתקרה –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42,345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*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75%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=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,057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ניכוי מיסוי ביטוח לאומי,מס בריאות,מס הכנס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143760"/>
            <a:ext cx="23097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קנה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מעסיק החתום על התקנ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שלם לעובד את ימי הפגיעה עד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מוסד מעביר את התמורה למעסיק ברוט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תשלום זה מקזז המוסד א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וסיף למעביד עמלה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215040"/>
            <a:ext cx="1995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ללא תקנה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מעסיק משלם א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מוסד מעביר את דמי הפגיעה לחשבון העו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תשלום כול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תשלום על בסיס נטו בניכוי מיסו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מקביל מבקש מהמעסיק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ראשונ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כול להיווצר כפל תשלום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ש עדיפות לתביעות שלא בתקנה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15040"/>
            <a:ext cx="25718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אבט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תנאי לקבלת דמי אבטל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 מפוטר מעבו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תקופת אכשר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התייצבות אצל פקיד השמ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03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תקופת אכשרה-</a:t>
            </a: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עובד במשכורת (חודש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ודשים  שקדמו להתייצבות בשירות    התעסוקה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חודשי שכ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גם יום עבודה בחודש – שווה חודש עבודה בחישוב תקופת האכשר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ניתן לקבל אבטלה- גם בהתפטרות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 המת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57120" y="6072120"/>
            <a:ext cx="24289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מניין הימים -זכאו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499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בתוספת תלוי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ספר ימים בשנ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ללא תלוי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ספר ימים בשנה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גיל המובט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עד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5-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8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עד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עד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מציין מיקום של תאריך 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מציין מיקום של כותרת תחתונה 3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חישוב יום אבטלה-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מקסימום שכר ממוצע /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8475/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39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רק ל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ל יום מעבר מקסימום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השכר היומי הממוצ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נים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80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הזכא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חישוב לפי מדרגות ביחס לשכר היומי הממוצ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טבלה עד גי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– פיצוי נמוך יות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טבלה מעל גי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- פיצוי גבוהה יות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יילים משוחררים – רק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ום תקופת שי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292896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עצמאיים-ואוכלוסיות נוספו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א מבוטחים באבטל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קיימת תוכנית שבשנ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קבלו דמי 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עלי שליטה – לא מבוטחים ב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תושב זר – לא מבוטח ב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חבר קיבוץ – לא מבוטח באבטל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בוטח – רק בגי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מעלה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6215040"/>
            <a:ext cx="27255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משך נושא ההרצא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קצבאות ארוכות מועד-לא מחליפות 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 קצבת זקנה- שינ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 קצבת שארים - שינ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קצבת נכות –כללי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רכיבים פטורים מדמי 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642960" y="571680"/>
            <a:ext cx="2819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פש"ר – פשיטת רג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000000"/>
                </a:solidFill>
                <a:uFillTx/>
                <a:latin typeface="Arial"/>
              </a:rPr>
              <a:t>קצבה מחליפת שכר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רק כאשר יש פשיטת רגל,פירוק, כונס נכסי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התביעה רק דרך המפר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0000cc"/>
                </a:solidFill>
                <a:uFillTx/>
                <a:latin typeface="Arial"/>
              </a:rPr>
              <a:t>שיעור הקצב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. שכר ופיצויים עד </a:t>
            </a:r>
            <a:r>
              <a:rPr b="1" lang="he-IL" sz="3000" spc="-1" strike="noStrike" u="sng">
                <a:solidFill>
                  <a:srgbClr val="0000cc"/>
                </a:solidFill>
                <a:uFillTx/>
                <a:latin typeface="Arial"/>
              </a:rPr>
              <a:t>13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פעמים השכר הממוצע בסיס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110,331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₪  (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8,487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)- החל מיום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1/8/09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. תשלום חוב לקופת גמל, פנסיה, השתלמו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    עד </a:t>
            </a:r>
            <a:r>
              <a:rPr b="1" lang="he-IL" sz="30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פעמים השכר הממוצע במשק -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16,974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₪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.פיצוי שכר מקסימום 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חודשים אחור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275520"/>
            <a:ext cx="2711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קצבת זקנ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גיל קובע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א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גיל מוחלט ללא מבחן הכנסות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 וא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3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.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 א.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חודשי ביטוח ב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שנים שקדמו לגי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 ב. 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חודשי ביטוח במהלך חיו של המבוט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071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שיעור הקצ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קצבה בסיס  -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17.8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מהשכר הממוצע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8,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בן/בת הזוג- 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8.9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 (תלוי בגיל, והכנס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ילד עד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24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–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5.6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(מקסימום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ילדים , נכ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תוספת ותק - 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8.85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מקסימום ל-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25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שנות וות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תוספת דחייה-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5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לכול שנת דחייה מכול התוספות הקודמות בסיס +וות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vi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David"/>
                <a:cs typeface="David"/>
              </a:rPr>
              <a:t>גבר –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שנים =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15%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 אישה –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 שנים= </a:t>
            </a:r>
            <a:r>
              <a:rPr b="1" lang="he-IL" sz="3200" spc="-1" strike="noStrike">
                <a:solidFill>
                  <a:srgbClr val="000000"/>
                </a:solidFill>
                <a:latin typeface="David"/>
                <a:ea typeface="David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303960"/>
            <a:ext cx="2457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רכיבי שכר הפטורים מביטוח לאומ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פיצ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סתגל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ענק מח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פדיון חופשה- בעזיבה בל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בדרך כלל כל תשלום המשולם בסיום יחסי עוב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ומעביד פטור ממס בריאות ,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286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72600" cy="11912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 u="sng">
              <a:solidFill>
                <a:srgbClr val="0000cc"/>
              </a:solidFill>
              <a:uFillTx/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אזרד יורם -  יועץ מס ופר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מומחה לנושא מיסוי יחיד ו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רב קוק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ירושל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טלפון –  משר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253574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יי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52-3808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0"/>
            <a:ext cx="7858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שיעור דמי ביטוח לאומי 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2013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עלות מופחתת- 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60%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מהשכר הממוצע במש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סך הכו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עוב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מעסי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חלק השכר    שעד -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מהשכר -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,274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לאומ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בריאו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סך הכ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מציין מיקום של תאריך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מציין מיקום של כותרת תחתונה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5715000"/>
            <a:ext cx="2889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שיעור דמי ביטוח לאומי 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2013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עלות רגילה- עד 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42,435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סך הכו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עוב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מעסי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חלק השכר    מעל -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מהשכר הממוצע במשק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עד 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2,435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₪</a:t>
                      </a:r>
                      <a:r>
                        <a:rPr b="0" lang="he-I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לאומי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בריאות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סך הכל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מציין מיקום של תאריך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מציין מיקום של כותרת תחתונה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715000"/>
            <a:ext cx="32860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שיעורי ביטוח לאומי ובריאות -</a:t>
            </a: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507520" cy="4314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924200"/>
              </a:tblGrid>
              <a:tr h="12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ה"כ כללי רגיל-עובד ומעבי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ה"כ כללי מופחת-עובד ומעבי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לות רגיל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עד 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435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לות מופחתת (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ד 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מהשכר הממוצע במשק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פרטי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עובד –ביטוח לאומ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עובד ביטוח בריאו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תקרת שכר -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435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מעסיק ביטוח לאומ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מציין מיקום של תאריך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מציין מיקום של כותרת תחתונה 3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7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5929200"/>
            <a:ext cx="20001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גמולי מיל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תגמול החל מהיום הראשון – גם חד י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חל איסור לפגוע בשכר העובד בשמ"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תגמול גבוהה יותר למעסיק – יועבר לעו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עובד ע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תביעה פרטי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חייב להמציא טופס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עצמאי אין צור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מוסד מעביר תגמול ברוטו ,ללא ניכוי מיסו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שכר לפי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220680"/>
            <a:ext cx="26431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כיצד לחשב את ימי המילואי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נוי הנוסחה לחישוב התגמול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ד היום שכר רבע שנתי/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ל פי שיטה זאת נפגעו כל מי ששרת פח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, או שהשירות הסתיים בסוף שבוע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דוגמא- שיר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פיצוי כיום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/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שכר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עומתו מי שעוב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משתכר בשיעור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/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שכר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15040"/>
            <a:ext cx="3078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השינוי- בחישוב הגמלה-</a:t>
            </a: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1/8/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רצוף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תשלום רגיל נוסחה קיימ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,2,3,4,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- נוסחה קיימת בתוספ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למספר הימים ששר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נוסחה קיימת + יום אח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יותר מ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- מספר ימי השירות/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חישוב לפי נוסחה+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על יתרת הי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אם לאחר החלוקה ב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תרה היא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תוספת יו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00040" y="6215040"/>
            <a:ext cx="2019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07:12:16Z</dcterms:created>
  <dc:creator>xp</dc:creator>
  <dc:description/>
  <dc:language>en-US</dc:language>
  <cp:lastModifiedBy>Atidot</cp:lastModifiedBy>
  <dcterms:modified xsi:type="dcterms:W3CDTF">2013-01-22T09:15:15Z</dcterms:modified>
  <cp:revision>108</cp:revision>
  <dc:subject/>
  <dc:title>ביטוח לאומי -קצבאות</dc:title>
</cp:coreProperties>
</file>