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FDC-0040-44C5-95D4-EBF1878514C2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F764-BD00-44D9-B2D6-4AAD34646007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23F-DF10-4AFD-BF43-AF18A4A3B755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B5AD-54F5-4D97-9F1F-74050F710FC9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581-3833-47AB-82C0-928777F07792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BEC-5203-472D-ADC4-DCE6B5E8CA3B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256-4BB0-481D-91B0-6F469B20B645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3D7-FB7F-4ECB-99AB-C01BAC9F20B6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540-6D7C-4BCC-813E-B78AC7C9976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B44-77C6-4E02-B138-E62330A70DE3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D8A-CE81-4C34-8AB2-ED16FE294B42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6B02-5EA8-40E7-B7D7-6F4DBD716304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1E0-6E39-4CD9-B350-A1A71932DC20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908-E315-48C4-A301-BC1AEB5C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4EF-2905-4C08-A334-95B1A27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9E-BE97-4086-A04F-D25966F7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B37-F60F-498D-98DA-2DAA4409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8E8-6C06-4F40-AB74-20C7F7A7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3B6-1C15-4D82-B13E-3FF38C3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826-671F-4E9C-BE07-C177FCF0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026-BD22-408B-B845-CADF3838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22A-50D7-4801-B228-B367A9F1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31E-4D1E-4D37-8106-C1FAF8FD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564-F2E3-41AD-86AD-8BFBE58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904-1EFC-4E01-9316-B4E5B240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30BE-1CF0-4E94-BAE3-3A0904148D4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B7F-FA46-4B8E-A58D-BA24B74AE8F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653F0B-8ACD-4EEE-AE8F-C6F9C47EDCBB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כותרת תחתונה 4"/>
          <p:cNvSpPr/>
          <p:nvPr/>
        </p:nvSpPr>
        <p:spPr>
          <a:xfrm>
            <a:off x="314316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BA50-A471-4A0A-887E-0EA286267B3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4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יורם  אזרד- יועץ מס ופרישה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52-3808345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2-6233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64296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חוק להגברת האכיפה של דיני עבודה התשע"ב </a:t>
            </a: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עתודות – המרכז ללימודי מקצועות השכר בישרא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662200" y="2700360"/>
            <a:ext cx="3338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מיהו בודק השכר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997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ודק השכר נדרש להיות עצמאי כלפי הקבלן ומזמין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פעל בניגוד עניינ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היה עובד של הקבלן או מזמין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היה נושא מש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לא יהיה בעל זיקה לאחד הצדדי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קבל רישיון להיות בודק שכר מוסמך – תמ"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עד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18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חודשים הראשונים מיום כניסת החוק הבדיקות יערכו על ידי רואה חשבון לגבי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10%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לפחות מהעובדים לפחות אחת ל- 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9</a:t>
            </a:r>
            <a:r>
              <a:rPr b="1" lang="he-IL" sz="2800" spc="-1" strike="noStrike" u="sng">
                <a:solidFill>
                  <a:srgbClr val="ff0000"/>
                </a:solidFill>
                <a:uFillTx/>
                <a:latin typeface="Calibri"/>
              </a:rPr>
              <a:t> חודשי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500" spc="-1" strike="noStrike" u="sng">
                <a:solidFill>
                  <a:srgbClr val="0070c0"/>
                </a:solidFill>
                <a:uFillTx/>
                <a:latin typeface="Calibri"/>
              </a:rPr>
              <a:t>בדיקות תקופתיות בהתאם להוראות סעיף </a:t>
            </a:r>
            <a:r>
              <a:rPr b="1" lang="he-IL" sz="3500" spc="-1" strike="noStrike" u="sng">
                <a:solidFill>
                  <a:srgbClr val="0070c0"/>
                </a:solidFill>
                <a:uFillTx/>
                <a:latin typeface="Calibri"/>
              </a:rPr>
              <a:t>5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תכנית עבודה הכיצד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ביצוע הבדיקות התקופתיות חשוב מאוד שהתאגיד ישתף פעולה להצלחת התהליך כגון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זמינ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קיפ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עברת מסמכ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שיתוף פעולה בין המזמין לקבל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בהרות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8084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4F0-4E71-4B74-916A-2E6424FBB01B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0372C5-7609-4C9A-B7D2-25A2470AE10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4D4-F448-4AFB-BB2F-3F003CDC178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אלו מסמכים יש להעביר לבודק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שימת כלל עובדי הקבלן במהלך תקופת הבדיק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רישיון עיסוק קבלן עובד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ודעה לעובד על תנאי ה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קס שכר ,תלושי שכ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פנקס שעות עבודה ,חופש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שורי הפקדה לבנק – מס"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טפסי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למס הכנסה ,ביטוח לאומ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שור רואה החשבון מטעם הקבל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אישורי הפקדה לפנסיה חוב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8084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AE9-F0B2-49E8-A9B6-C6D1A224261A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10A016-39F2-4617-8D29-2EEC5A4F3250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303-887E-4B39-AB8E-542F6BE6146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אילו בדיקות יערוך הבודק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דיקות מדגמיות ל-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מעובדי הקבלן בתחומים שנקבע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ימי החופשה ניצול ,זיכו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תשלום הברא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יקף שעות העבודה ,שעות נוספ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תשלום הוצאות נסיע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הפרשות לפנסיה ,גמ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עסקה ביום המנוחה השבוע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תנאי העסק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בחינת העסקת נוער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מהלכים של הבוד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דיקת מסמכ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תשאול עובדי הקבל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וואת השכר ורכיבי השכר מול חוזה העב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שוואת שעות העבודה – מול כרטיס נוכח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דיקת עדכון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וראות החוק באופן רלוונטי לגבי כל הפר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תוצר סופי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דוח מסכ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כולל פירוט הממצאים שעלו בבדיק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יש הפרות – הוראות תיקו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לצ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דיווח למנכ"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מעק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70c0"/>
                </a:solidFill>
                <a:uFillTx/>
                <a:latin typeface="Calibri"/>
              </a:rPr>
              <a:t>סיכו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ודק שכר מוסמך – פונקציה חשובה מאו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חל מחודש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1/2014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כל מעסיק בישראל יהיה חייב להיעזר בבודק שכר מוסמך על מנת שההגנות בחוק יחולו על מזמין השיר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הלך שנת 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 יהיו קורסים להסמכתם של בודקי שכ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035E-90E5-4ABD-8E64-A7C446A303F3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3EC10F-F470-4AC5-BECC-2B3BA4131468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DE77-AEE7-45CF-BA1D-0875F2D13F5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 u="sng">
                <a:solidFill>
                  <a:srgbClr val="376092"/>
                </a:solidFill>
                <a:uFillTx/>
                <a:latin typeface="Calibri"/>
              </a:rPr>
              <a:t>תודה על ההקשב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רם אזרד- עתודו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המרכז ללימודי מקצועות השכר בישרא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עץ מס ופריש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2-6233008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52-380834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71040" y="794520"/>
            <a:ext cx="67150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8D14-0DAC-459A-8EB1-83D4819DB9C5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692B43-7E76-40B6-AB73-C108A619FFE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7015-BACF-482C-88FE-E0C0D5ECA402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נושא ההרצאה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בדיקות תקופתיות בהתאם להוראות סעיף 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54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 לחוק הגברת האכיפה של דיני עבוד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רקע – החוק להגברת האכיפה של דיני עבודה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כללים לביצוע בדיקו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מיהו בודק שכר מוסמך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כיצד לערוך את הבדיקות התקופתיות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הוראות מעבר על לכניסתו של החוק באופן רגיל 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1/2014</a:t>
            </a: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המלצו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סיכום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50920" y="6092280"/>
            <a:ext cx="228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334-EC4A-421C-B4FA-80939E54CBDA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CB8B0B-930E-45EA-AD0F-857E04843136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05C-2829-4EB6-A78A-7B0C5A4B3E4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00cc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3600" spc="-1" strike="noStrike" u="sng">
                <a:solidFill>
                  <a:srgbClr val="0000cc"/>
                </a:solidFill>
                <a:uFillTx/>
                <a:latin typeface="Calibri"/>
              </a:rPr>
              <a:t>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החוק אושר בחודש 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12/2011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נכנס לתוקף חצי שנה מיום פרסומו – 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19/6/12</a:t>
            </a: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מטרתו של החוק להגביר ולייעל את אכיפתם של דיני העבוד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על ידי קביעה והנהגת הליך מינהלי ( לא פלילי ) להטלת עיצום כספי על המעבידים ,ומזמיני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החוק תוחם את האחריות המנהלית ,האזרחית ,הפלילית של מזמני שירות בתחום – שמירה ,האבטחה,הניקיון , הסע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2060"/>
                </a:solidFill>
                <a:latin typeface="Calibri"/>
              </a:rPr>
              <a:t>חל איסור לבטח ,לשפות ,או לשלם עיצום כספי שהוטל על אחר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65000"/>
            <a:ext cx="28576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234-F49B-4F61-9454-86468C3863A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D4E33-C013-451D-8015-522301836203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4E96-5FD5-4EB9-AAB1-04816117658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Calibri"/>
              </a:rPr>
              <a:t>חוק להגברת האכיפה של דיני עבודה-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Calibri"/>
              </a:rPr>
              <a:t>2011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267920"/>
            <a:ext cx="82468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 u="sng">
                <a:solidFill>
                  <a:srgbClr val="ff0000"/>
                </a:solidFill>
                <a:uFillTx/>
                <a:latin typeface="Calibri"/>
              </a:rPr>
              <a:t>על מי חל החוק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מעסיק עובדים ( מכל סוג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מזמין שירות בשלב זה רק בשלושה תחומים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שמיר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אבטח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ניקיון והסעד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5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2060"/>
                </a:solidFill>
                <a:latin typeface="Calibri"/>
              </a:rPr>
              <a:t>יחיד המעסיק עובדים שלא במסגרת עסקו ,וכן על עובד ברשות ציבורי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714240" y="5500080"/>
            <a:ext cx="2286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5286-BCAE-473A-8E8C-FD0B83DDA3C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57268D-8A53-4930-8AD5-4FD627C68EF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מציין מיקום של מספר שקופית 5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5424-F7A1-46F9-9D89-1022399B173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311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70c0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3200" spc="-1" strike="noStrike" u="sng">
                <a:solidFill>
                  <a:srgbClr val="0070c0"/>
                </a:solidFill>
                <a:uFillTx/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0000"/>
                </a:solidFill>
                <a:latin typeface="Calibri"/>
              </a:rPr>
              <a:t>תמצית עקרונות החו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אמצעי אכיפה כלפי המעביד בהליך מנהלי ולא בהליך פליל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תראה מנהלית למעסיק לצורך הפסקת ההפ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יצומים כספיים 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17,5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ליחיד ,ועד 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35,000</a:t>
            </a: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 ₪ למעסיק בגין כל הפר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עיצומים כספיים על מזמין השירות אף ובמידה וההפרה בוצעה על ידי הקבלן ולא על ידי מזמין השירו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הגדלת העיצום הכספי בהפרה נמשכת או חוזרת של אותו מעסי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Calibri"/>
              </a:rPr>
              <a:t>מתן זכות לעובד לתבוע גם את מזמין השירות במשפט אזרח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14D-6241-4398-BBCB-DB6008504FF6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1BEE6B-4FD1-4494-A15A-3953B594394D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EEAF-82B9-49C2-9E98-84BC15268F2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המשך תמצית עקרונו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8929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קביעת תנאים אשר חייבים להיכלל בכל סוג של חוזה המתקיים בין קבלן לבין מזמין שיר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במידה ולא יתקיימו התנאים בהסכם יחויב מזמין השירות באחריות אזרחית כלפי העו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המעסיק לא ייהנה  מההגנות שהחוק נותן ל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נקבעו הגנות למזמין שירות הן בדין האזרחי ואין בדין הפלילי במידה והסתמך על בדיקות שביצע המעסיק על ידי </a:t>
            </a: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"בודק שכר מוסמך 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7355-7AA3-49A7-A9AD-835C8A2DDE80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DB1EF9-9830-4831-A59E-0343214BA096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712-938E-4C20-A0A3-608473CF2D6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8156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560" y="1484280"/>
            <a:ext cx="88218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אחריות פיקוחית של המנכ"ל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החוק קובע כי המנהל הכללי של התאגיד שהוא מעביד חייב לפקח ולנקוט את כל האמצעים הסבירים למניעת ההפר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בוצעה הפרה ולא ננקטו אמצעים להפסקת הפרה כפי שפורטה בהתראה – עיצום כספי של </a:t>
            </a: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50%</a:t>
            </a: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 מהסכום שניתן להחיל על יחיד – כלפי המנכ"ל עצמ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אלה הוכיח כי עשה כל שניתן כדי למלא חובת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להלן האמצעים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037E-A21E-456B-BECE-B99AF13C219C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569290-93CD-4D63-A594-975E9BB93A8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D0D3-6B23-4CB0-811F-53AD4AD8409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376092"/>
                </a:solidFill>
                <a:uFillTx/>
                <a:latin typeface="Calibri"/>
              </a:rPr>
              <a:t>אמצעים למניעת הפרה של החו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200" y="1341360"/>
            <a:ext cx="86788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בדיקות תקופתיות ע"י "בודק שכר מוסמך 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תוכנית אכיפת נהלים – מינוי קצין ציות – אדם האחראי לפיקוח על תוכנית אכיפה וקיום נהל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מערך הדרכה – ביצוע הדרכות לעובדי התאגיד בנושאים הקשורים לחוק ( דיני עבודה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נקיטת אמצעים סבירים לתיקון הפרות ולמניעת הישנות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a1c5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a1c56"/>
                </a:solidFill>
                <a:latin typeface="Calibri"/>
              </a:rPr>
              <a:t>כל אלה חייב המנכ"ל להוכיח שפעל למניעת ההפר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950080"/>
            <a:ext cx="27925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8D65-E211-4EB0-854A-9FFC268719F7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1AE439-D7D4-42E3-836B-F722C27BCAB5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BB29-9FEB-4011-AFEF-C9D8978D5E00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חוק להגברת האכיפה של דיני עבודה -</a:t>
            </a:r>
            <a:r>
              <a:rPr b="1" lang="he-IL" sz="4000" spc="-1" strike="noStrike" u="sng">
                <a:solidFill>
                  <a:srgbClr val="0070c0"/>
                </a:solidFill>
                <a:uFillTx/>
                <a:latin typeface="Calibri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821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0000"/>
                </a:solidFill>
                <a:latin typeface="Calibri"/>
              </a:rPr>
              <a:t>אחריות מזמין השירות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החוק קבע כי מזמין השירות נדרש לנקוט באמצעים סבירים כדי למנוע הפגיעה בזכויות העובדים של הקבלן המועסקים אצלו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כיצד ? קביעת דרך יעילה במקום העבודה למסירת הודעת עובדי הקבלן על פגיעה בזכויותיהם ,מנגנון בירור המידע שבהודעה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ויידוע עובדי הקבלן לגבי דרך זו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העדר נקיטה מסוג זה = אחריות אזרחית של מזמין השירות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900" spc="-1" strike="noStrike">
                <a:solidFill>
                  <a:srgbClr val="000000"/>
                </a:solidFill>
                <a:latin typeface="Calibri"/>
              </a:rPr>
              <a:t>הגנה – בודק שכר מוסמך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56:02Z</dcterms:created>
  <dc:creator>Atidot</dc:creator>
  <dc:description/>
  <dc:language>en-US</dc:language>
  <cp:lastModifiedBy>Atidot</cp:lastModifiedBy>
  <dcterms:modified xsi:type="dcterms:W3CDTF">2012-10-20T10:21:19Z</dcterms:modified>
  <cp:revision>6</cp:revision>
  <dc:subject/>
  <dc:title>יורם  אזרד- יועץ מס ופרישה 052-3808345 02-6233008</dc:title>
</cp:coreProperties>
</file>