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95D5-8E1D-4D3E-B1A9-38950143F9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8E76-4C64-4CD0-9626-DCC7E398ED63}" type="slidenum">
              <a:rPr b="0" lang="he-I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EA9-E949-4CE2-BFA1-9E104289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60E-2738-41A9-AB04-52761C7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E5C-2D60-47F2-8F2C-AB0BA8EA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2E0-F3DF-465D-B784-3268A55E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F5D-15C4-4E27-A695-04F007CC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10D6-BFA7-4AB4-83DC-FB0C1CD8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1D74-7636-4CCA-81B9-0934D704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1CC5-6BD0-42CE-AA2E-88090EF7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F447-ED2B-4E33-8BB5-1D3CB930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ED82-9C96-49E3-ADA2-A82FC6AF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85BB-69AA-423D-B3F6-39792D4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C23-C9BD-45B9-8C3D-FCAF9226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875E-2032-4686-93F2-76499C54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2D99-6E3A-43E1-9039-9850319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53C6-6A35-41AD-BCF8-67B01E5E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4CE-3212-418F-AF3A-C1A22702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8FCD-9458-46AA-963C-BB89BEAB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C49-4176-4E86-BA6F-C5D1229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F4C-44B5-469A-BC3D-593FBC7F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011-F195-4B02-AAB6-93147B9E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DE2-C594-4D24-A1A9-823BEB40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215-4076-4204-BA82-7869AB4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D3D-99C1-4D92-AE13-70DB2384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DB2-2C54-43C4-A4BA-EF96AA2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3FE5-2D5C-40F5-80F3-10621418BFE2}" type="datetime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1386305-EEFC-4B4B-BD15-BC357F3F5DD4}" type="datetime10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CB1A-AC7B-4080-9C58-8CA6D0C4805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3008-A60E-4F17-A509-CB0B1E6615B9}" type="datetime">
              <a:rPr b="0" lang="he-IL" sz="1400" spc="-1" strike="noStrike">
                <a:solidFill>
                  <a:srgbClr val="1c1c1c"/>
                </a:solidFill>
                <a:latin typeface="Times New Roman"/>
              </a:rPr>
              <a:t>31/07/26</a:t>
            </a:fld>
            <a:r>
              <a:rPr b="0" lang="he-IL" sz="1400" spc="-1" strike="noStrike">
                <a:solidFill>
                  <a:srgbClr val="1c1c1c"/>
                </a:solidFill>
                <a:latin typeface="Times New Roman"/>
              </a:rPr>
              <a:t> </a:t>
            </a:r>
            <a:fld id="{AEEB79BD-4D7B-4F19-8BF1-C62704F81C09}" type="datetime10">
              <a:rPr b="0" lang="he-IL" sz="1400" spc="-1" strike="noStrike">
                <a:solidFill>
                  <a:srgbClr val="1c1c1c"/>
                </a:solidFill>
                <a:latin typeface="Times New Roman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c1c1c"/>
                </a:solidFill>
                <a:latin typeface="Times New Roman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2028-F04B-48AE-9DA3-177C20E6FF68}" type="slidenum">
              <a:rPr b="0" lang="he-I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360" y="1213920"/>
            <a:ext cx="7691400" cy="17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ביטוח לאומי –קצבת זקנה</a:t>
            </a:r>
            <a:br>
              <a:rPr sz="5400"/>
            </a:b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2013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3428640"/>
            <a:ext cx="65278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00"/>
                </a:solidFill>
                <a:uFillTx/>
                <a:latin typeface="Tahoma"/>
              </a:rPr>
              <a:t>אזרד יורם-יועץ מס ופריש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00"/>
                </a:solidFill>
                <a:uFillTx/>
                <a:latin typeface="Tahoma"/>
              </a:rPr>
              <a:t>הרב קוק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Tahoma"/>
              </a:rPr>
              <a:t>8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Tahoma"/>
              </a:rPr>
              <a:t> ירושלי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00"/>
                </a:solidFill>
                <a:uFillTx/>
                <a:latin typeface="Tahoma"/>
              </a:rPr>
              <a:t>052-380834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ww.poresh.co.i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0" y="5877000"/>
            <a:ext cx="2263680" cy="785880"/>
          </a:xfrm>
          <a:prstGeom prst="rect">
            <a:avLst/>
          </a:prstGeom>
          <a:ln w="0">
            <a:noFill/>
          </a:ln>
        </p:spPr>
      </p:pic>
      <p:sp>
        <p:nvSpPr>
          <p:cNvPr id="109" name="מציין מיקום של תאריך 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ACB2-7B34-439F-9585-B02DC5983D1E}" type="datetime">
              <a:rPr b="0" lang="he-IL" sz="1400" spc="-1" strike="noStrike">
                <a:solidFill>
                  <a:srgbClr val="1c1c1c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A0FF8BD3-F715-4C27-B936-97B0077D4099}" type="datetime10">
              <a:rPr b="0" lang="he-IL" sz="1400" spc="-1" strike="noStrike">
                <a:solidFill>
                  <a:srgbClr val="1c1c1c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מציין מיקום של כותרת תחתונה 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1c1c1c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מציין מיקום של מספר שקופית 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D106-73C2-4B5E-9B20-E7D46F133BE5}" type="slidenum">
              <a:rPr b="0" lang="he-I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333399"/>
                </a:solidFill>
                <a:uFillTx/>
                <a:latin typeface="Tahoma"/>
              </a:rPr>
              <a:t>מבחן הכנסות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4200" y="1371600"/>
            <a:ext cx="8701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ם הכנסתך עולה במעט על "ההכנסה המרבית", תשולם לך "קצבת זקנה חלקית" - הקצבה המלאה שהייתה מגיעה לך, פחות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מסכום הכנסתך העולה על "ההכנסה המרבית" - ובלבד שסכום הקצבה ה"חלקית" המגיעה לך הוא לפחות </a:t>
            </a:r>
            <a:r>
              <a:rPr b="1" i="1" lang="he-IL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על "קצבת זקנה חלקית" ניתן לוותר. פרק הזמן שאינך מקבל אותה, יובא בחשבון הזמן המזכה אותך בתוספת ותק ובתוספת דחיית קצבה.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161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F89-AAC0-467A-B9C8-CA62F0BDE85B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57C0DB1-65DA-4EB5-A3C8-57ED022011D9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6CEB-0F02-4857-BAE4-13F6FDC2E321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333399"/>
                </a:solidFill>
                <a:uFillTx/>
                <a:latin typeface="Tahoma"/>
              </a:rPr>
              <a:t>מבחן הכנסה- מעבוד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920" y="2017800"/>
            <a:ext cx="8812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cc"/>
                </a:solidFill>
                <a:uFillTx/>
                <a:latin typeface="Arial"/>
              </a:rPr>
              <a:t>מי שיש לו הכנסה מעבוד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הכנסה נמוכה מ-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5,032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 ₪ יחיד או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7,285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 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לזוג זכאי לקצבה מלאה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זוג  מ-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6,706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 ₪  עד -,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10,093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 ₪ -קצבה חלקי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יחיד מעל -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7,285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 ₪ זוג מעל -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10,093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 ₪ -לא זכאי לקצבה – מסלול דחיי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מעל גיל 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70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 אין מבחן הכנס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167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265D-3027-4982-8536-B46CC58B5AED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D79D306-DEB0-4843-B374-330627209864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812F-C859-40DE-906A-10DAA0EFA7C0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Tahoma"/>
              </a:rPr>
              <a:t>תוספת עבור ילדי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772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בן או בת (לרבות ילד חורג, ילד מאומץ, או נכד שכל פרנסתו עליך, כולל נכד 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   (וחוץ מנער או נערה נשואים), העונה על אחד התנאים האלה: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 לא מלאו לו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 שנים.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 לא מלאו לו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 שנים והוא מסיים את לימודי חינוך על יסוד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מלאו לו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 שנים, והוא מסיים את לימוד חינוך על- יסודי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לומד להשלמת בחינות בגרות, או בעל לקות למידה ונמצא במסגרת שהוכרה על ידי המוסד לביטוח לאומי. 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173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3B31-7B21-4325-A4ED-8F00EB587AF5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9FFE4A3D-ED2B-4264-94E5-EB98F4EE1A02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0625-A45F-4A16-B6EE-CB85A69632FC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Tahoma"/>
              </a:rPr>
              <a:t>המשך תוספת תלויים-ילדי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 - לא מלאו לו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שנים, והוא שוחר במסגרת קדם צבאית של צה"ל 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         (קד"ץ/ טר"ץ - מסגרות שהוכרו לעניין זה).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       - לא מלאו לו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שנים, והוא משרת שירות סדיר בצה"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       (תקופת הזכאות  היא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חודשים)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       - לא מלאו לו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שנים, והוא משרת בשירות לאומי בהתנדבות    (במסגרות  שהוכרו על ידי המוסד לביטוח לאומי)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       לא מלאו לו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שנים,והוא לומד בעתודה ושירותו הסדיר בצה"ל נדחה עקב לימודיו.      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179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7BEB-C8BA-4568-90FB-32EA399CA5F8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BD17043-D406-4D80-945F-9AC59DE28EF3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EF7E-62F0-4214-83A8-5365852BF1BC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תוספת ותק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98600" y="2087640"/>
            <a:ext cx="748512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cf01"/>
                </a:solidFill>
                <a:uFillTx/>
                <a:latin typeface="Tahoma"/>
              </a:rPr>
              <a:t>תוספת ותק (ביטוח)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קצבת הזקנה תכלול תוספת ותק למי שהיה מבוטח יותר מ–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Arial"/>
              </a:rPr>
              <a:t> שנים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פני יום זכאותו לקצבת זקנה בפעם הראשונה, בכפוף למגבלות הקבועות בחוק.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שיעור תוספת ותק - 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2%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מן הקצבה בעד כל שנת ביטוח מלאה שלאחר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שנות הביטוח הראשונות. בסך הכול לא תעלה התוספת על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50%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מהקצבה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עקרת בית אינה זכאית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תוספת ותק.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עובד עבד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שנה- ותק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17.8%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מהקצבה הבסיסי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185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EA20-8D1C-46E0-922F-E7D3CDC10ED2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C486EB5-D031-42E0-9807-CE538AEC6A24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53E-9FD5-4B02-99BD-212176189A41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he-IL" sz="4800" spc="-1" strike="noStrike" u="sng">
                <a:solidFill>
                  <a:srgbClr val="333399"/>
                </a:solidFill>
                <a:uFillTx/>
                <a:latin typeface="Tahoma"/>
              </a:rPr>
              <a:t>תוספת דחיית קצבה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4200" y="2017800"/>
            <a:ext cx="8740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תוספת דחיית קצבה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- תשולם במקרים שהתביעה לקצבת זקנה נדחתה עקב הכנסות מעבוד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במקרים שלא הייתה זכאות לקצבת זקנה בגלל הכנסות מעבודה (גם אם לא הוגשה תביעה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או שבגלל ההכנסות מעבודה מגיעה למבוטח קצבת זקנה בסכום נמוך, והוא מוותר על קבלת סכום נמוך זה. </a:t>
            </a:r>
            <a:br>
              <a:rPr sz="2800"/>
            </a:b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שיעור תוספת דחיית קצבה - </a:t>
            </a:r>
            <a:r>
              <a:rPr b="1" lang="he-IL" sz="2800" spc="-1" strike="noStrike" u="sng">
                <a:solidFill>
                  <a:srgbClr val="ffcf01"/>
                </a:solidFill>
                <a:uFillTx/>
                <a:latin typeface="Arial"/>
              </a:rPr>
              <a:t>5%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מן הקצבה (כולל תוספת הוותק) בעד כל שנה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191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D439-DC19-4AFD-A0EC-980793BF97F8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D61EDA0-2E47-4213-BDFC-B3F14F566EC2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0C53-346B-4B6D-9ECF-45CE79726F1B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ניכויים מהקצבה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דמי ביטוח בריאות</a:t>
            </a:r>
            <a:br>
              <a:rPr sz="36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קצבת הזקנה ינוכו דמי ביטוח בריאות בסכום של-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₪ ליחיד ו-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78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₪ לזוג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 אם אתה זכאי לתוספת השלמת הכנסה ינוכו מקצבתך דמי ביטוח בריאות בסכום של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קצבה פטורה ממס הכנס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197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D9EC-4E87-45C4-917A-C0BB95CE8C6A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CE1ADA2-D1F1-4A0F-B5E8-1AF157FA6923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BB1B-E734-4705-8EB6-3EAA3CF94D4F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333399"/>
                </a:solidFill>
                <a:uFillTx/>
                <a:latin typeface="Tahoma"/>
              </a:rPr>
              <a:t>המשך ניכויים מהקצב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7487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333399"/>
                </a:solidFill>
                <a:uFillTx/>
                <a:latin typeface="Arial"/>
              </a:rPr>
              <a:t>ניכויים מקצבת זקנה,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- אם אתה עובד כשכיר, והמעסיק שלך מנכה משכרך דמי ביטוח בריאות, עליך לפנות למעסיקך להפסקת הניכוי הזה.</a:t>
            </a:r>
            <a:br>
              <a:rPr sz="2800"/>
            </a:b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- אם אתה מקבל תוספת בקצבת הזקנה בעד בת הזוג, ינוכו מקצבתך דמי ביטוח בריאות לזוג, גם אם בת הזוג עובדת שכירה</a:t>
            </a:r>
            <a:br>
              <a:rPr sz="2800"/>
            </a:b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- אם אינך מקבל את התוספת בקצבת הזקנה בעד בת הזוג, מכיוון שהיא מקבלת קצבה מהביטוח הלאומי, ינוכו מקצבתך דמי ביטוח בריאות לזוג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203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059F-EAC7-4997-89EE-11464679028F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F43E37A9-B53A-416F-BED8-A7461C66DE7B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</a:t>
            </a: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רם אזרד - יועץ מס ופרישה מומחה לחוק הביטוח הלאומ</a:t>
            </a: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8589-8F3A-42D2-A982-AB223780750E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זקנה+ שאירים/נכות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2920" y="2017440"/>
            <a:ext cx="8812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אם זכאי  המבוטח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גם לקצבת זקנה וגם לקצבת שאירים 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(קצבת אלמן/ה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קבל קצבת זקנה מלאה ונוסף עליה מחצית מקצבת השאירים המגיעה לך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במידה והמבוטח מקבל קצבת נכות בסמוך לקבלת קצבת זקנה – יקבל קצבת זקנה בגובה קצבת הנכות   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209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43FA-7260-4A34-92A3-5524635F7906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0710198-7583-4C10-96F1-F7A3076FE286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מציין מיקום של כותרת תחתונה 5"/>
          <p:cNvSpPr/>
          <p:nvPr/>
        </p:nvSpPr>
        <p:spPr>
          <a:xfrm>
            <a:off x="363528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2FF0-2386-42C0-826B-F1D377268707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33399"/>
                </a:solidFill>
                <a:uFillTx/>
                <a:latin typeface="Tahoma"/>
              </a:rPr>
              <a:t>שהיה מחוץ לישראל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ם אתה שוהה בחוץ לארץ עד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חודשים, תשולם קצבתך לזכות חשבון הבנק שלך בישראל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ם אתה שוהה בחוץ לארץ יותר מ–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חודשים, עליך להודיע בכתב למוסד לביטוח לאומי (מחלקת זקנה) על נסיעתך. בתנאים מיוחדים יוסיף המוסד לביטוח לאומי לשלם לך את הקצבה גם בזמן שהותך בחו"ל.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215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87A5-F875-4ED4-BA84-70137D6D74F2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B6E2405F-E200-4CBA-AA0A-59BFC69C40CD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BE3F-FA82-47EA-A1C7-03B950B2BC20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נושא ההרצאה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294920"/>
            <a:ext cx="8443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גיל הפרישה- שינויי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גיל הזכא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שינוי גיל הפריש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תקופת אכשרה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שיעור הקצב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מבחן הכנס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תוספות לקצבה – דחייה ,וותק,ילדים ,בת זו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500800"/>
            <a:ext cx="2264040" cy="714240"/>
          </a:xfrm>
          <a:prstGeom prst="rect">
            <a:avLst/>
          </a:prstGeom>
          <a:ln w="0">
            <a:noFill/>
          </a:ln>
        </p:spPr>
      </p:pic>
      <p:sp>
        <p:nvSpPr>
          <p:cNvPr id="115" name="מציין מיקום של תאריך 4"/>
          <p:cNvSpPr/>
          <p:nvPr/>
        </p:nvSpPr>
        <p:spPr>
          <a:xfrm>
            <a:off x="6875640" y="6237360"/>
            <a:ext cx="1728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4C54-63A0-44D9-9C3B-63693598A8B9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E24D9E2-0395-4888-A29D-BEEF1114F23E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</a:t>
            </a: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ו</a:t>
            </a: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מחה</a:t>
            </a: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CCE-3B3F-46FB-9E41-8B482A15BFBF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קצבה מיוחדת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2017800"/>
            <a:ext cx="8740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ם אתה תושב ישראל שאינו מבוטח בביטוח זקנה ואינו זכאי לקצבת זקנה בגלל שעלה לארץ לראשונה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אחר גי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התאם לחודש לידתו, ישלם לך המוסד לביטוח לאומי גמלה מיוחדת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על חשבון משרד האוצר, ובלבד שאתה עונה על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כל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תנאים המפורטים בחוק.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221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258-C3F0-4DB3-844E-25CAE5BB24E8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5FA0B7F-70A8-41D8-9D29-7B9A55648365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E955-EA16-4E29-A98D-70D504A50589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333399"/>
                </a:solidFill>
                <a:uFillTx/>
                <a:latin typeface="Tahoma"/>
              </a:rPr>
              <a:t>מענק חימום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773360"/>
            <a:ext cx="86356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פעם בשנה משולם מענק חד-פעמי לחימום למקבל קצבת זקנה ולמקבלי גמלת זקנה מיוחדת שמתקיימים בהם התנאים האלה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וא מקבל תוספת השלמת הכנסה לקצבת הזקנה באחד מהחודשים: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אוקטובר, נובמבר או דצמבר באותה השנה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וא מתגורר באזור המוגדר "קר" על-פי החוק חודשיים לכל הפחו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מענק הוא משפחתי. סכום המענק הוא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543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₪ והוא משולם באופן אוטומטי יחד עם קצבת הזקנה בחודש אוקטובר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179280" y="602136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מציין מיקום של תאריך 5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616D-E4C6-4393-B503-AAF6895D0620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C2089D69-3FC7-4C52-A660-B564CAEA8D59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מציין מיקום של כותרת תחתונה 6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מציין מיקום של מספר שקופית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B0B0-B299-4753-8C77-2C3EA1F15D03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מענק פטירה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ahoma"/>
              </a:rPr>
              <a:t>מענק פטירה הוא מענק חד-פעמי בגובה </a:t>
            </a:r>
            <a:r>
              <a:rPr b="1" lang="he-IL" sz="4000" spc="-1" strike="noStrike">
                <a:solidFill>
                  <a:srgbClr val="000000"/>
                </a:solidFill>
                <a:latin typeface="Tahoma"/>
              </a:rPr>
              <a:t>8,594</a:t>
            </a:r>
            <a:r>
              <a:rPr b="1" lang="he-IL" sz="4000" spc="-1" strike="noStrike">
                <a:solidFill>
                  <a:srgbClr val="000000"/>
                </a:solidFill>
                <a:latin typeface="Tahoma"/>
              </a:rPr>
              <a:t> ₪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ahoma"/>
              </a:rPr>
              <a:t>משולם לבת או בן הזוג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ahoma"/>
              </a:rPr>
              <a:t>הצגת תעודת פטירה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מציין מיקום של תאריך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291-ECC9-48B5-A892-011CAF8914A9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94CCE64-519F-4CAC-A8D7-C2E2331693E6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מציין מיקום של כותרת תחתונה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מציין מיקום של מספר שקופית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EA80-EA40-4803-9BF5-CDF109773642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 u="sng">
                <a:solidFill>
                  <a:srgbClr val="333399"/>
                </a:solidFill>
                <a:uFillTx/>
                <a:latin typeface="Tahoma"/>
              </a:rPr>
              <a:t>סיום מצגת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תודה רבה על ההקשב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יורם אזרד- יועץ מס ופרישה מייצג ביטוח לאומ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הרב קוק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 ירושלים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05238083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מייל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orammas1@012.net.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ww.poresh.co.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929200"/>
            <a:ext cx="1928880" cy="642960"/>
          </a:xfrm>
          <a:prstGeom prst="rect">
            <a:avLst/>
          </a:prstGeom>
          <a:ln w="0">
            <a:noFill/>
          </a:ln>
        </p:spPr>
      </p:pic>
      <p:sp>
        <p:nvSpPr>
          <p:cNvPr id="238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6455-0D0C-4667-A63E-F737C694D5D8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BB77C1C-7654-46C7-8B08-2DBCB14588BC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68E4-88F7-4D94-AD48-6817380B231E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333399"/>
                </a:solidFill>
                <a:uFillTx/>
                <a:latin typeface="Tahoma"/>
              </a:rPr>
              <a:t>גיל הפרישה –המזכה- הראשון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4200" y="2017800"/>
            <a:ext cx="867888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גיל הפרישה הראשון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 - הגיל שבו תהיה/תהיי זכאי/ת לקצבת זקנה, בתנאי שהכנסתך מעבודה אינה עולה, או עולה במעט ע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סכום ההכנס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מרבית,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והכנסתך שלא מעבודה, כגון הכנסה מנכסים או מריבית על השקעות אינה עולה, או עולה במעט על כפליים ההכנסה המרבית. ההכנסה מפנסיה אינה נלקחת בחשבו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נכון להיום כ-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5,032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₪ לחודש (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57%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מהשכר הממוצע במשק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8,828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₪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6165720"/>
            <a:ext cx="226404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מציין מיקום של תאריך 5"/>
          <p:cNvSpPr/>
          <p:nvPr/>
        </p:nvSpPr>
        <p:spPr>
          <a:xfrm flipH="1">
            <a:off x="7019280" y="624348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E912-99A8-4E20-8A12-7DA49AE147BE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ED93CAE-EB33-4A14-BC74-F656F58231E9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מציין מיקום של כותרת תחתונה 6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מציין מיקום של מספר שקופית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186-E032-4D3E-8D49-8343AC9822A2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33399"/>
                </a:solidFill>
                <a:uFillTx/>
                <a:latin typeface="Tahoma"/>
              </a:rPr>
              <a:t>גיל הזכאות-ללא מבחן הכנסות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גיל הזכאות לקצבת זקנה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- הגיל שבו תהיה/תהיי זכאי/ת לקצבת זקנה ללא קשר להכנסות.  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חל ב –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 ביולי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הגיל לנשים עולה בהדרגה, עד שבסופו ל התהליך הוא יהיה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לגברים ולנשי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כיום גברים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, נשים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כוונה לגיל שזכאים לזקנה גם ובמידה ויש הכנסו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עולות על התקר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500800"/>
            <a:ext cx="2264040" cy="714240"/>
          </a:xfrm>
          <a:prstGeom prst="rect">
            <a:avLst/>
          </a:prstGeom>
          <a:ln w="0">
            <a:noFill/>
          </a:ln>
        </p:spPr>
      </p:pic>
      <p:sp>
        <p:nvSpPr>
          <p:cNvPr id="127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22DA-19C0-435A-A7C1-395F40E5A541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152EA7E-AB94-47C9-93A3-AAE27F466CE2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9049-47A2-4398-A3EF-AA528664AE7E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33399"/>
                </a:solidFill>
                <a:uFillTx/>
                <a:latin typeface="Tahoma"/>
              </a:rPr>
              <a:t>שינוי גיל הפרישה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חל מיום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- ביולי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2004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הגיל עולה בהדרג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לגברים- נכון ליום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/1/2011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he-IL" sz="5400" spc="-1" strike="noStrike">
                <a:solidFill>
                  <a:srgbClr val="000000"/>
                </a:solidFill>
                <a:latin typeface="Tahoma"/>
              </a:rPr>
              <a:t>62</a:t>
            </a:r>
            <a:r>
              <a:rPr b="0" lang="he-IL" sz="4400" spc="-1" strike="noStrike">
                <a:solidFill>
                  <a:srgbClr val="000000"/>
                </a:solidFill>
                <a:latin typeface="Tahoma"/>
              </a:rPr>
              <a:t>- נשים ע"פ החלטת ממשלה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500800"/>
            <a:ext cx="2264040" cy="714240"/>
          </a:xfrm>
          <a:prstGeom prst="rect">
            <a:avLst/>
          </a:prstGeom>
          <a:ln w="0">
            <a:noFill/>
          </a:ln>
        </p:spPr>
      </p:pic>
      <p:sp>
        <p:nvSpPr>
          <p:cNvPr id="133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BC70-8866-4BBE-B9F4-2941048FA583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D9A06BEE-36E7-42B1-9A44-DD52393756E9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E262-D050-4099-8A5A-94A30EB964B1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33399"/>
                </a:solidFill>
                <a:uFillTx/>
                <a:latin typeface="Tahoma"/>
              </a:rPr>
              <a:t>תנאי זכאות לקצבת זקנה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Tahoma"/>
              </a:rPr>
              <a:t>קצבת זקנה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. גיל קובע –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גבר –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62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אישה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.גיל מוחלט ללא מבחן הכנסות –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גבר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  איש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cc"/>
                </a:solidFill>
                <a:uFillTx/>
                <a:latin typeface="Tahoma"/>
              </a:rPr>
              <a:t>תקופת אכשרה( מינימום חודשי עבודה לקבלת קצבה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  א.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חודשי ביטוח ב-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השנים שקדמו לגי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  ב. 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144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חודשי ביטוח במהלך חיו של המבוטח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0" y="6143760"/>
            <a:ext cx="2263680" cy="714240"/>
          </a:xfrm>
          <a:prstGeom prst="rect">
            <a:avLst/>
          </a:prstGeom>
          <a:ln w="0">
            <a:noFill/>
          </a:ln>
        </p:spPr>
      </p:pic>
      <p:sp>
        <p:nvSpPr>
          <p:cNvPr id="139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</a:t>
            </a: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EA97-FEF7-40BA-815C-EDE05ED932CF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497384B-7FE2-4717-B6FD-304B6340970F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fld id="{C5540773-5021-494A-91BE-FCBA9BB9D142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33399"/>
                </a:solidFill>
                <a:uFillTx/>
                <a:latin typeface="Tahoma"/>
              </a:rPr>
              <a:t>מועד התשלום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1915920"/>
            <a:ext cx="842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קצבת הזקנה משולמת ב- 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 בחודש (בעד אותו החודש) לזכות חשבון הבנק שלך בלבד או שלך ושל בן זוג, הורה, אח, אחות, בן או בת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אם נולדת לפני 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בחודש, תתחיל לקבל את הקצבה בחודש שבו הגעת לגיל המזכה אותך בקצבה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אם נולדת לאחר 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 בחודש, תתחיל לקבל את הקצבה בחודש שלאחר החודש שבו הגעת לגיל המזכה אותך בקצבה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Tahoma"/>
              </a:rPr>
              <a:t>אבל אם אתה זכאי לתוספת השלמת הכנסה לקצבתך תתחיל לקבל את הקצבה בחודש שבו הגעת לגיל המזכה אותך בקצבה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324000" y="6143760"/>
            <a:ext cx="2263680" cy="714240"/>
          </a:xfrm>
          <a:prstGeom prst="rect">
            <a:avLst/>
          </a:prstGeom>
          <a:ln w="0">
            <a:noFill/>
          </a:ln>
        </p:spPr>
      </p:pic>
      <p:sp>
        <p:nvSpPr>
          <p:cNvPr id="144" name="מציין מיקום של תאריך 4"/>
          <p:cNvSpPr/>
          <p:nvPr/>
        </p:nvSpPr>
        <p:spPr>
          <a:xfrm flipH="1">
            <a:off x="7163640" y="6308640"/>
            <a:ext cx="1655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EB3-25AF-4813-8509-1C5ECF9600D6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EDC89C1-0ECF-4EC8-BC1B-521C67A29F68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5A91-EF33-4F77-A2BD-4BC5FAF5326A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Tahoma"/>
              </a:rPr>
              <a:t>שיעור הקצבה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857240"/>
            <a:ext cx="7747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קצבה בסיס  -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17.8%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מהשכר הממוצע במשק(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8,482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₪ )-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1,5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בן/בת הזוג- 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8.9%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 (תלוי בגיל, והכנסה)-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75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ילד עד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5.6%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(מקסימום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ילדים , נכד)-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4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תוספת ותק - 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8.9%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מקסימום ל-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שנות עבוד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תוספת דחייה- 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 נוספים בעבור כל שנת דחייה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תוספת הדחייה- שיעור מהבסיס+ ות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מציין מיקום של תאריך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6D8-5DC9-461E-BED6-3B421409B626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2642EF8A-CB4D-4975-91BE-6E903C398723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מציין מיקום של כותרת תחתונה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מציין מיקום של מספר שקופית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8466-4A5C-4957-A2BC-54EB60E75EEE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סכום הקצבה-</a:t>
            </a:r>
            <a:r>
              <a:rPr b="1" lang="he-IL" sz="5400" spc="-1" strike="noStrike" u="sng">
                <a:solidFill>
                  <a:srgbClr val="333399"/>
                </a:solidFill>
                <a:uFillTx/>
                <a:latin typeface="Tahoma"/>
              </a:rPr>
              <a:t>2013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סכום קצבת הזקנה הבסיסית ליחיד היא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,5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ולזוג (הקצבה לזוג מורכבת מקצבה ליחיד וכן תוספת בעבור בת זוג) 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,25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סכום קצבת הזקנה הבסיסית לבני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ומעלה, ליחיד - 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,587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ולזוג - 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,342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ם שני בני הזוג, כל אחד בנפרד, עונים על תנאי הזכאות לקצבת זקנה, יקבל כל אחד מהם קצבה ליחיד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G:\עתודות - המרכז ללימודי מקצועות השכר\לוגו חדש עתודות.png"/>
          <p:cNvPicPr/>
          <p:nvPr/>
        </p:nvPicPr>
        <p:blipFill>
          <a:blip r:embed="rId1"/>
          <a:stretch/>
        </p:blipFill>
        <p:spPr>
          <a:xfrm>
            <a:off x="214200" y="5607000"/>
            <a:ext cx="1928880" cy="608040"/>
          </a:xfrm>
          <a:prstGeom prst="rect">
            <a:avLst/>
          </a:prstGeom>
          <a:ln w="0">
            <a:noFill/>
          </a:ln>
        </p:spPr>
      </p:pic>
      <p:sp>
        <p:nvSpPr>
          <p:cNvPr id="155" name="מציין מיקום של תאריך 4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D5B-423B-433E-822E-8DC36EBB33BE}" type="datetime">
              <a:rPr b="0" lang="he-IL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74EB5D60-B1D6-4351-9286-0EAD56070257}" type="datetime10">
              <a:rPr b="0" lang="he-IL" sz="1400" spc="-1" strike="noStrike">
                <a:solidFill>
                  <a:srgbClr val="000000"/>
                </a:solidFill>
                <a:latin typeface="Tahoma"/>
              </a:rPr>
              <a:t>01:5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מציין מיקום של כותרת תחתונה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ahoma"/>
              </a:rPr>
              <a:t>יורם אזרד - יועץ מס ופרישה מומחה לחוק הביטוח הלאומ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מציין מיקום של מספר שקופית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DA9-4B5D-4A03-ACB5-3EB2753254D7}" type="slidenum">
              <a:rPr b="0" lang="he-I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1:19:32Z</dcterms:created>
  <dc:creator>012</dc:creator>
  <dc:description/>
  <dc:language>en-US</dc:language>
  <cp:lastModifiedBy>Atidot</cp:lastModifiedBy>
  <dcterms:modified xsi:type="dcterms:W3CDTF">2013-01-22T08:38:31Z</dcterms:modified>
  <cp:revision>86</cp:revision>
  <dc:subject/>
  <dc:title>ביטוח לאומי –קצבת זקנה 2008</dc:title>
</cp:coreProperties>
</file>