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85C-E6BC-4621-9914-A1F59743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352-B6F3-47E8-BFC3-E8D21F23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715-BA43-44D2-9938-DF24F474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CC8-2416-4F17-A2A3-4CC5806B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67BF-D34B-418B-9759-129765B1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A5E6-61E8-4C1B-A76D-CFC62F8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189B-6720-40C7-9693-635A507F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F8E3-7D7E-4711-8E27-942D3384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089-C8CE-4DAE-A715-F5313BBB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D930-EBA2-4583-8C18-8FBE89F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A8E0-8FAE-4A6D-B3AD-E27FB06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B5B-BD1D-4B27-A4E9-09408CA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9EB6-04A7-4DEB-BF37-0038AF9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DF4E-FDEB-4080-924E-8737871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2B78-59A5-4AEA-9044-963D2F7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B64A-237A-42CF-B84F-5F954727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23F8-1A56-4FE1-9433-AC182142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4DF-136D-4415-8C52-24F4B063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DDE-D0A3-4278-BFFA-205DFAC8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27E-018C-4746-9B75-F8FA867F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720-51F2-45D1-8913-A5993648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2A8-8B5A-484D-AC59-61FEE33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2AE-F30F-458C-BB3B-6DBAABC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8D9-6D3D-40EB-A237-330EB677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ACA6-8D85-437B-BF9E-C382FA4277D3}" type="datetime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CCBFA95C-8DC5-42C3-87EF-C5568355D352}" type="datetime12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348-D03F-4746-9DBE-9CEB43551DCD}" type="slidenum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F845-573F-4406-9988-508BA5D9C790}" type="datetime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45DF929B-82C3-4CFD-9A3E-F4D6E776A8AD}" type="datetime12"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79185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 u="sng">
                <a:solidFill>
                  <a:srgbClr val="c0504d"/>
                </a:solidFill>
                <a:uFillTx/>
                <a:latin typeface="Calibri"/>
                <a:cs typeface="Aharoni"/>
              </a:rPr>
              <a:t>אזרד יורם יועץ מס ופרישה</a:t>
            </a:r>
            <a:br>
              <a:rPr sz="4000"/>
            </a:br>
            <a:r>
              <a:rPr b="0" lang="he-IL" sz="4000" spc="-1" strike="noStrike" u="sng">
                <a:solidFill>
                  <a:srgbClr val="c0504d"/>
                </a:solidFill>
                <a:uFillTx/>
                <a:latin typeface="Calibri"/>
                <a:cs typeface="Aharoni"/>
              </a:rPr>
              <a:t>מומחה למיסוי פרישה</a:t>
            </a:r>
            <a:br>
              <a:rPr sz="4000"/>
            </a:br>
            <a:r>
              <a:rPr b="0" lang="he-IL" sz="4000" spc="-1" strike="noStrike" u="sng">
                <a:solidFill>
                  <a:srgbClr val="c0504d"/>
                </a:solidFill>
                <a:uFillTx/>
                <a:latin typeface="Calibri"/>
                <a:cs typeface="Aharoni"/>
              </a:rPr>
              <a:t>שנת </a:t>
            </a:r>
            <a:r>
              <a:rPr b="0" lang="he-IL" sz="4000" spc="-1" strike="noStrike" u="sng">
                <a:solidFill>
                  <a:srgbClr val="c0504d"/>
                </a:solidFill>
                <a:uFillTx/>
                <a:latin typeface="Calibri"/>
                <a:ea typeface="Aharoni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הרב קוק 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 קומה 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 משרד 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415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ירושלי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02-5357477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- נייד </a:t>
            </a:r>
            <a:r>
              <a:rPr b="1" lang="he-IL" sz="2000" spc="-1" strike="noStrike">
                <a:solidFill>
                  <a:srgbClr val="ff0000"/>
                </a:solidFill>
                <a:latin typeface="Calibri"/>
              </a:rPr>
              <a:t>052-38083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Calibri"/>
              </a:rPr>
              <a:t>כול הזכויות שמורות© ׂׂ –יורם אזר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ff0000"/>
                </a:solidFill>
                <a:uFillTx/>
                <a:latin typeface="Calibri"/>
              </a:rPr>
              <a:t>אין להעתיק מצגת זאת ללא אישו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F4E0-6FEC-4DF0-993D-5E373A04710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F7B0F59-1354-437E-92A7-DA19BB928515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03640" y="3213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פריסה- מה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א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פריסת החלק החייב למספר ש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ב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כו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= שנת פריסה אח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ג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תקופת פריסה מרבית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פרי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ד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ניתן לבצע פריסה קדימה ,או אח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ה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ניתן לבצע חלק קדימה חלק אח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ו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ניתן לקבוע את החלוק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ז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תכנון מס לפי שיקולים ונתונים של כול פור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ח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ניתן לתפור חליפה מיסוי לכול פורש- על פי מצב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1CD8-6093-4BA2-B648-DEADC0304D8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122AFF16-05FF-435E-B3B8-AA20EAB5B7AD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יתרונות הפריס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א. פריסה ודחיית תשלום המס תמיד הוכח שדחייה טוב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ב.לרוב הקטנת המס לתשלום – הקטנת החבות במס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ג.מדרגות המס בשנים האחרונות יורדות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ד.הפריסה היא על בסיס נומינלי – רווח ההצמ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.ניצול פטורים בעתי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3B5-EAD1-41A0-B3E6-7B756989D6E5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0A69CE7-AA4F-4508-9EE9-2F60C9EB88FA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משמעות מועד הפרישה</a:t>
            </a:r>
            <a:br>
              <a:rPr sz="3600"/>
            </a:b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לפריס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פרישה עד 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30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 לספטמבר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שנת פריסה ראשונה השנה השוטפת – יתכן וישפיע על שיעור המס הממוצע בחישוב המקדמה ( מס שולי אחרון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פרישה מ-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30</a:t>
            </a: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 לספטמבר והילך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שנת הפריסה הראשונה ,השנה שלאחר הפריש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רוב מקטין את המקדמה היות ואין 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45E7-DD3D-49DD-9B96-9024DF1ACD5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79F5453-C477-46B5-A22B-59CEB048D9EC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79280" y="623736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ff"/>
                </a:solidFill>
                <a:uFillTx/>
                <a:latin typeface="Calibri"/>
              </a:rPr>
              <a:t>הגשת דו"ח שנת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כול אחת משנות הפריסה חובה בהגשת דו"ח שנתי למס הכנסה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דוח מקוצר ופשוט – ניתן לצרף רק את טופס הפריסה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מידה ויש הכנסה בשנות הפריסה- תיאום מ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על מנת ולא ליצור חבות במס בסוף שנת המ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A519-86BB-4B63-A2BB-BCEAC92D9EE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A3E30BA-8DFE-47A4-8CBC-329CE58A8A8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79280" y="623736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חישוב המס לפי שתי השיטות</a:t>
            </a:r>
            <a:r>
              <a:rPr b="1" lang="he-IL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ס שולי אחרו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ס שולי אחרון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1%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- שכר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4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חלק חייב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86,4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1%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6,784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ש"ח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חישוב המס – כאילו תשלום בלתי קבו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מס מוחלט – אין אפשרות לקיזוז בעתי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חלופין הפריסה – בשקף הב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0933-F22F-4F2D-9AE2-77D529EF9AD5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6212F6D-66F0-4E38-A201-C8EA6EA81D73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564000" y="5805360"/>
            <a:ext cx="23223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260280"/>
            <a:ext cx="8130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הדגמת הפריס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981000"/>
          <a:ext cx="8507520" cy="5526000"/>
        </p:xfrm>
        <a:graphic>
          <a:graphicData uri="http://schemas.openxmlformats.org/drawingml/2006/table">
            <a:tbl>
              <a:tblPr/>
              <a:tblGrid>
                <a:gridCol w="2127240"/>
                <a:gridCol w="2127240"/>
                <a:gridCol w="2127240"/>
                <a:gridCol w="2125800"/>
              </a:tblGrid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מקדמת מ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שיעור המ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חלק הפרו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שנת פריס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,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סך כלל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744-253D-4F46-A6CD-5EEEFEF4063A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9E29C15-9928-4820-AB5F-F4E782883D16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ff"/>
                </a:solidFill>
                <a:uFillTx/>
                <a:latin typeface="Calibri"/>
              </a:rPr>
              <a:t>החיסכון – כתוצאה מפריס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מס לפי מס שולי אחרון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6,784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מס לפי פריסה – מקדמה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8,64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הפרש במיסוי –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19,144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ול המקדמה תוחזר במהלך שנות הפריסה- הגשת דו"ח שנת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תוצאה ממתן נקודות זיכוי בהגשת הדו"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החזר בתוספת רבית והפרשי הצמדה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פריסה =  הקטנה/ ביטול המס- 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1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ג בקשת פריס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2658-FA0E-4E29-AA33-DDAF34D919AF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9415745-0D8D-4DFC-A36A-3A310769E1A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3736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הגדלת הפטור – 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150%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 - 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7/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חל מחודש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7/201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ניתן לקבל פטור מוגד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כל מצב לא יותר מ-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50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בעבור כל שנת עבו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כל תנאי לא יותר מהתקרה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2,12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₪ לכל שנ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פטור זה היה חסום לביצוע עד השינו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יות והתנאי לקבלתו היה שאין לפורש חסכון פנסיונ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יות והחל משנת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כולם במסלול קצבה – לא ניתן האישו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יום – כל מי שמבקש מקבל – ללא התניה של חסכון לפנסי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6CB8-D56D-4B9C-9C23-8157A8C8306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A329815-4861-483D-B528-51DD6E85599A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661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פטור על קצבה- פנסי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טור ממס של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43.5%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- עד הקצבה המזכ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כון ל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8,3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(פטו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,61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ורש שבחר לקבל פטור על מענקים ,יתכן מאוד שלא יהיה זכאי לפטור על הקצב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יש לבדוק את האפשרות הטובה ביות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ול מקרה נבחן לגופו של עניין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ומלץ לפנות לייעוץ – לפני מועד ה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70D5-C5DE-49C1-A006-140AD90AC85C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0FC36E0-316F-4D72-B079-B292AA4AC24D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661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גדלת התקרה –מדורגת</a:t>
            </a:r>
            <a:br>
              <a:rPr sz="4400"/>
            </a:b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תיקון סעיף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9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560" y="1557360"/>
            <a:ext cx="8497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גדלת הפטור שב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 - הפטור על הקצבה יגדל בהדרגה ,גם אם החל תשלומה בעבר 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-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8.5%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ה"כ פטו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תקרת הקצבה המזכה. (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8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-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5.5%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ה"כ פטו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9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תקרת הקצבה המזכה.(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4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9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-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3%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ה"כ פטו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תקרת הקצבה המזכה. (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7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-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2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1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סה"כ פטו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תקרת הקצבה המזכה.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9547-8437-4C1B-9912-1820C516FD3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136604F2-0716-4CD6-B0F2-0DAE56C0546E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79280" y="6093000"/>
            <a:ext cx="291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נושא המצגת</a:t>
            </a:r>
            <a:r>
              <a:rPr b="1" lang="he-IL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71640" y="1700280"/>
            <a:ext cx="763272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פיצויים – פטור- כולל הגדלת הפטור ל-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150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פנסיה- פטור – לפי סעיף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א- לאחר תיקון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לפקוד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פריסה- לפי סעיף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ג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נוסחת השילוב –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א) ז- ישנה /חד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היוון קצבה- משמעו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רצף פיצויי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טפסי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40BD-6CD3-4B7F-91DB-35D45D2475C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25D7F8C3-499B-420E-9DC9-AE244C5380DA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מי זכאי לפטור לפי סעיף </a:t>
            </a: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9</a:t>
            </a: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 א</a:t>
            </a:r>
            <a:r>
              <a:rPr b="1" lang="he-IL" sz="4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ק מי שהגיע לגיל פרישה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ישה,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גב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שינוי החל מ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ובהדרג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כון ל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איש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,גבר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י שפרש כתוצאה מנכות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ציבה , ללא קשר לגיל ה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נוי משמעותי ביותר בעקבות תיק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לפק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7C7-8671-40A7-8060-DE4A7AED0A7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9D246F1B-097A-4BAA-A7B9-BB6269762B3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661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דוגמא לפטור סעיף 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9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 א – פטור קצב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 ב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קבל פנסיה של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בחוד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חר לקבל פטור מסלול קצבה ( שולם מס על המענק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רת פטור –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8,310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 ₪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עור פטור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 *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8,3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,61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כנסה חייבת לאחר הפטור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,38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חסכון במס נטו כתוצאה מבחירה מסלול זה-סך של 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575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₪ נטו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89E-CBCA-41A6-B8B9-E7978E03E83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0F75C1C8-19F7-4FB8-B107-8061997603CF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805360"/>
            <a:ext cx="23223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805788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900" spc="-1" strike="noStrike" u="sng">
                <a:solidFill>
                  <a:srgbClr val="0070c0"/>
                </a:solidFill>
                <a:uFillTx/>
                <a:latin typeface="Calibri"/>
              </a:rPr>
              <a:t>נוסחת השילוב שונתה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000" y="220464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יודגש – הנוסחה החדשה חלה רק על הפטור מהקצבה המזכה אינה חלה יותר על הקצבה המוכר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להזכירכם נוסחה זו מחשבת את הפטור על המענק או על הקצבה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כידוע ניתן לקבל פטור ממס  או על המענקים) עד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12,120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לכל שנת עבודה או על הקצבה המזכה 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8,310</a:t>
            </a: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לא ניתן לקבל מפטור כפול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Calibri"/>
              </a:rPr>
              <a:t>ולכן קיימת נוסחת השילוב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מציין מיקום של תאריך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C1B1-FDF3-4731-81DE-439DDA45B54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1BFAD281-50FE-47B5-A017-C487FCEFADE7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גדרות חדשות לנוסח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000" y="119700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תואם מכפיל המרה להון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 היה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גיל הזכאות – גיל הפרישה או הגיל שבו היחיד החל לקבל קצבה מזכה / המאוחר מבין השתי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קבע מקדם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ענקים פטורים ממס – עבור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ות עבוד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יתרת ההון הפטורה ממס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*קצבה מ. מה"ל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(א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ענקים הפטורים ממס – ממודד מיום קבלתם ע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/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ל השנה שבה חל גיל הזכאות מוכפל במקדם 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(ב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התוצאה של א – ב = יתרת ההון הפטורה /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=יתרת הפטור על הקצב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504-06EF-4E1D-A8DD-071A00A4DC3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EA39878C-BE31-43F2-A97A-CEB8DF351A5B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1f497d"/>
                </a:solidFill>
                <a:uFillTx/>
                <a:latin typeface="Calibri"/>
              </a:rPr>
              <a:t>מה השינוי בנוסחה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267920"/>
            <a:ext cx="8435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בנוסחה החדשה מחשבים את קיזוז הקצבה ביחס בין המענקים הפטורים בגין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שנות עבודה שקדמו להגיעו לגיל הזכא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לבין סכום התקרה המזכה המקסימאלית לאותן שנות עבודה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גיל הזכאות" – גיל הפרישה או תחילת הקצבה – לפי המאוח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ענקים פטורים" - סכום המענקים הפטורים לפי סעיף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א)(א) שקיבל יחיד בעד שנות עבודתו שקדמו לגיל הזכאות, ולא יותר מ-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שנות עבודה למעט מענקים המנויים בסעי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831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35%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/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2,12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1.35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מקדם .</a:t>
            </a:r>
            <a:br>
              <a:rPr sz="2400"/>
            </a:b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850000"/>
            <a:ext cx="1979640" cy="1008000"/>
          </a:xfrm>
          <a:prstGeom prst="rect">
            <a:avLst/>
          </a:prstGeom>
          <a:ln w="0">
            <a:noFill/>
          </a:ln>
        </p:spPr>
      </p:pic>
      <p:sp>
        <p:nvSpPr>
          <p:cNvPr id="201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EAC5-7675-49C9-837E-C2FD43D37C5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EEFF04DA-45DF-466D-9FEB-224698CEB043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משך שינוי נוסחת השילוב – יתרו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162828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יתרון בשינוי בא לידי ביטוי ביתרת ההון הפטורה אשר תחולק במכפיל ותהווה פטור שוטף לקצבה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פני התיקון היו מקזזים את סכום הפטור המרבי לכ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שנים בלי התייחסות ליתר ההון האמ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06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8F6C-D3C2-473A-A8F4-840512F7CC8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C43D08B4-591F-403E-A220-7C30EDB8704A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בחירה /נוסחה ישנה או חדשה</a:t>
            </a:r>
            <a:br>
              <a:rPr sz="4400"/>
            </a:b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ענק פטור מהו 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ענקים הפטורים כהגדרתם בנוסח החדש הנם מענקים ששולמו לו לאח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אולם מי שקיבל מענקים לפנ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, לכשיגיע לגיל הזכאות לקצבה יכול לבחור בין החלת נוסחת השילוב הישנה או נוסחת השילוב החדשה ובלבד שיודיע לפ"ש בתוך </a:t>
            </a:r>
            <a:r>
              <a:rPr b="1" lang="he-IL" sz="6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he-IL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יום לאחר שהגיע לגיל הזכאות.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11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1B1-62C5-4BCB-9238-924F019F881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CAD3C76D-39E2-497B-AF91-BF7E1654F91F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70c0"/>
                </a:solidFill>
                <a:uFillTx/>
                <a:latin typeface="Calibri"/>
              </a:rPr>
              <a:t>שינוי המכפיל המרה להון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עד ערב השינוי המכפיל המרה להון עמד על 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מכפיל ההמרה להון החדש לאחר התיקון – לפיו מחשבים שווי הפטור בעת פרישה. מכפילים את סכום הפטור במכפיל השווה ל-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כלומר 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180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3,615 = 650,700 ₪ ( 2013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סכום זה ניתן למשוך מקופה הונית בהיוו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מכפיל ההמרה להון- מקדם בסיסי (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) לצורך חישוב שוויו של הפטור בגיל הפרישה.</a:t>
            </a:r>
            <a:br>
              <a:rPr sz="3000"/>
            </a:b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לדוגמה: 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1,002,240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 ש"ח = 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180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 * 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5,568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 = 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8,310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 * </a:t>
            </a:r>
            <a:r>
              <a:rPr b="1" lang="he-IL" sz="2600" spc="-1" strike="noStrike" u="sng">
                <a:solidFill>
                  <a:srgbClr val="ff0000"/>
                </a:solidFill>
                <a:uFillTx/>
                <a:latin typeface="Calibri"/>
              </a:rPr>
              <a:t>67%</a:t>
            </a:r>
            <a:br>
              <a:rPr sz="3000"/>
            </a:br>
            <a:br>
              <a:rPr sz="3000"/>
            </a:br>
            <a:r>
              <a:rPr b="1" lang="he-IL" sz="3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16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2395-34A2-439D-A965-DB2CAB91E8B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303C795-7CD8-478F-BDA2-0C9286B0D80B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יתרת ההון הפטורה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יתרת ההון הפטורה" - הסכום המתקבל מהפחתת הסכום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האמור בפסקת משנה (ב) מהסכום האמור בפסקת משנה (א):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א)סכום השווה ל-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מתקרת הקצבה המזכה כשהוא מוכפל במכפיל ההמרה להון: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ב)המענקים הפטורים כשהם צמודים למדד מהיום שבו התקבלו עד יום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בינואר בשנה שבה חל גיל הזכאות, ומוכפלים במקדם; לעניין זה, "מקדם" - סכום השווה ל-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 מתקרת הקצבה המזכה כשהוא מוכפל במכפיל ההמרה להון ומחולק בסכום המתקבל מהכפלת הסכום הפטור המרבי לכל שנת עבודה כאמור בסעיף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א)(א)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ב-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;</a:t>
            </a:r>
            <a:br>
              <a:rPr sz="2500"/>
            </a:b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"מענקים פטורים" - סכום המענקים הפטורים לפי סעיף 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500" spc="-1" strike="noStrike">
                <a:solidFill>
                  <a:srgbClr val="000000"/>
                </a:solidFill>
                <a:latin typeface="Calibri"/>
              </a:rPr>
              <a:t>א)(א) שקיבל יחיד בעד שנות עבודתו שקדמו לגיל הזכאות, 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ולא יותר מ-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32</a:t>
            </a:r>
            <a:r>
              <a:rPr b="1" lang="he-IL" sz="2500" spc="-1" strike="noStrike">
                <a:solidFill>
                  <a:srgbClr val="ff0000"/>
                </a:solidFill>
                <a:latin typeface="Calibri"/>
              </a:rPr>
              <a:t> שנות עבודה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6F5F-B925-49D6-8FE1-761B4CB1F1D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CF2D663-D6D9-4A42-B652-FACE9E7305C4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8972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דוגמא מספר 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1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ספר שנות עבוד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רש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כורתו האחרונ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5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ענק פריש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4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סיה – מקרן פנסי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ה יתרת הפטור על הקצבה לפי תיק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חדש ,ולפי נוסחת השילוב החדשה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AF07-F1E2-4485-830A-8FAC04B53C8F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7D672165-B9AA-45D5-946D-925DEBC7FBF6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70c0"/>
                </a:solidFill>
                <a:uFillTx/>
                <a:latin typeface="Calibri"/>
              </a:rPr>
              <a:t>המשך – נושא מצגת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קרן השתלמות  –  מקלט מס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קופות גמל- המשך הפקדו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הפקדות בעת הפריש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פטור על ריבית בגיל פריש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30F5-6F0A-4189-8555-BD5A514C62D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3211E8E-29A5-48C5-B85C-DDF97FD942E6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132000" y="566100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חישוב דוגמא מספר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1</a:t>
            </a:r>
            <a:r>
              <a:rPr b="0" lang="he-IL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Calibri"/>
              </a:rPr>
              <a:t>מענקים פטורים ממס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40,0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2/40 =192,0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חייב לזכור כי המענק הפטור יהיה רק על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שנים שקדמו לגיל הזכא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חישוב יתרת ההון הפטורה ממ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43.5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8,31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80 = 650,7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1" lang="he-IL" sz="4000" spc="-1" strike="noStrike">
                <a:solidFill>
                  <a:srgbClr val="ff0000"/>
                </a:solidFill>
                <a:latin typeface="Calibri"/>
              </a:rPr>
              <a:t>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בהנחה מדד ס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92,0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1.35 = 259,2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Calibri"/>
              </a:rPr>
              <a:t>א- ב =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650,7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59,2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91,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פטור קצבה =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391,500/180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= </a:t>
            </a:r>
            <a:r>
              <a:rPr b="1" lang="he-IL" sz="4000" spc="-1" strike="noStrike" u="sng">
                <a:solidFill>
                  <a:srgbClr val="000000"/>
                </a:solidFill>
                <a:uFillTx/>
                <a:latin typeface="Calibri"/>
              </a:rPr>
              <a:t>2,175</a:t>
            </a:r>
            <a:r>
              <a:rPr b="1" lang="he-IL" sz="4000" spc="-1" strike="noStrike" u="sng">
                <a:solidFill>
                  <a:srgbClr val="000000"/>
                </a:solidFill>
                <a:uFillTx/>
                <a:latin typeface="Calibri"/>
              </a:rPr>
              <a:t> 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FA6E-651F-49F1-B108-98904DF9148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F9A2BF8B-A90B-40A5-B965-7455BDADFBE3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2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- המחשת נוסחת שילוב חדש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528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 שפרש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עובד מ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ועד הפרישה קיב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0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מענק פטור עבו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תו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מלאו לו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והוא יתחיל לקבל קצבה חודשית בסך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עובד רוצה לקבל פטור על הקצבה 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35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53C3-FF97-4A0C-9C8E-05AE8581E61B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E8D27B0-FBCE-48D5-BA2F-3E9480E8A2B6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1f497d"/>
                </a:solidFill>
                <a:uFillTx/>
                <a:latin typeface="Calibri"/>
              </a:rPr>
              <a:t>כיצד מבוצע החישוב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די לחשב מהו סכום הפטור החודשי לו יהא זכאי לוקחים את גיל הזכאות 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 בניכו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ומקבלים 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די לחשב את המענקים הפטורים יש לחשב את שנות המענק הפטורים השווי 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ה. "המענק הפטור" יהיה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00,000/3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5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40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D21-CD59-4D48-83D2-E7C29188356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C5317F3-79DF-4C2E-A78E-3DF34DECD3A9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המשך דוגמא-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2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5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נמדד ל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התאם לשינוי המדד – יוצא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53,6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. (ע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כשיו נחשב הפטור שנוצל בעת הפרישה -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42,360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1.35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253,600</a:t>
            </a:r>
            <a:br>
              <a:rPr sz="30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קדם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( ראה נוסחה בתחתית השקף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מיד מכפלים במקדם לפי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3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 מזכ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80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*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8310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*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35%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he-IL" sz="3600" spc="-1" strike="noStrike">
                <a:solidFill>
                  <a:srgbClr val="ff0000"/>
                </a:solidFill>
                <a:latin typeface="Calibri"/>
              </a:rPr>
              <a:t>1.35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,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45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E6E9-AFF2-4CF6-AD90-68B48BC8DFCE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E2BBB267-21C8-4B1E-82E4-DE364C292226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1f497d"/>
                </a:solidFill>
                <a:uFillTx/>
                <a:latin typeface="Calibri"/>
              </a:rPr>
              <a:t>חישוב הפטור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 u="sng">
                <a:solidFill>
                  <a:srgbClr val="002060"/>
                </a:solidFill>
                <a:uFillTx/>
                <a:latin typeface="Calibri"/>
              </a:rPr>
              <a:t>יתרון ההון הפטור לפני הפחתה:</a:t>
            </a:r>
            <a:br>
              <a:rPr sz="3000"/>
            </a:b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641,277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*(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8190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).- מספר קבוע</a:t>
            </a:r>
            <a:br>
              <a:rPr sz="3000"/>
            </a:br>
            <a:r>
              <a:rPr b="1" lang="he-IL" sz="3000" spc="-1" strike="noStrike" u="sng">
                <a:solidFill>
                  <a:srgbClr val="002060"/>
                </a:solidFill>
                <a:uFillTx/>
                <a:latin typeface="Calibri"/>
              </a:rPr>
              <a:t>אחרי הפחתה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000"/>
            </a:b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293,878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347,399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641,277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000"/>
            </a:b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חילוק במכפיל: </a:t>
            </a: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1,633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293,878/180</a:t>
            </a: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000"/>
            </a:br>
            <a:r>
              <a:rPr b="1" lang="he-IL" sz="3000" spc="-1" strike="noStrike">
                <a:solidFill>
                  <a:srgbClr val="ff0000"/>
                </a:solidFill>
                <a:latin typeface="Calibri"/>
              </a:rPr>
              <a:t>1,633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₪ הינו הפטור החודשי לגמלאי –בהמשך יעודכן לפי המדד כל תחילת שנה ולפי השיעורים שיוגדלו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עד ל- 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67%</a:t>
            </a: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br>
              <a:rPr sz="3000"/>
            </a:br>
            <a:r>
              <a:rPr b="0" lang="he-IL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  <p:sp>
        <p:nvSpPr>
          <p:cNvPr id="250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09F9-FA78-41C5-9750-5358278F320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35B0AB5-CC2F-4F95-B2B4-874BCC890F0C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 פרש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טרם קבל קצב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 לעבוד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עב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בל מענק פריש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צבה חודשית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1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הו הפטור שיקבל על הקצבה לפי נוסחת השילוב החדשה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28BB-51E8-40F5-8ACE-E6AE0CB7512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4BA9B46-98ED-40F7-9AFE-F5FA3B26E097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1664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כיצד החישוב לאחר התיקו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גיל הזכאו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פחות </a:t>
            </a:r>
            <a:r>
              <a:rPr b="1" lang="he-IL" sz="36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שנות עבודה =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כדי לחשב את המענקים הפטורים יש לחשב את שנות המענק הפטורים השווי ל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63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שנה. "המענק הפטור" יהיה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80,000/38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80,0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נהוון לשנת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בהתאם לשינוי המדד – יוצא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84,03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₪. (ע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/1/2013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)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כשיו נחשב הפטור שנוצל בעת הפרישה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284,032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383,443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br>
              <a:rPr sz="2800"/>
            </a:b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A875-D92F-4D48-AE68-13B1DC2DBBBE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F9B20CE8-8BA3-4C9B-A601-11901DA38D05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805360"/>
            <a:ext cx="2627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חישוב הפטור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2060"/>
                </a:solidFill>
                <a:uFillTx/>
                <a:latin typeface="Calibri"/>
              </a:rPr>
              <a:t>יתרת ההון הפטור לפני הפחתה: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0,7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*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8,3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3200"/>
            </a:br>
            <a:r>
              <a:rPr b="1" lang="he-IL" sz="3200" spc="-1" strike="noStrike" u="sng">
                <a:solidFill>
                  <a:srgbClr val="002060"/>
                </a:solidFill>
                <a:uFillTx/>
                <a:latin typeface="Calibri"/>
              </a:rPr>
              <a:t>אחרי הפחתה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67,25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383,44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0,7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חילוק במכפיל: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,48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267,257/180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1,48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הינו הפטור החודשי לגמלאי –בהמשך יעודכן לפי המדד ולפי השיעורים שיוגדלו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ד ל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5ADE-489F-44B1-87A3-0916A74889A5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3D20278-D4F9-4149-A484-FD23123056E5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8972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ת פרשה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קופה הצטברו לה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,00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צבה צפויה לפי מקדם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,52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שכה פיצויים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לף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דד ביום המשיכ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דד ביום החישוב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מה הפטור על הקצבה לפי תיקון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190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DC3D-A476-4678-B4D2-CD97F992B0D7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9213FA9-0D8A-41FE-A6B6-02593586BE57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58972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1f497d"/>
                </a:solidFill>
                <a:uFillTx/>
                <a:latin typeface="Calibri"/>
              </a:rPr>
              <a:t>דרך פעולה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חישוב יתרת ההון הפטור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8,310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650,700</a:t>
            </a:r>
            <a:r>
              <a:rPr b="1" lang="he-IL" sz="40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קיזוז המענק ממודד =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160/10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320</a:t>
            </a:r>
            <a:r>
              <a:rPr b="1" lang="he-IL" sz="2800" spc="-1" strike="noStrike">
                <a:solidFill>
                  <a:srgbClr val="000000"/>
                </a:solidFill>
                <a:latin typeface="Calibri"/>
              </a:rPr>
              <a:t> אלף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וכפל במקדם – פגיעה מענק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2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.35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32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אלף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650,7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32,0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18,7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חלוקה במקדם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18,7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,215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קצבה חייבת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9,523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,215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8,308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DE6-41A7-4564-A82F-404CFB7C34F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36B6B82-7A41-457F-A283-1E78DEAC1ED1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68360" y="5805360"/>
            <a:ext cx="26272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00040"/>
            <a:ext cx="79531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0000ff"/>
                </a:solidFill>
                <a:uFillTx/>
                <a:latin typeface="Calibri"/>
                <a:cs typeface="Aharoni"/>
              </a:rPr>
              <a:t>סל הפרישה-קבוצה חד פעמ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55640" y="1844640"/>
            <a:ext cx="80200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haroni"/>
              </a:rPr>
              <a:t>פיצויים – מענק חד פעמי- סכום הוני –מענק 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haroni"/>
              </a:rPr>
              <a:t>מענק מחלה – לעובדי שירות המדינה - פדיו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haroni"/>
              </a:rPr>
              <a:t>מענק הסתגלות- תשלום חד פעמ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  <a:cs typeface="Aharoni"/>
              </a:rPr>
              <a:t>מענקי פרישה מיוחדים- 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ea typeface="Aharoni"/>
              </a:rPr>
              <a:t>2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ea typeface="Aharoni"/>
              </a:rPr>
              <a:t> לחוק הגמלאות,פרישה לפני 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ea typeface="Aharoni"/>
              </a:rPr>
              <a:t>6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  <a:ea typeface="Aharon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המס ניתן לתכנון על ידי הפורש –יש אפשרויות לחסוך באופן מהותי את חבות המס – חליפה לכול פור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810F-9DF2-411D-B70A-FD72FF3339B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08AE34A-C96F-456E-8821-C832C572C539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132000" y="566100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6600" spc="-1" strike="noStrike" u="sng">
                <a:solidFill>
                  <a:srgbClr val="1f497d"/>
                </a:solidFill>
                <a:uFillTx/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רישה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וקבלת מענק פטור בסך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בגי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.</a:t>
            </a: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תחיל לקבל קצבה חודשית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יש לחשב את הפטור על הקצבה לאחר תיקון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E36E-AB82-4665-84AF-570F8E34F35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59FC07D-C635-4F8C-B98D-C6F757535A43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4000" y="566100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משך הסבר דוגמא-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5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בל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ע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,יש להתאים ל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32 = 384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צמדה למדד ליום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1/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בהנחה מד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כפלה במקדם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84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1.35 = 518,4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רת – הון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0,7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*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8,31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0,700-518,4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32,3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73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25C3-D8CB-4F6F-B6B2-83BCAFA928CA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CDF47965-96BB-4239-AC81-0978B135F898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6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 חדשה מול ישנה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רישה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4/0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כר אחרון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6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,מענק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5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זכאי לקצבה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יט לדחות קבלת הקצבה ל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יום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4/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הנחה כי המד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A699-5B68-461D-9868-7AF25625B59E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2B7B7C6-5273-4E46-B1C7-308B43DA3243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445000"/>
            <a:ext cx="26272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דוגמא 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6</a:t>
            </a:r>
            <a:r>
              <a:rPr b="1" lang="he-IL" sz="54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פי הנוסחה החדשה – גיל זכאות יהיה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גיל הפרישה -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גיל זכאו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/ המאוחר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שאי לבחור נוסחת שילוב ישנה או חדשה תוך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ום ממועד הזכאות (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כן נבדוק א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אפשרויות העומדות בפני הפורש גם בנוסחה החדשה וגם בישנה ונבחר את האפשרות הטובה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1185-1255-4383-8DD4-4A7FADCA2D38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7D663450-46C4-4F96-9EE9-B1DB72ABB210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445000"/>
            <a:ext cx="26272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נוסחה חדשה / דוגמא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ענקים פטורים רק ל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ים שקדמו לגיל הזכאות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4/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ע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4/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כן מענקים פטורים יהיו ע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4/0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4/8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רת פיצויים ב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,2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י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,220 = 275,9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0199-3D24-4101-9393-B853B3A6B3DB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81A1092-784A-472B-9FBE-99052DD12FD2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5445000"/>
            <a:ext cx="26272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המשך דוגמא 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6</a:t>
            </a:r>
            <a:r>
              <a:rPr b="1" lang="he-IL" sz="4400" spc="-1" strike="noStrike" u="sng">
                <a:solidFill>
                  <a:srgbClr val="1f497d"/>
                </a:solidFill>
                <a:uFillTx/>
                <a:latin typeface="Calibri"/>
              </a:rPr>
              <a:t>/נוסחה חדשה </a:t>
            </a:r>
            <a:r>
              <a:rPr b="0" lang="he-IL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יתרת ההון הפטורה ממ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8,31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 = 650,7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3200" spc="-1" strike="noStrike">
                <a:solidFill>
                  <a:srgbClr val="ff0000"/>
                </a:solidFill>
                <a:latin typeface="Calibri"/>
              </a:rPr>
              <a:t>₪ </a:t>
            </a:r>
            <a:r>
              <a:rPr b="1" lang="he-IL" sz="4400" spc="-1" strike="noStrike">
                <a:solidFill>
                  <a:srgbClr val="ff0000"/>
                </a:solidFill>
                <a:latin typeface="Calibri"/>
              </a:rPr>
              <a:t>( א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75,94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1.35 = 372,51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1" lang="he-IL" sz="4400" spc="-1" strike="noStrike">
                <a:solidFill>
                  <a:srgbClr val="ff0000"/>
                </a:solidFill>
                <a:latin typeface="Calibri"/>
              </a:rPr>
              <a:t>( ב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א- ב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50,700-372,519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78,181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יתרת הפטור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78,181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,54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פטור קצבה לפי נוסחה חדשה –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1,545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קצבה חייבת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9,000-1,54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7,455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F22-F0AC-4372-AB8F-9F7D44CA6404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FDBBA78-7E5D-454F-AF76-8E971CE405EF}" type="datetime10">
              <a:rPr b="0" lang="he-IL" sz="1200" spc="-1" strike="noStrike">
                <a:solidFill>
                  <a:srgbClr val="898989"/>
                </a:solidFill>
                <a:latin typeface="Arial"/>
              </a:rPr>
              <a:t>09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יורם אזרד יועץ מס ופרישה - כל הזכויות שמורו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627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יוון קצב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הוון קצבה בעת הפרישה(בגיל פרישה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עור היוון מרבי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הקצב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ופת היוון מרבית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ים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7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חוד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בקש היוון – עד שנתיים מיום ה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ן דרך לחזור מהבחי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המקבל נפטר במהלך ההיוון – נמח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פטור לפי 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א – לפני הסכום לפני ההיוון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30A2-D3C1-4092-93C2-DDBEBBB88BB0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1384CCB-1EA7-4D38-A394-85551C0997D7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52280" y="152280"/>
            <a:ext cx="232272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המשך היוו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חישוב של ההיוון –לפי לוח אקטואר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מידה ויש עדכון הפנסיה – ההחזר מתעדכן- גוד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שיעור הרבית – כ-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7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בשנ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תאים למשפחה – שאין שארים מומלץ לבקש היוו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יתן לבצע פריסה על היוון חיי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כוחות הביטחון – ניתן לבצע היוון גם ולא הגיע לגיל פריש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יוון פטור ממס – עד הקצבה המזכה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35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FF1-B2BE-44B6-A686-4566998DE9F6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D83A070B-3C36-42B0-9C32-59CFCC138C31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רצף פיצויים(רצף מעסיקי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יתן לבקש באמצעות 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א – רצף פיצוי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ומלץ למי שפורש ומתחיל לעבוד – שכר גבוהה יות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תנאי לרצף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א. עד שנה מיום הפרישה החל לעבוד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.כספי הפיצויים הופקדו / לא נמשכו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ג. המעביד החדש מפקיד לקופה החדש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דחיית תשלום המס – חישוב סופי יבוצע רק בסיום העבודה אצל המעסיק האחרו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לפי שכרו אצל המעסיק האחרון + תקרה ביום הסיו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ניתן לחזור מרצף עד שנתיים מיום העזיב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B23D-6E2A-4ECA-946F-D68F2AB73A3C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BF97B76-80DC-43C3-B099-83AF56473DF6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הפקדה ברצף פיצויי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הפקיד לרצף פיצויים את הסכומים הבא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שכורת אחרונה * מספר שנות 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נוסף ניתן להפקי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פעמים השכר הממוצע  במשק כ-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,31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לכל שנת עבודה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ומלץ לעובד שמקבל כספים בעת עזיבה להפקדה על מנת לדחות  את אירוע המ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רצף פיצויים – תקופה לצורך פרי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95D1-EB6D-4F23-860F-89C11446D70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B6AAE67-0AD2-40F8-A5F1-03CCA93F601B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0000ff"/>
                </a:solidFill>
                <a:uFillTx/>
                <a:latin typeface="Calibri"/>
                <a:cs typeface="Aharoni"/>
              </a:rPr>
              <a:t>סל הפרישה-קבוצה חד שנתיו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557000"/>
            <a:ext cx="7837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פדיון חופשה לעוזב- יתרה בלתי מנוצל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הבראה – תשלום יחס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ביטוחי רכב- תשלום יחסי לרוב בחודש ינוא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ביגוד- חד פעמ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מענק יובלות- תשלום חד פעמ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ספרות מקצועי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Calibri"/>
                <a:cs typeface="Aharoni"/>
              </a:rPr>
              <a:t>תשלומים אלה ניתנים לעובד בחודש עבודתו האחרון –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  <a:cs typeface="Aharoni"/>
              </a:rPr>
              <a:t>ניתן להגיש דוח שנתי ולקבל החזרי מס ששולמו בעזיב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9798-A7C8-4137-8427-A8510093576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4E6BC9E-C56F-40DE-9603-B8CD3E66E8C6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132000" y="566100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טפסים בעזיב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– הודעת מעביד – פרישה (חובה על המעסיק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טופס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6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א – הודעת עובד על פרישה (חובה על העובד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אמצעות טופס זה העובד מבקש מרשויות המ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 פטור על המענקים- לפי סעיף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) (א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פטור על קצבה- סעיף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 רצף קצבה – לביטוחים במסלול קצב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.רצף פיצויים – אין משיכת פיצויי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,היוון קצבה  - קבלת פטו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FC58-1E6D-4C50-8BAF-FE904662669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B363496-F549-472D-90B8-785BE7827D10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קרן השתלמות</a:t>
            </a:r>
            <a:r>
              <a:rPr b="1" lang="en-US" sz="6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ניתן למשוך ב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בתנאי שהגיע לגיל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לפחו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קרן בת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שנים מינימו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קלט מס- לא תמיד מומלץ למשו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ניתן לנייד – לקופת פנסיה- קצבה פטו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ניתן לגרור ותק מקרן ותיקה לחדש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אין יותר אפשרות להפקי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8A05-B4BA-46A8-AEAE-C38A96D0DF0D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CD4DBA13-0F43-4D5F-8D8C-D5BD80B566BE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קופות גמל – הוניו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משוך כספים ע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1/12/0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פחו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ות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וגי קופות עד 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 מ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רק קצבה לא משלמ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ספים ע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1/12/06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– ניתן למשוך לאחר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חסכון – קופות עצמאיות בל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3224-F58E-463C-B76B-4B7437CE345B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41A7E2EE-1F56-4AF1-9388-A67CA93CB970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פטור על ריבית לפי סעיף 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125</a:t>
            </a: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 ד</a:t>
            </a:r>
            <a:r>
              <a:rPr b="1" lang="he-IL" sz="4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יים פטור על הכנסות מריבית בגיל פריש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קרה מוטבת –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61,560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מיעוטי הכנסה-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9,6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 בשנה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ד(ב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טור גיל פרישה ליחיד-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3,2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ד(ג)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טור גיל פרישה לזוג-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6,2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ד(ג)(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טור מרב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לפי סעיף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ה-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34,902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1A61-2C51-498A-9F6F-E6F99B537A6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0A955BA-96FA-428D-AFAC-6D368FD48616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נוסחת השילוב –מענק משולב קצבה</a:t>
            </a:r>
            <a:br>
              <a:rPr sz="3600"/>
            </a:b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ישנה עד </a:t>
            </a:r>
            <a:r>
              <a:rPr b="1" lang="he-IL" sz="3600" spc="-1" strike="noStrike" u="sng">
                <a:solidFill>
                  <a:srgbClr val="0000ff"/>
                </a:solidFill>
                <a:uFillTx/>
                <a:latin typeface="Calibri"/>
              </a:rPr>
              <a:t>31/12/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6920" y="1557360"/>
            <a:ext cx="7777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ל פי פקודת מס הכנסה ניתן לשלב קצבה ומענ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ידוע הפטור לאחד מהמסלול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יתן לתכנן מסלול מותאם לפור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כוונת המחוקק שלא יקבל הפורש פטור כפול גם על המענק ע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2,12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לכול שנת עבודה ,וגם פטור על הקצבה לפי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43.5%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מתוך הקצבה המזכ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8,3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כן יש אפשרות שילוב- תוצג בשקף הבא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62F3-6DF8-4199-A4AF-6D1A92EB588C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F6FA910-E179-4B25-8E84-8D94D594E5CB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3736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עקרון השילוב- נוסחה ישנ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סך המענק / למספר שנים-  עד תקרה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2,12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סך קצבה בפועל – עד מקסימום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8,31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סכום הכולל -  חיבור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הסכומי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קיזוז הקצבה המזכה – תמיד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8,31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תוצאה המתקבלת – הפרש חיובי/ שליל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כאשר ההפרש שלילי – גם המענק /קצבה –פטור ממ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כאשר ההפרש חיובי- יש לבחור היכן לפגוע קצבה או מענק או לחילופין שילו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38FE-7CCC-45D2-97A9-8002A1B9FD86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CD43A4A9-1439-4A2D-9EB1-C3726433101C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כיצד לחשב פגיעה בפטור</a:t>
            </a:r>
            <a:r>
              <a:rPr b="0" lang="he-I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פגיעה בקצב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ההפרש החיוב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 הקצב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       הסכום הכול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תוצאה המתקבלת = הקטנת הפטור על הקצב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כול המענק פטור עד תקר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פגיעה במענ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הפרש החיובי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מספר שנות עבודה= מענק חיי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גם במקרה זה מענק חייב זה יכול הפורש לבקש פריס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קצבה פטורה עד תקר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D3E3-818D-40C7-A63D-DDF0B11624D5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F10ABC3E-F0E9-42FF-A212-EBD2CB9CE573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דוגמא – נוסחת השילוב- ישנ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ובד פרש בגי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בל מענק פרישה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80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צבה חודשית ש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בד סך הכול –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שנות 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בקש לקבל את הפטור על אחד מהחלופו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על המענק – שכר אחרון / תקרה הנמו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צבה –  קצבה  בפועל / קצבה מזכה - הנמוך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A431-E7B4-4699-BDEA-BEAAB46FF959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61A9E4FB-CAB2-468A-80E1-5E76F1948367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הצבת הנתונים על נוסחת השילו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מענק / מספר שנות עבודה =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6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קצבה / קצבה מזכה  =        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6,000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₪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הסכום הכולל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+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=            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2,000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קצבה מזכה תקרה =            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8,310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. הפרש חיובי 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=                   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,69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לכן חייב לבחור פגיעה במענק או בקצבה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5800-46E1-4B83-841E-01783C77E08A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33739A57-1314-4770-AE91-B02C5DBCB487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נוסחת השילו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פגיעה בקצב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 u="sng">
                <a:solidFill>
                  <a:srgbClr val="000000"/>
                </a:solidFill>
                <a:uFillTx/>
                <a:latin typeface="Calibri"/>
              </a:rPr>
              <a:t>קצבה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Calibri"/>
              </a:rPr>
              <a:t>הפרש חיוב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       סכום כולל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 u="sng">
                <a:solidFill>
                  <a:srgbClr val="000000"/>
                </a:solidFill>
                <a:uFillTx/>
                <a:latin typeface="Calibri"/>
              </a:rPr>
              <a:t>6000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Calibri"/>
              </a:rPr>
              <a:t> 3,690 = 1,84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     ,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הקטנת הפטור- במקום לקבל פטור של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2,100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  פטור רק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255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פטור קצבה - </a:t>
            </a:r>
            <a:r>
              <a:rPr b="0" lang="he-IL" sz="1800" spc="-1" strike="noStrike">
                <a:solidFill>
                  <a:srgbClr val="000000"/>
                </a:solidFill>
                <a:latin typeface="Calibri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2100</a:t>
            </a:r>
            <a:r>
              <a:rPr b="0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 / 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1,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כל המענק 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180,000</a:t>
            </a: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 פטור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פגיעה במענ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היו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180,000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פטורי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הפרש חיוב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מספר השני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 u="sng">
                <a:solidFill>
                  <a:srgbClr val="000000"/>
                </a:solidFill>
                <a:uFillTx/>
                <a:latin typeface="Calibri"/>
              </a:rPr>
              <a:t>3,690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30 = 110,7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מענק חייב-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1110,700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מענק פטור-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69,300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ניתן לבצע – פריסה-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שני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במקרה זה כול הקצבה פטור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6,000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*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35%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2,100</a:t>
            </a:r>
            <a:r>
              <a:rPr b="0" lang="he-IL" sz="2000" spc="-1" strike="noStrike">
                <a:solidFill>
                  <a:srgbClr val="000000"/>
                </a:solidFill>
                <a:latin typeface="Calibri"/>
              </a:rPr>
              <a:t> פטור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D7D8-0D52-4075-AA64-CBD2A7EC13D6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E84BD2F3-5AA8-45F9-BEB5-0D7C64782E9D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טיפול מיסוי – קבוצה 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לפי סעיף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) (א) – יש פטור ממס עד תקר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סך הפטור הנמוך מבין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משכורת אחרונה ברוטו / תקרת הפטור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12,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התוצאה המתקבלת מוכפלת במספר שנות העבודה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ניתן להכליל את כול המוצרים כגון : מחלה,הסתגלות,מענקי פריש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e-IL" sz="3200" spc="-1" strike="noStrike" u="sng">
                <a:solidFill>
                  <a:srgbClr val="ff0000"/>
                </a:solidFill>
                <a:uFillTx/>
                <a:latin typeface="Calibri"/>
              </a:rPr>
              <a:t>חשוב לציין משכורת אחרונה ולא שכר לפיצוי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CF15-B1C2-41AD-9305-AE1342ACF3D2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AA768041-E27D-4D17-BC0D-8D1511771B3D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66100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קבלת מענק- קצבה לאחר </a:t>
            </a: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15</a:t>
            </a:r>
            <a:r>
              <a:rPr b="1" lang="he-IL" sz="4000" spc="-1" strike="noStrike" u="sng">
                <a:solidFill>
                  <a:srgbClr val="0000ff"/>
                </a:solidFill>
                <a:uFillTx/>
                <a:latin typeface="Calibri"/>
              </a:rPr>
              <a:t> שנים</a:t>
            </a:r>
            <a:r>
              <a:rPr b="1" lang="he-IL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קיימת הוראה בפקודה – כול מי שקבל מענק וחלפו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Calibri"/>
              </a:rPr>
              <a:t>1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ים מיום קבלת המענק עד קבלת הקצב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בתוך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השנים הראשונות – אין פטור על הקצב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מקבלים את הפטור על הקצבה- רק מהשנה ה-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החל משנה השישית עד שנה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יש להוריד בנוסחת השילוב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מהמענ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לאחר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ים =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 שנים – </a:t>
            </a: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Calibri"/>
              </a:rPr>
              <a:t>ואז ההפרש החיובי בנוסחת השילוב יקט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8618-8C18-43C1-8A6A-82E55633DE03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8DD74254-8AAB-4318-A605-0310BDAF6B1C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859880" cy="114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70c0"/>
                </a:solidFill>
                <a:uFillTx/>
                <a:latin typeface="Calibri"/>
              </a:rPr>
              <a:t>תודה רבה על ההקשב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38080" y="2362320"/>
            <a:ext cx="769464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כול פורש חייב להתייעץ בעת הפריש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לקבל ייעוץ מיועץ פריש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יורם אזרד  –   יועץ מס ופרישה .פגישה אישי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פגישה – ייעוץ ותכנון – מומחה לסוגיות פרי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ט.ל.ח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אין להעתיק תוכן מצגת זאת ללא רשות הכותב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000000"/>
                </a:solidFill>
                <a:latin typeface="Calibri"/>
              </a:rPr>
              <a:t>כול הזכויות שמורות – יורם אזרד יועץ מס ופריש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704D-404B-4AA2-9B81-757CE4004B6A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5E9FBEF3-E3A3-427D-A701-17443B791114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276720" y="5732640"/>
            <a:ext cx="232236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 u="sng">
                <a:solidFill>
                  <a:srgbClr val="0070c0"/>
                </a:solidFill>
                <a:uFillTx/>
                <a:latin typeface="Calibri"/>
                <a:cs typeface="Aharoni"/>
              </a:rPr>
              <a:t>דוגמא - פיצויי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תקופת עבודה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שנים ( פריש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/10/12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שכורת אחרונה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14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ענקים – מענק פרישה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00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פדיון ימי מחלה-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200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מענק הסתגלות –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50,000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העובד בן 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67</a:t>
            </a: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אין לעובד פנסיה או קצבה ( בשלב זה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7D9D-2A11-4A5A-AA54-E27263EEB1AF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B4C7AAF8-963A-48CE-BA44-B1C43E1FA95A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32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לך חישוב המס-ביטוח לאומ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00000" y="1773360"/>
            <a:ext cx="373392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ביטוח לאומ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כול התשלום פטו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אין חיוב בדמי ביטוח לאומי ובריאו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Calibri"/>
              </a:rPr>
              <a:t>ללא תק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55960" y="1700280"/>
            <a:ext cx="363204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ff"/>
                </a:solidFill>
                <a:uFillTx/>
                <a:latin typeface="Calibri"/>
              </a:rPr>
              <a:t>מס –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סך התשלום- 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450,00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אלף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ff0000"/>
                </a:solidFill>
                <a:uFillTx/>
                <a:latin typeface="Calibri"/>
              </a:rPr>
              <a:t>12,12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4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12,120= 363,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חייב- 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86,400</a:t>
            </a:r>
            <a:r>
              <a:rPr b="1" lang="he-IL" sz="2400" spc="-1" strike="noStrike">
                <a:solidFill>
                  <a:srgbClr val="ff0000"/>
                </a:solidFill>
                <a:latin typeface="Calibri"/>
              </a:rPr>
              <a:t> 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Calibri"/>
              </a:rPr>
              <a:t>כיצד לחייב במס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מציין מיקום של תאריך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EBBB-8E96-47F1-AB89-9E75D59BE39C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E7BA1F79-8070-40F3-97C1-0E68BB1EF71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מציין מיקום של כותרת תחתונה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348000" y="558972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הדרכים והאפשרויות לתשלום המ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. תשלום מס לפי המס השולי של העובד( לרוב המס גבוהה יותר) מס מוחלט ללא אפשרות לקיזו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.פריסת החלק החייב – למספר ש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ג. רצף פיצויים ,רצף קצבה ,אי משיכה היו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לרוב הפריסה כדאית – תכנון מס לפור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Calibri"/>
              </a:rPr>
              <a:t>תכנון מס ,קבלת פטורים ,שיעורי מס מופחתי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58E0-BEA7-448F-B02F-60438B06BBD1}" type="datetime">
              <a:rPr b="0" lang="he-I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744EB72B-1446-4CB3-9C5A-D3F508EAC832}" type="datetime12">
              <a:rPr b="0" lang="he-IL" sz="1200" spc="-1" strike="noStrike">
                <a:solidFill>
                  <a:srgbClr val="898989"/>
                </a:solidFill>
                <a:latin typeface="Arial"/>
              </a:rPr>
              <a:t>0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Arial"/>
              </a:rPr>
              <a:t>כול הזכויות שמורות –יורם אזרד יועץ פרישה ומ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348000" y="5589720"/>
            <a:ext cx="232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7:29:48Z</dcterms:created>
  <dc:creator>xp</dc:creator>
  <dc:description/>
  <dc:language>en-US</dc:language>
  <cp:lastModifiedBy>Atidot</cp:lastModifiedBy>
  <dcterms:modified xsi:type="dcterms:W3CDTF">2013-01-14T21:24:55Z</dcterms:modified>
  <cp:revision>140</cp:revision>
  <dc:subject/>
  <dc:title>אזרד יורם – יועץ מס מומחה למיסוי פרישה</dc:title>
</cp:coreProperties>
</file>