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90E-D0E8-4294-8A40-4A3F1DA3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6ABA-3470-460D-9275-B9222E22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D69-B6C7-4AF6-A154-9A35CFA2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F17B-FC2F-4FA2-BF88-D364DBB2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D506-D3A3-4E42-9C4E-8D156B6F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6D60-D625-47F5-A1D1-B4AFDF13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5FC5-037F-4ECF-A428-BE06936E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EBB8-C996-4C52-B4C1-94F23D02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D19E-1C68-4A49-AC49-8761720F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A577-2D7A-45E0-9DB9-7528D9E1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E455-1BD6-4014-812B-C790099C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9F96-7E91-4C9D-8C6C-3E041984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433D-B51C-4C95-B53C-34EB8AC9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414D-D8AE-4E23-8D7E-4DD77F62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D0A8-2A06-46EC-8FE0-6073C68B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8919-98DF-4365-AAA9-0AE0D9C1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0336-BA6C-493A-9151-E911E8A2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AAE0-0F25-49CF-A536-7480B25F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7D4-002B-4927-AD77-6988E26E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67E3-CA6C-497C-ADF5-0A94B856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8D5-5A50-43CF-BEF0-B07EDEBC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FC96-10C8-4940-9B35-F737C9B3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C3A-9261-45AF-8BE4-0E66DBCF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1A4-DA29-4D7C-9248-9ECEE57E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0D34-8545-4E0E-A39B-65BC5B8DF873}" type="datetime">
              <a:rPr b="0" lang="he-IL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A7B9478C-2ABF-45A4-8D7D-DDC6B1A90D6C}" type="datetime12">
              <a:rPr b="0" lang="he-IL" sz="1200" spc="-1" strike="noStrike">
                <a:solidFill>
                  <a:srgbClr val="898989"/>
                </a:solidFill>
                <a:latin typeface="Times New Roman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Times New Roman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7A02-770C-4D42-86D8-4355C6E90838}" type="slidenum">
              <a:rPr b="0" lang="he-I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05DF-3D49-4624-892D-59D69DB06B82}" type="datetime">
              <a:rPr b="0" lang="he-IL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4945A7A6-0737-446D-A3AE-1ACCC09E8648}" type="datetime12">
              <a:rPr b="0" lang="he-IL" sz="1200" spc="-1" strike="noStrike">
                <a:solidFill>
                  <a:srgbClr val="898989"/>
                </a:solidFill>
                <a:latin typeface="Times New Roman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Times New Roman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285480"/>
            <a:ext cx="8604360" cy="26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he-IL" sz="3700" spc="-1" strike="noStrike" u="sng">
                <a:solidFill>
                  <a:srgbClr val="0070c0"/>
                </a:solidFill>
                <a:uFillTx/>
                <a:latin typeface="Calibri"/>
                <a:cs typeface="David"/>
              </a:rPr>
              <a:t>אזרד יורם יועץ מס ופרישה</a:t>
            </a:r>
            <a:br>
              <a:rPr sz="3700"/>
            </a:br>
            <a:r>
              <a:rPr b="1" lang="he-IL" sz="3700" spc="-1" strike="noStrike" u="sng">
                <a:solidFill>
                  <a:srgbClr val="0070c0"/>
                </a:solidFill>
                <a:uFillTx/>
                <a:latin typeface="Calibri"/>
                <a:cs typeface="David"/>
              </a:rPr>
              <a:t>מומחה למיסוי פרישה</a:t>
            </a:r>
            <a:br>
              <a:rPr sz="3700"/>
            </a:br>
            <a:r>
              <a:rPr b="1" lang="he-IL" sz="3700" spc="-1" strike="noStrike" u="sng">
                <a:solidFill>
                  <a:srgbClr val="0070c0"/>
                </a:solidFill>
                <a:uFillTx/>
                <a:latin typeface="Calibri"/>
                <a:cs typeface="David"/>
              </a:rPr>
              <a:t>שנת </a:t>
            </a:r>
            <a:r>
              <a:rPr b="1" lang="he-IL" sz="3700" spc="-1" strike="noStrike" u="sng">
                <a:solidFill>
                  <a:srgbClr val="0070c0"/>
                </a:solidFill>
                <a:uFillTx/>
                <a:latin typeface="Calibri"/>
                <a:ea typeface="David"/>
              </a:rPr>
              <a:t>2020</a:t>
            </a: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8648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70c0"/>
                </a:solidFill>
                <a:latin typeface="Calibri"/>
              </a:rPr>
              <a:t>הרב קוק </a:t>
            </a:r>
            <a:r>
              <a:rPr b="1" lang="he-IL" sz="20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he-IL" sz="2000" spc="-1" strike="noStrike">
                <a:solidFill>
                  <a:srgbClr val="0070c0"/>
                </a:solidFill>
                <a:latin typeface="Calibri"/>
              </a:rPr>
              <a:t> קומה </a:t>
            </a:r>
            <a:r>
              <a:rPr b="1" lang="he-IL" sz="2000" spc="-1" strike="noStrike">
                <a:solidFill>
                  <a:srgbClr val="0070c0"/>
                </a:solidFill>
                <a:latin typeface="Calibri"/>
              </a:rPr>
              <a:t>4</a:t>
            </a:r>
            <a:r>
              <a:rPr b="1" lang="he-IL" sz="2000" spc="-1" strike="noStrike">
                <a:solidFill>
                  <a:srgbClr val="0070c0"/>
                </a:solidFill>
                <a:latin typeface="Calibri"/>
              </a:rPr>
              <a:t> משרד </a:t>
            </a:r>
            <a:r>
              <a:rPr b="1" lang="he-IL" sz="2000" spc="-1" strike="noStrike">
                <a:solidFill>
                  <a:srgbClr val="0070c0"/>
                </a:solidFill>
                <a:latin typeface="Calibri"/>
              </a:rPr>
              <a:t>415</a:t>
            </a:r>
            <a:r>
              <a:rPr b="1" lang="he-IL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70c0"/>
                </a:solidFill>
                <a:latin typeface="Calibri"/>
              </a:rPr>
              <a:t>ירושלי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70c0"/>
                </a:solidFill>
                <a:latin typeface="Calibri"/>
              </a:rPr>
              <a:t>02-5357477</a:t>
            </a:r>
            <a:r>
              <a:rPr b="1" lang="he-IL" sz="2000" spc="-1" strike="noStrike">
                <a:solidFill>
                  <a:srgbClr val="0070c0"/>
                </a:solidFill>
                <a:latin typeface="Calibri"/>
              </a:rPr>
              <a:t>- נייד </a:t>
            </a:r>
            <a:r>
              <a:rPr b="1" lang="he-IL" sz="2000" spc="-1" strike="noStrike">
                <a:solidFill>
                  <a:srgbClr val="0070c0"/>
                </a:solidFill>
                <a:latin typeface="Calibri"/>
              </a:rPr>
              <a:t>052-380834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 u="sng">
                <a:solidFill>
                  <a:srgbClr val="0070c0"/>
                </a:solidFill>
                <a:uFillTx/>
                <a:latin typeface="Calibri"/>
              </a:rPr>
              <a:t>כול הזכויות שמורות© ׂׂ –יורם אזר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 u="sng">
                <a:solidFill>
                  <a:srgbClr val="0070c0"/>
                </a:solidFill>
                <a:uFillTx/>
                <a:latin typeface="Calibri"/>
              </a:rPr>
              <a:t>אין להעתיק מצגת זאת ללא אישו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1F32-74A8-43CE-A7C8-5DD482836854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58BA980D-B86F-4F43-925F-7563CE3383A2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627280" y="2860560"/>
            <a:ext cx="360036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 u="sng">
                <a:solidFill>
                  <a:srgbClr val="0070c0"/>
                </a:solidFill>
                <a:uFillTx/>
                <a:latin typeface="Calibri"/>
                <a:cs typeface="Aharoni"/>
              </a:rPr>
              <a:t>דוגמא- א - פיצויי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תקופת עבודה -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שנים ( פרישה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1/01/19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משכורת אחרונה -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10,000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פדיון ימי מחלה-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150,000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שנים עודפות -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שנים =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50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העובד בן/ת 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62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מה עושים ???????????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6FF1-A38F-4C3F-A572-AE5AA0AD4158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EF1E14A3-F91E-4D33-AE2C-A87C2D8BE778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מהלך חישוב המס-וביטוח לאומ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00000" y="1773360"/>
            <a:ext cx="373392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ff"/>
                </a:solidFill>
                <a:uFillTx/>
                <a:latin typeface="Calibri"/>
              </a:rPr>
              <a:t>ביטוח לאומ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כול התשלום פטו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אין חיוב בדמי ביטוח לאומי ובריאו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ללא תקר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גם פדיון חופשה פטו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755960" y="1700280"/>
            <a:ext cx="363204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ff"/>
                </a:solidFill>
                <a:uFillTx/>
                <a:latin typeface="Calibri"/>
              </a:rPr>
              <a:t>מס –הכנס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סך התשלום-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אלף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ff0000"/>
                </a:solidFill>
                <a:uFillTx/>
                <a:latin typeface="Calibri"/>
              </a:rPr>
              <a:t>12,42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/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10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10,000= 400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מקבל בפועל  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200,000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היות והתקבול נמוך מהתקרה כול המענקים פטורים ממס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חשוב לציין בהמשך כי פטור זה יקטין פטור פנסיה בהמשך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מציין מיקום של תאריך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FAAD-E450-4531-9411-0F5A7FDACE54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D4C97C73-CF16-4752-B263-F4897353F834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מציין מיקום של כותרת תחתונה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50920" y="623736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 u="sng">
                <a:solidFill>
                  <a:srgbClr val="0070c0"/>
                </a:solidFill>
                <a:uFillTx/>
                <a:latin typeface="Calibri"/>
                <a:cs typeface="Aharoni"/>
              </a:rPr>
              <a:t>דוגמא- ב - פיצויי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תקופת עבודה -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שנים ( פרישה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30/09/18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משכורת אחרונה -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16,000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פדיון ימי מחלה-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200,000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מענק מיוחד הסתגלות =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50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מענק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2.33%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פיצויים=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240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העובד בן/ת 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62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מה עושים ???????????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E99A-FE21-40A9-9678-A0BF3AC92EA7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A4077B46-5D12-4AE9-B77C-A08A9201EC89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מהלך חישוב המס-וביטוח לאומ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0000" y="1773360"/>
            <a:ext cx="373392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ff"/>
                </a:solidFill>
                <a:uFillTx/>
                <a:latin typeface="Calibri"/>
              </a:rPr>
              <a:t>ביטוח לאומ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כול התשלום פטו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אין חיוב בדמי ביטוח לאומי ובריאו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ללא תקר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755960" y="1700280"/>
            <a:ext cx="363204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ff"/>
                </a:solidFill>
                <a:uFillTx/>
                <a:latin typeface="Calibri"/>
              </a:rPr>
              <a:t>מס –הכנס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סך התשלום-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490,00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אלף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ff0000"/>
                </a:solidFill>
                <a:uFillTx/>
                <a:latin typeface="Calibri"/>
              </a:rPr>
              <a:t>12,42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/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16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12,420= 372,6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חייב- 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117,400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כיצד לחייב במס 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מציין מיקום של תאריך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FA18-ACF5-4DB3-93F9-81BA2A5AB749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FF66A8F0-D00F-435F-8147-1784F01135B2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מציין מיקום של כותרת תחתונה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3348000" y="5589720"/>
            <a:ext cx="23227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70c0"/>
                </a:solidFill>
                <a:uFillTx/>
                <a:latin typeface="Calibri"/>
                <a:cs typeface="Arial"/>
              </a:rPr>
              <a:t>אלו דרכים והאפשרויות עומדות בפני העובד ?</a:t>
            </a:r>
            <a:br>
              <a:rPr sz="3200"/>
            </a:br>
            <a:r>
              <a:rPr b="1" lang="he-IL" sz="3200" spc="-1" strike="noStrike" u="sng">
                <a:solidFill>
                  <a:srgbClr val="0070c0"/>
                </a:solidFill>
                <a:uFillTx/>
                <a:latin typeface="Calibri"/>
                <a:cs typeface="Arial"/>
              </a:rPr>
              <a:t>מה לבקש אצל פקיד המס 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א. תשלום מס לפי המס השולי של העובד( לרוב המס גבוהה יותר) מס מוחלט ללא אפשרות לקיזו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ב.פריסת החלק החייב - למספר שני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ג. רצף פיצויים ,רצף קצבה ,אי משיכה היום /תלוי בגיל הפור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לרוב הפריסה כדאית - תכנון מס לפור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תכנון מס ,קבלת פטורים ,שיעורי מס מופחתי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A0DA-3842-424A-92E0-2C551564C05E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5297AA28-D91F-4395-9773-AEC7322D06B1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3348000" y="5589720"/>
            <a:ext cx="23227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פריסה- מהי?-סעיף </a:t>
            </a: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8</a:t>
            </a: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 ג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9280" y="155736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c0504d"/>
                </a:solidFill>
                <a:latin typeface="Calibri"/>
              </a:rPr>
              <a:t>א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פריסת החלק החייב למספר שני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c0504d"/>
                </a:solidFill>
                <a:latin typeface="Calibri"/>
              </a:rPr>
              <a:t>ב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כו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ות עבודה = שנת פריסה אח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c0504d"/>
                </a:solidFill>
                <a:latin typeface="Calibri"/>
              </a:rPr>
              <a:t>ג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תקופת פריסה מרבית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ות פריס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c0504d"/>
                </a:solidFill>
                <a:latin typeface="Calibri"/>
              </a:rPr>
              <a:t>ד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 ניתן לבצע פריסה קדימה ,או אחור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c0504d"/>
                </a:solidFill>
                <a:latin typeface="Calibri"/>
              </a:rPr>
              <a:t>ה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ניתן לבצע חלק קדימה חלק אחור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c0504d"/>
                </a:solidFill>
                <a:latin typeface="Calibri"/>
              </a:rPr>
              <a:t>ו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ניתן לקבוע את החלוק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c0504d"/>
                </a:solidFill>
                <a:latin typeface="Calibri"/>
              </a:rPr>
              <a:t>ז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תכנון מס לפי שיקולים ונתונים של כול פור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c0504d"/>
                </a:solidFill>
                <a:latin typeface="Calibri"/>
              </a:rPr>
              <a:t>ח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 ניתן לתפור חליפה מיסוי לכול פורש- על פי מצב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F28D-9868-452C-81E5-4FA0AA93A39E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8E88FB37-FF0E-414E-BAC9-E89AE99E329B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609300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יתרונות/חסרונות הפריס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א. פריסה ודחיית תשלום המס תמיד הוכח שדחייה טוב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ב.לרוב הקטנת המס לתשלום – הקטנת החבות במס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ג.הפריסה היא על בסיס נומינלי – רווח ההצמד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ד.ניצול פטורים בעתי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ff0000"/>
                </a:solidFill>
                <a:uFillTx/>
                <a:latin typeface="Calibri"/>
              </a:rPr>
              <a:t>חסרונו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שיעורי המס בשנים האחרונות בסימן עלי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מי שמתכוון לעבוד לאחר הפרישה –יתכן והפריסה תקפיץ לו את המס השולי כתוצאה מגידול בהכנסו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B3B3-78FC-4950-B09A-1A57C89ABCBD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4B372A62-C97E-40C1-9BC3-9467DFA950DC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179280" y="6093000"/>
            <a:ext cx="23227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00ff"/>
                </a:solidFill>
                <a:uFillTx/>
                <a:latin typeface="Calibri"/>
              </a:rPr>
              <a:t>הם יש משמעות למועד הפרישה</a:t>
            </a:r>
            <a:br>
              <a:rPr sz="3600"/>
            </a:br>
            <a:r>
              <a:rPr b="1" lang="he-IL" sz="3600" spc="-1" strike="noStrike" u="sng">
                <a:solidFill>
                  <a:srgbClr val="0000ff"/>
                </a:solidFill>
                <a:uFillTx/>
                <a:latin typeface="Calibri"/>
              </a:rPr>
              <a:t>לעניין הפריסה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ff"/>
                </a:solidFill>
                <a:uFillTx/>
                <a:latin typeface="Calibri"/>
              </a:rPr>
              <a:t>פרישה עד </a:t>
            </a:r>
            <a:r>
              <a:rPr b="1" lang="he-IL" sz="3200" spc="-1" strike="noStrike" u="sng">
                <a:solidFill>
                  <a:srgbClr val="0000ff"/>
                </a:solidFill>
                <a:uFillTx/>
                <a:latin typeface="Calibri"/>
              </a:rPr>
              <a:t>30</a:t>
            </a:r>
            <a:r>
              <a:rPr b="1" lang="he-IL" sz="3200" spc="-1" strike="noStrike" u="sng">
                <a:solidFill>
                  <a:srgbClr val="0000ff"/>
                </a:solidFill>
                <a:uFillTx/>
                <a:latin typeface="Calibri"/>
              </a:rPr>
              <a:t> לספטמבר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– שנת פריסה ראשונה השנה השוטפת – יתכן וישפיע על שיעור המס הממוצע בחישוב המקדמה ( מס שולי אחרון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ff"/>
                </a:solidFill>
                <a:uFillTx/>
                <a:latin typeface="Calibri"/>
              </a:rPr>
              <a:t>פרישה מ-</a:t>
            </a:r>
            <a:r>
              <a:rPr b="1" lang="he-IL" sz="3200" spc="-1" strike="noStrike" u="sng">
                <a:solidFill>
                  <a:srgbClr val="0000ff"/>
                </a:solidFill>
                <a:uFillTx/>
                <a:latin typeface="Calibri"/>
              </a:rPr>
              <a:t>1/10</a:t>
            </a:r>
            <a:r>
              <a:rPr b="1" lang="he-IL" sz="3200" spc="-1" strike="noStrike" u="sng">
                <a:solidFill>
                  <a:srgbClr val="0000ff"/>
                </a:solidFill>
                <a:uFillTx/>
                <a:latin typeface="Calibri"/>
              </a:rPr>
              <a:t> עד </a:t>
            </a:r>
            <a:r>
              <a:rPr b="1" lang="he-IL" sz="3200" spc="-1" strike="noStrike" u="sng">
                <a:solidFill>
                  <a:srgbClr val="0000ff"/>
                </a:solidFill>
                <a:uFillTx/>
                <a:latin typeface="Calibri"/>
              </a:rPr>
              <a:t>31/1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– שנת הפריסה הראשונה ,השנה שלאחר הפריש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לרוב מקטין את המקדמה היות ואין הכנס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FF89-BD03-4AA4-A8A3-AED19490B06A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DFFF7E31-9A5F-407D-853D-45258F944245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179280" y="6237360"/>
            <a:ext cx="23227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00ff"/>
                </a:solidFill>
                <a:uFillTx/>
                <a:latin typeface="Calibri"/>
              </a:rPr>
              <a:t>הגשת דו"ח שנת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בכול אחת משנות הפריסה חובה בהגשת דו"ח שנתי למס הכנסה...\טפסים חדש מס הכנסה ביטוח לאומי 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\בקשה לפריסה סעיף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ג טופס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116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דוח מקוצר ופשוט – ניתן לצרף רק את טופס הפריסה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במידה ויש הכנסה בשנות הפריסה- תיאום מ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על מנת ולא ליצור חבות במס בסוף שנת המס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0BAE-C5A3-49B4-AEF1-91329939145E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540CF91A-FF5E-48F7-A38B-1A750A9437C1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179280" y="6237360"/>
            <a:ext cx="23227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00ff"/>
                </a:solidFill>
                <a:uFillTx/>
                <a:latin typeface="Calibri"/>
              </a:rPr>
              <a:t>חישוב המס לפי מס שולי אחרון /מרבי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מס שולי אחרון / מרבי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מס שולי אחרון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31%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- שכר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16,000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חלק חייב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117,400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*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31%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36,394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יש מעסיקים שמנכים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47%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55,178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₪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חישוב המס -כאילו תשלום בלתי קבו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0000"/>
                </a:solidFill>
                <a:latin typeface="Calibri"/>
              </a:rPr>
              <a:t>מס מוחלט -אין אפשרות לקיזוז בעתי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לחלופין הפריסה – בשקף הב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F31D-917E-4B2C-A775-2C0000E86864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5C76BBB5-99B2-4AF6-9397-C0260BA730A4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539640" y="6021360"/>
            <a:ext cx="23227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4f81bd"/>
                </a:solidFill>
                <a:uFillTx/>
                <a:latin typeface="Calibri"/>
              </a:rPr>
              <a:t>משמעות הטיפול בפרישה 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אוד חשוב לבצע את התהליך מול הגורמים הבאים בצורה נכונה ונבונה !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רשות המיסים – מיסוי מענקי פרישה- מילוי טפסים תקין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יטוח לאומי – אבטלה ,אזרח וותי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קופות הגמל – קיבוע זכויות-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61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ד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מעסיק – טופס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61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61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א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he-IL" sz="3200" spc="-1" strike="noStrike" u="sng">
                <a:solidFill>
                  <a:srgbClr val="4f81bd"/>
                </a:solidFill>
                <a:uFillTx/>
                <a:latin typeface="Calibri"/>
              </a:rPr>
              <a:t>תכנון נכון = חסכון במס ובעיקר שקט נפשי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4CA1-CA7C-4034-B87F-C1B3BF8D5122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978FE9DE-904F-4136-A1C2-C91950005257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60280"/>
            <a:ext cx="8130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00ff"/>
                </a:solidFill>
                <a:uFillTx/>
                <a:latin typeface="Calibri"/>
              </a:rPr>
              <a:t>לפי פריסה סעיף </a:t>
            </a:r>
            <a:r>
              <a:rPr b="1" lang="he-IL" sz="4000" spc="-1" strike="noStrike" u="sng">
                <a:solidFill>
                  <a:srgbClr val="0000ff"/>
                </a:solidFill>
                <a:uFillTx/>
                <a:latin typeface="Calibri"/>
              </a:rPr>
              <a:t>8</a:t>
            </a:r>
            <a:r>
              <a:rPr b="1" lang="he-IL" sz="4000" spc="-1" strike="noStrike" u="sng">
                <a:solidFill>
                  <a:srgbClr val="0000ff"/>
                </a:solidFill>
                <a:uFillTx/>
                <a:latin typeface="Calibri"/>
              </a:rPr>
              <a:t> ג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981000"/>
          <a:ext cx="8507520" cy="4821480"/>
        </p:xfrm>
        <a:graphic>
          <a:graphicData uri="http://schemas.openxmlformats.org/drawingml/2006/table">
            <a:tbl>
              <a:tblPr/>
              <a:tblGrid>
                <a:gridCol w="2125800"/>
                <a:gridCol w="2128680"/>
                <a:gridCol w="2127240"/>
                <a:gridCol w="2125800"/>
              </a:tblGrid>
              <a:tr h="503280"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מקדמת מ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שיעור המ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חלק הפרו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שנת פריס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5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5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600"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5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5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560"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5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5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,7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סך כלל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FF37-D7E3-493F-9F3D-D9F2CDDCB33A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07604FC4-EE02-4B71-A466-EB0515F4BAC2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00ff"/>
                </a:solidFill>
                <a:uFillTx/>
                <a:latin typeface="Calibri"/>
              </a:rPr>
              <a:t>החיסכון – כתוצאה מפריסה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מס לפי מס שולי אחרון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36,394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₪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55,178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מרבי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47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מס לפי פריסה -מקדמה </a:t>
            </a:r>
            <a:r>
              <a:rPr b="1" lang="he-IL" sz="3600" spc="-1" strike="noStrike">
                <a:solidFill>
                  <a:srgbClr val="ff0000"/>
                </a:solidFill>
                <a:latin typeface="Calibri"/>
              </a:rPr>
              <a:t>11,742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 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הפרש במיסוי – </a:t>
            </a:r>
            <a:r>
              <a:rPr b="1" lang="he-IL" sz="3600" spc="-1" strike="noStrike">
                <a:solidFill>
                  <a:srgbClr val="ff0000"/>
                </a:solidFill>
                <a:latin typeface="Calibri"/>
              </a:rPr>
              <a:t>24,652</a:t>
            </a:r>
            <a:r>
              <a:rPr b="1" lang="he-IL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₪ / </a:t>
            </a:r>
            <a:r>
              <a:rPr b="1" lang="he-IL" sz="3600" spc="-1" strike="noStrike">
                <a:solidFill>
                  <a:srgbClr val="ff0000"/>
                </a:solidFill>
                <a:latin typeface="Calibri"/>
              </a:rPr>
              <a:t>43,436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כול המקדמה תוחזר במהלך שנות הפריסה- הגשת דו"ח שנתי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כתוצאה ממתן נקודות זיכוי בהגשת הדו"ח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החזר בתוספת ריבית והפרשי הצמדה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פריסה =  הקטנה/ ביטול המס- טופס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16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ג בקשת פריס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FE8E-CE77-4F3E-82A0-2D0AF79E65F7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83789EAB-F7C0-4235-B020-44834C3956A1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623736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מה קורה שיש גם הכנסה /פנסיה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268280"/>
            <a:ext cx="8218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דוגמא נאמר שהפורש בגי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ללא פנסי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נחדד ונקבע כי לפורש יש פנסיה ש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,5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כנסה זו תצורף בעת עריכת הפריס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עדיף בעת הפריסה להצהיר על כול הכנסה צפויה כדי לא לגרום חבות במס בעת הגשת הדוח השנתי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ראוי לציין כי לפקיד ברשות המיסים אין שום סמכות לקבוע עבור הפורש גובה הכנסה צפוי לטעמו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DCD4-31D2-4037-8480-49C710F3D652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D253FA6F-0A0D-4742-A0F7-FB7282B6F371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50920" y="595008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260280"/>
            <a:ext cx="8130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00ff"/>
                </a:solidFill>
                <a:uFillTx/>
                <a:latin typeface="Calibri"/>
              </a:rPr>
              <a:t>לפי פריסה סעיף </a:t>
            </a:r>
            <a:r>
              <a:rPr b="1" lang="he-IL" sz="4000" spc="-1" strike="noStrike" u="sng">
                <a:solidFill>
                  <a:srgbClr val="0000ff"/>
                </a:solidFill>
                <a:uFillTx/>
                <a:latin typeface="Calibri"/>
              </a:rPr>
              <a:t>8</a:t>
            </a:r>
            <a:r>
              <a:rPr b="1" lang="he-IL" sz="4000" spc="-1" strike="noStrike" u="sng">
                <a:solidFill>
                  <a:srgbClr val="0000ff"/>
                </a:solidFill>
                <a:uFillTx/>
                <a:latin typeface="Calibri"/>
              </a:rPr>
              <a:t> ג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981000"/>
          <a:ext cx="8507520" cy="4964040"/>
        </p:xfrm>
        <a:graphic>
          <a:graphicData uri="http://schemas.openxmlformats.org/drawingml/2006/table">
            <a:tbl>
              <a:tblPr/>
              <a:tblGrid>
                <a:gridCol w="1417680"/>
                <a:gridCol w="1417680"/>
                <a:gridCol w="1419120"/>
                <a:gridCol w="1417680"/>
                <a:gridCol w="1417680"/>
                <a:gridCol w="14176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מקדמת מ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שיעור המ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סך הכנסה כולל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הכנסה נוספ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חלק הפרו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שנת פריס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5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5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5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5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5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5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5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5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5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5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5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5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,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מקדמה לתשלום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סך כלל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9629-253E-4A23-BA0B-1450B4821358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636FF60C-463B-47FA-8C4D-78B2789D12C2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00ff"/>
                </a:solidFill>
                <a:uFillTx/>
                <a:latin typeface="Calibri"/>
              </a:rPr>
              <a:t>החיסכון – כתוצאה מפריסה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מס לפי מס שולי אחרון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36,394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₪ /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55,178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מרבי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47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מס לפי פריסה - מקדמה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6,440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 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הפרש במיסוי – </a:t>
            </a:r>
            <a:r>
              <a:rPr b="1" lang="he-IL" sz="3600" spc="-1" strike="noStrike">
                <a:solidFill>
                  <a:srgbClr val="ff0000"/>
                </a:solidFill>
                <a:latin typeface="Calibri"/>
              </a:rPr>
              <a:t>19,954</a:t>
            </a:r>
            <a:r>
              <a:rPr b="1" lang="he-IL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₪ / </a:t>
            </a:r>
            <a:r>
              <a:rPr b="1" lang="he-IL" sz="3600" spc="-1" strike="noStrike">
                <a:solidFill>
                  <a:srgbClr val="ff0000"/>
                </a:solidFill>
                <a:latin typeface="Calibri"/>
              </a:rPr>
              <a:t>38,738</a:t>
            </a:r>
            <a:r>
              <a:rPr b="1" lang="he-IL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חלק מהמקדמה תוחזר במהלך שנות הפריסה- הגשת דו"ח שנתי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כתוצאה ממתן נקודות זיכוי בהגשת הדו"ח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החזר בתוספת ריבית והפרשי הצמדה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פריסה =  הקטנה/ ביטול המס- טופס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16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ג בקשת פריס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A764-3F7F-4EE6-9230-D278CD42E2E7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A2A9F820-C1BE-4C4A-84F3-1AAFE0B931C8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623736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הגדלת הפטור – </a:t>
            </a: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150%</a:t>
            </a: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 - </a:t>
            </a: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1/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13000"/>
            <a:ext cx="8291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החל מחודש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1/2019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ניתן לקבל פטור מוגד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בכל מצב לא יותר מ-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150%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בעבור כל שנת עבוד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בכל תנאי לא יותר מהתקרה – </a:t>
            </a:r>
            <a:r>
              <a:rPr b="1" lang="he-IL" sz="2800" spc="-1" strike="noStrike">
                <a:solidFill>
                  <a:srgbClr val="ff0000"/>
                </a:solidFill>
                <a:latin typeface="Calibri"/>
              </a:rPr>
              <a:t>12,420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 ₪  לכל שנ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פטור זה היה חסום לביצוע על ידי המעסיק עד לשינו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אין צורך לשלוח את הפורש למס הכנסה כדי לקבל את ההטבה הנ"ל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מלבד בעלי שליטה או קרוב משפחה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60AA-225E-4F42-9854-C784CEF7A33D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4FF93974-A7F2-458E-BA0C-A981616D4E8D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3276720" y="5445000"/>
            <a:ext cx="23223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70c0"/>
                </a:solidFill>
                <a:uFillTx/>
                <a:latin typeface="Calibri"/>
              </a:rPr>
              <a:t>פטור על קצבה- פנסיה מהו 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428840"/>
            <a:ext cx="83296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פטור ממס בשיעור של  </a:t>
            </a:r>
            <a:r>
              <a:rPr b="1" lang="he-IL" sz="2800" spc="-1" strike="noStrike" u="sng">
                <a:solidFill>
                  <a:srgbClr val="000000"/>
                </a:solidFill>
                <a:uFillTx/>
                <a:latin typeface="Calibri"/>
              </a:rPr>
              <a:t>52%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עד הקצבה המזכ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נכון לשנת </a:t>
            </a:r>
            <a:r>
              <a:rPr b="1" lang="he-IL" sz="2800" spc="-1" strike="noStrike">
                <a:solidFill>
                  <a:srgbClr val="ff0000"/>
                </a:solidFill>
                <a:latin typeface="Calibri"/>
              </a:rPr>
              <a:t>2020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8,510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 ₪  (פטור -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4,425.2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   ₪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פורש שבחר לקבל פטור על מענקים ,יתכן מאוד שלא יהיה זכאי לפטור על הקצבה ,ולכן יש לחשוב לפני שמבקשים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יש לבדוק את האפשרות הטובה ביותר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כול מקרה נבחן לגופו של עניין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בכל מקרה ניתן לחזור מהבחירה תוך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יו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מומלץ לפנות לייעוץ - לפני מועד הפריש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1129-A4C7-403E-9C68-B4933DC5566D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678B0A67-C4DE-426A-9E35-35FC71AF82CC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5805360"/>
            <a:ext cx="23223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פעימות נוספות של הגדלת הפטור</a:t>
            </a:r>
            <a:br>
              <a:rPr sz="4400"/>
            </a:b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תיקון </a:t>
            </a: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190</a:t>
            </a: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 סעיף </a:t>
            </a: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9</a:t>
            </a: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 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1557360"/>
            <a:ext cx="8497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he-IL" sz="6000" spc="-1" strike="noStrike">
                <a:solidFill>
                  <a:srgbClr val="000000"/>
                </a:solidFill>
                <a:latin typeface="Calibri"/>
              </a:rPr>
              <a:t>ב-</a:t>
            </a:r>
            <a:r>
              <a:rPr b="0" lang="he-IL" sz="6000" spc="-1" strike="noStrike">
                <a:solidFill>
                  <a:srgbClr val="000000"/>
                </a:solidFill>
                <a:latin typeface="Calibri"/>
              </a:rPr>
              <a:t>2025</a:t>
            </a:r>
            <a:r>
              <a:rPr b="0" lang="he-IL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e-IL" sz="6000" spc="-1" strike="noStrike">
                <a:solidFill>
                  <a:srgbClr val="ff0000"/>
                </a:solidFill>
                <a:latin typeface="Calibri"/>
              </a:rPr>
              <a:t>15%</a:t>
            </a:r>
            <a:r>
              <a:rPr b="0" lang="he-IL" sz="6000" spc="-1" strike="noStrike">
                <a:solidFill>
                  <a:srgbClr val="000000"/>
                </a:solidFill>
                <a:latin typeface="Calibri"/>
              </a:rPr>
              <a:t> סה"כ פטור </a:t>
            </a:r>
            <a:r>
              <a:rPr b="0" lang="he-IL" sz="6000" spc="-1" strike="noStrike">
                <a:solidFill>
                  <a:srgbClr val="000000"/>
                </a:solidFill>
                <a:latin typeface="Calibri"/>
              </a:rPr>
              <a:t>67%</a:t>
            </a:r>
            <a:r>
              <a:rPr b="0" lang="he-IL" sz="6000" spc="-1" strike="noStrike">
                <a:solidFill>
                  <a:srgbClr val="000000"/>
                </a:solidFill>
                <a:latin typeface="Calibri"/>
              </a:rPr>
              <a:t> מתקרת הקצבה המזכה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10B9-D17E-441A-899A-1814C1A0A418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3D8DF41A-8B27-4FC6-B1EF-AC79E6B145AF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1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179280" y="6093000"/>
            <a:ext cx="2916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70c0"/>
                </a:solidFill>
                <a:uFillTx/>
                <a:latin typeface="Calibri"/>
              </a:rPr>
              <a:t>מי זכאי לפטור לפי סעיף </a:t>
            </a:r>
            <a:r>
              <a:rPr b="1" lang="he-IL" sz="4800" spc="-1" strike="noStrike" u="sng">
                <a:solidFill>
                  <a:srgbClr val="0070c0"/>
                </a:solidFill>
                <a:uFillTx/>
                <a:latin typeface="Calibri"/>
              </a:rPr>
              <a:t>9</a:t>
            </a:r>
            <a:r>
              <a:rPr b="1" lang="he-IL" sz="4800" spc="-1" strike="noStrike" u="sng">
                <a:solidFill>
                  <a:srgbClr val="0070c0"/>
                </a:solidFill>
                <a:uFillTx/>
                <a:latin typeface="Calibri"/>
              </a:rPr>
              <a:t> א</a:t>
            </a:r>
            <a:r>
              <a:rPr b="1" lang="he-IL" sz="48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רק מי שהגיע לגיל פרישה –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64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אישה,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גב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שינוי החל משנ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04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ובהדרג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נכון לשנת 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2020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– אישה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62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,גבר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בשלב ז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י שפרש כתוצאה מנכות ש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75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יציבה , ללא קשר לגיל הפריש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שינוי משמעותי ביותר בעקבות תיקון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9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לפקוד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A4D6-5CDE-4C3F-9602-1937829BDD6A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71213D21-95CD-43A2-B976-33055376D66F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3276720" y="566100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70c0"/>
                </a:solidFill>
                <a:uFillTx/>
                <a:latin typeface="Calibri"/>
              </a:rPr>
              <a:t>דוגמא לפטור סעיף </a:t>
            </a:r>
            <a:r>
              <a:rPr b="1" lang="he-IL" sz="4000" spc="-1" strike="noStrike" u="sng">
                <a:solidFill>
                  <a:srgbClr val="0070c0"/>
                </a:solidFill>
                <a:uFillTx/>
                <a:latin typeface="Calibri"/>
              </a:rPr>
              <a:t>9</a:t>
            </a:r>
            <a:r>
              <a:rPr b="1" lang="he-IL" sz="4000" spc="-1" strike="noStrike" u="sng">
                <a:solidFill>
                  <a:srgbClr val="0070c0"/>
                </a:solidFill>
                <a:uFillTx/>
                <a:latin typeface="Calibri"/>
              </a:rPr>
              <a:t> א – פטור קצב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עובד בן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קבל פנסיה של 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10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בחוד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חר לקבל פטור מסלול קצבה ( שולם מס על המענק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תקרת קצבה מזכה  -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8,510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  ₪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שיעור פטור –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52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 *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8,51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4,425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כנסה חייבת לאחר הפטור=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5,575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סלול זה-סך של </a:t>
            </a:r>
            <a:r>
              <a:rPr b="1" lang="he-IL" sz="3200" spc="-1" strike="noStrike" u="sng">
                <a:solidFill>
                  <a:srgbClr val="ff0000"/>
                </a:solidFill>
                <a:uFillTx/>
                <a:latin typeface="Calibri"/>
              </a:rPr>
              <a:t>620</a:t>
            </a:r>
            <a:r>
              <a:rPr b="1" lang="he-IL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₪ נטו גבר , אישה 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604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FA96-1A89-48F8-A01C-2FDC2EB6E8A3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77B977A1-725D-4BDA-A2CE-D0BCDA1CE4E1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5805360"/>
            <a:ext cx="23223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70c0"/>
                </a:solidFill>
                <a:uFillTx/>
                <a:latin typeface="Calibri"/>
              </a:rPr>
              <a:t>בואו נתחיל ללמוד 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71640" y="1700280"/>
            <a:ext cx="763272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000000"/>
                </a:solidFill>
                <a:latin typeface="Calibri"/>
              </a:rPr>
              <a:t>כיצד לטפל במענקי הפרישה -פיצויים ,קצבה ,היוון ,קיבוע זכויות קופות גמל קצבה ,פדיון ימי מחל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000000"/>
                </a:solidFill>
                <a:latin typeface="Calibri"/>
              </a:rPr>
              <a:t>פיצויים – פטור- כולל הגדלת הפטור ל- </a:t>
            </a:r>
            <a:r>
              <a:rPr b="1" lang="he-IL" sz="2700" spc="-1" strike="noStrike">
                <a:solidFill>
                  <a:srgbClr val="000000"/>
                </a:solidFill>
                <a:latin typeface="Calibri"/>
              </a:rPr>
              <a:t>15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000000"/>
                </a:solidFill>
                <a:latin typeface="Calibri"/>
              </a:rPr>
              <a:t>פנסיה- פטור – לפי סעיף </a:t>
            </a:r>
            <a:r>
              <a:rPr b="1" lang="he-IL" sz="27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he-IL" sz="2700" spc="-1" strike="noStrike">
                <a:solidFill>
                  <a:srgbClr val="000000"/>
                </a:solidFill>
                <a:latin typeface="Calibri"/>
              </a:rPr>
              <a:t> א- לאחר תיקון </a:t>
            </a:r>
            <a:r>
              <a:rPr b="1" lang="he-IL" sz="2700" spc="-1" strike="noStrike">
                <a:solidFill>
                  <a:srgbClr val="000000"/>
                </a:solidFill>
                <a:latin typeface="Calibri"/>
              </a:rPr>
              <a:t>190</a:t>
            </a:r>
            <a:r>
              <a:rPr b="1" lang="he-IL" sz="2700" spc="-1" strike="noStrike">
                <a:solidFill>
                  <a:srgbClr val="000000"/>
                </a:solidFill>
                <a:latin typeface="Calibri"/>
              </a:rPr>
              <a:t> לפקוד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000000"/>
                </a:solidFill>
                <a:latin typeface="Calibri"/>
              </a:rPr>
              <a:t>פריסה- לפי סעיף </a:t>
            </a:r>
            <a:r>
              <a:rPr b="1" lang="he-IL" sz="27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he-IL" sz="2700" spc="-1" strike="noStrike">
                <a:solidFill>
                  <a:srgbClr val="000000"/>
                </a:solidFill>
                <a:latin typeface="Calibri"/>
              </a:rPr>
              <a:t> ג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000000"/>
                </a:solidFill>
                <a:latin typeface="Calibri"/>
              </a:rPr>
              <a:t>נוסחת השילוב – </a:t>
            </a:r>
            <a:r>
              <a:rPr b="1" lang="he-IL" sz="27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he-IL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he-IL" sz="27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he-IL" sz="2700" spc="-1" strike="noStrike">
                <a:solidFill>
                  <a:srgbClr val="000000"/>
                </a:solidFill>
                <a:latin typeface="Calibri"/>
              </a:rPr>
              <a:t> א) ז- ישנה /חדש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000000"/>
                </a:solidFill>
                <a:latin typeface="Calibri"/>
              </a:rPr>
              <a:t>היוון קצבה- משמעות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000000"/>
                </a:solidFill>
                <a:latin typeface="Calibri"/>
              </a:rPr>
              <a:t>רצף פיצויי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000000"/>
                </a:solidFill>
                <a:latin typeface="Calibri"/>
              </a:rPr>
              <a:t>טפסים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78FA-FDB8-4D13-8D44-AE05E320F5FD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C50B91A8-8334-4045-BF5F-13E628287A45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5092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805788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70c0"/>
                </a:solidFill>
                <a:uFillTx/>
                <a:latin typeface="Calibri"/>
              </a:rPr>
              <a:t>נוסחת הקיזוז –תיקון </a:t>
            </a:r>
            <a:r>
              <a:rPr b="1" lang="he-IL" sz="5400" spc="-1" strike="noStrike" u="sng">
                <a:solidFill>
                  <a:srgbClr val="0070c0"/>
                </a:solidFill>
                <a:uFillTx/>
                <a:latin typeface="Calibri"/>
              </a:rPr>
              <a:t>190</a:t>
            </a:r>
            <a:r>
              <a:rPr b="1" lang="he-IL" sz="5400" spc="-1" strike="noStrike" u="sng">
                <a:solidFill>
                  <a:srgbClr val="0070c0"/>
                </a:solidFill>
                <a:uFillTx/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4000" y="1773360"/>
            <a:ext cx="806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יודגש – הנוסחה החדשה חלה רק על הפטור מהקצבה המזכה אינה חלה יותר על הקצבה המוכרת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להזכירכם נוסחה זו מחשבת את הפטור על המענק או על הקצבה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כידוע ניתן לקבל פטור ממס  או על המענקים) עד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12,420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לכל שנת עבודה או על הקצבה המזכה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52%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8,510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לא ניתן לקבל מפטור כפול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ולכן קיימת נוסחת הקיזוז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מציין מיקום של תאריך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E7AE-14B7-40B5-B99B-FEF9D1110950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975B7D16-91E0-4C2C-BC69-20A068A821B2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1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מציין מיקום של כותרת תחתונה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הגדרות חדשות לנוסחה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8000" y="119700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תואם מכפיל המרה להון –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( היה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גיל הזכאות – גיל הפרישה או הגיל שבו היחיד החל לקבל קצבה מזכה / המאוחר מבין השתיי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נקבע מקדם –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.35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(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35%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מענקים פטורים ממס – עבור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שנות עבוד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יתרת ההון הפטורה ממס –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67%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*קצבה מ. מה"ל 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(א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מענקים הפטורים ממס – ממודד מיום קבלתם עד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/1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של השנה שבה חל גיל הזכאות מוכפל במקדם  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(ב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התוצאה של א – ב = יתרת ההון הפטורה /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180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=יתרת הפטור על הקצב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6B5C-8982-4894-B8CD-D04377171687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F944DBD7-E5AF-4947-B765-E1991C8C304F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1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1f497d"/>
                </a:solidFill>
                <a:uFillTx/>
                <a:latin typeface="Calibri"/>
              </a:rPr>
              <a:t>מה השינוי בנוסחה 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267920"/>
            <a:ext cx="84358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בנוסחה החדשה מחשבים את קיזוז הקצבה ביחס בין המענקים הפטורים בגין 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 שנות עבודה שקדמו להגיעו לגיל הזכאו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לבין סכום התקרה המזכה המקסימאלית לאותן שנות עבודה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גיל הזכאות" – גיל הפרישה או תחילת הקצבה – לפי המאוחר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מענקים פטורים" - סכום המענקים הפטורים לפי סעיף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א)(א) שקיבל יחיד בעד שנות עבודתו שקדמו לגיל הזכאות, ולא יותר מ-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שנות עבודה למעט מענקים המנויים בסעי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8,510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*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35%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* 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180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/ 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12,420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*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32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1.35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מקדם .</a:t>
            </a:r>
            <a:br>
              <a:rPr sz="2400"/>
            </a:b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324000" y="5850000"/>
            <a:ext cx="1979640" cy="1008000"/>
          </a:xfrm>
          <a:prstGeom prst="rect">
            <a:avLst/>
          </a:prstGeom>
          <a:ln w="0">
            <a:noFill/>
          </a:ln>
        </p:spPr>
      </p:pic>
      <p:sp>
        <p:nvSpPr>
          <p:cNvPr id="240" name="מציין מיקום של תאריך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C22A-EA5E-498F-961D-B294A489AFBC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20999A86-783D-4F6F-B840-7EF830EEF407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1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מציין מיקום של כותרת תחתונה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המשך שינוי נוסחת הקיזוז  – יתרון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24000" y="162828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יתרון בשינוי בא לידי ביטוי ביתרת ההון הפטורה אשר תחולק במכפיל ותהווה פטור שוטף לקצבה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לפני התיקון היו מקזזים את סכום הפטור המרבי לכ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השנים בלי התייחסות ליתר ההון האמור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516640"/>
            <a:ext cx="2627280" cy="865080"/>
          </a:xfrm>
          <a:prstGeom prst="rect">
            <a:avLst/>
          </a:prstGeom>
          <a:ln w="0">
            <a:noFill/>
          </a:ln>
        </p:spPr>
      </p:pic>
      <p:sp>
        <p:nvSpPr>
          <p:cNvPr id="245" name="מציין מיקום של תאריך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6935-382B-448E-B8DF-A0CADE89D1E7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F455E5D0-2905-4749-886C-3BDFAA3E066D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1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מציין מיקום של כותרת תחתונה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יתרת ההון הפטורה"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500" spc="-1" strike="noStrike">
                <a:solidFill>
                  <a:srgbClr val="ff0000"/>
                </a:solidFill>
                <a:latin typeface="Calibri"/>
              </a:rPr>
              <a:t>יתרת ההון הפטורה" - הסכום המתקבל מהפחתת הסכום 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האמור בפסקת משנה (ב) מהסכום האמור בפסקת משנה (א):</a:t>
            </a:r>
            <a:br>
              <a:rPr sz="2500"/>
            </a:b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(א)סכום השווה ל-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67%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 מתקרת הקצבה המזכה כשהוא מוכפל במכפיל ההמרה להון:</a:t>
            </a:r>
            <a:br>
              <a:rPr sz="2500"/>
            </a:b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(ב)המענקים הפטורים כשהם צמודים למדד מהיום שבו התקבלו עד יום 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 בינואר בשנה שבה חל גיל הזכאות, ומוכפלים במקדם; לעניין זה, "מקדם" - סכום השווה ל-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35%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 מתקרת הקצבה המזכה כשהוא מוכפל במכפיל ההמרה להון ומחולק בסכום המתקבל מהכפלת הסכום הפטור המרבי לכל שנת עבודה כאמור בסעיף 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א)(א)(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he-IL" sz="2500" spc="-1" strike="noStrike">
                <a:solidFill>
                  <a:srgbClr val="ff0000"/>
                </a:solidFill>
                <a:latin typeface="Calibri"/>
              </a:rPr>
              <a:t>ב-</a:t>
            </a:r>
            <a:r>
              <a:rPr b="1" lang="he-IL" sz="2500" spc="-1" strike="noStrike">
                <a:solidFill>
                  <a:srgbClr val="ff0000"/>
                </a:solidFill>
                <a:latin typeface="Calibri"/>
              </a:rPr>
              <a:t>32</a:t>
            </a:r>
            <a:r>
              <a:rPr b="1" lang="he-IL" sz="2500" spc="-1" strike="noStrike">
                <a:solidFill>
                  <a:srgbClr val="ff0000"/>
                </a:solidFill>
                <a:latin typeface="Calibri"/>
              </a:rPr>
              <a:t>;</a:t>
            </a:r>
            <a:br>
              <a:rPr sz="2500"/>
            </a:b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"מענקים פטורים" - סכום המענקים הפטורים לפי סעיף 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א)(א) שקיבל יחיד בעד שנות עבודתו שקדמו לגיל הזכאות, </a:t>
            </a:r>
            <a:r>
              <a:rPr b="1" lang="he-IL" sz="2500" spc="-1" strike="noStrike">
                <a:solidFill>
                  <a:srgbClr val="ff0000"/>
                </a:solidFill>
                <a:latin typeface="Calibri"/>
              </a:rPr>
              <a:t>ולא יותר מ-</a:t>
            </a:r>
            <a:r>
              <a:rPr b="1" lang="he-IL" sz="2500" spc="-1" strike="noStrike">
                <a:solidFill>
                  <a:srgbClr val="ff0000"/>
                </a:solidFill>
                <a:latin typeface="Calibri"/>
              </a:rPr>
              <a:t>32</a:t>
            </a:r>
            <a:r>
              <a:rPr b="1" lang="he-IL" sz="2500" spc="-1" strike="noStrike">
                <a:solidFill>
                  <a:srgbClr val="ff0000"/>
                </a:solidFill>
                <a:latin typeface="Calibri"/>
              </a:rPr>
              <a:t> שנות עבודה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A193-C692-4CF3-B1F7-80691C445993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9922A1BE-1D8D-4A3E-B09C-62B310AB765E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1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589720"/>
            <a:ext cx="2627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Calibri"/>
              </a:rPr>
              <a:t>תבנית הפרישה תיקון 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Calibri"/>
              </a:rPr>
              <a:t>190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Calibri"/>
              </a:rPr>
              <a:t> שנת 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Calibri"/>
              </a:rPr>
              <a:t>20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3" name="מציין מיקום תוכן 5"/>
          <p:cNvGraphicFramePr/>
          <p:nvPr/>
        </p:nvGraphicFramePr>
        <p:xfrm>
          <a:off x="544680" y="1398600"/>
          <a:ext cx="8094600" cy="448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4" name="מציין מיקום תוכן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1398600"/>
                    <a:ext cx="809460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C12D-1E98-4ECA-8231-22E32FA5C983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55EB4ACF-5A09-442D-AE11-9ACA475A21FD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C:\Documents and Settings\Administrator\שולחן העבודה\atudot_final.gif"/>
          <p:cNvPicPr/>
          <p:nvPr/>
        </p:nvPicPr>
        <p:blipFill>
          <a:blip r:embed="rId3"/>
          <a:stretch/>
        </p:blipFill>
        <p:spPr>
          <a:xfrm>
            <a:off x="179280" y="5224320"/>
            <a:ext cx="232272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Calibri"/>
              </a:rPr>
              <a:t>לדוגמא – חלוקת התבנית-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Calibri"/>
              </a:rPr>
              <a:t>2020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9" name="מציין מיקום תוכן 5"/>
          <p:cNvGraphicFramePr/>
          <p:nvPr/>
        </p:nvGraphicFramePr>
        <p:xfrm>
          <a:off x="406440" y="1549440"/>
          <a:ext cx="8331120" cy="462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0" name="מציין מיקום תוכן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1069-D6EB-4F27-B541-12505BC15B48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4FC1B66A-24D6-43D4-A839-5F32B1A2BD6A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C:\Documents and Settings\Administrator\שולחן העבודה\atudot_final.gif"/>
          <p:cNvPicPr/>
          <p:nvPr/>
        </p:nvPicPr>
        <p:blipFill>
          <a:blip r:embed="rId3"/>
          <a:stretch/>
        </p:blipFill>
        <p:spPr>
          <a:xfrm>
            <a:off x="250920" y="595008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70c0"/>
                </a:solidFill>
                <a:uFillTx/>
                <a:latin typeface="Calibri"/>
              </a:rPr>
              <a:t>שינוי המכפיל המרה להון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700" spc="-1" strike="noStrike">
                <a:solidFill>
                  <a:srgbClr val="000000"/>
                </a:solidFill>
                <a:latin typeface="Calibri"/>
              </a:rPr>
              <a:t>עד ערב השינוי המכפיל המרה להון עמד על </a:t>
            </a:r>
            <a:r>
              <a:rPr b="0" lang="he-IL" sz="27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700" spc="-1" strike="noStrike">
                <a:solidFill>
                  <a:srgbClr val="000000"/>
                </a:solidFill>
                <a:latin typeface="Calibri"/>
              </a:rPr>
              <a:t>מכפיל ההמרה להון החדש לאחר התיקון – לפיו מחשבים שווי הפטור בעת פרישה. מכפילים את סכום הפטור במכפיל השווה ל- </a:t>
            </a:r>
            <a:r>
              <a:rPr b="1" lang="he-IL" sz="27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1" lang="he-IL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700" spc="-1" strike="noStrike">
                <a:solidFill>
                  <a:srgbClr val="000000"/>
                </a:solidFill>
                <a:latin typeface="Calibri"/>
              </a:rPr>
              <a:t>כלומר </a:t>
            </a:r>
            <a:r>
              <a:rPr b="1" lang="he-IL" sz="2700" spc="-1" strike="noStrike">
                <a:solidFill>
                  <a:srgbClr val="ff0000"/>
                </a:solidFill>
                <a:latin typeface="Calibri"/>
              </a:rPr>
              <a:t>180</a:t>
            </a:r>
            <a:r>
              <a:rPr b="1" lang="he-IL" sz="2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X </a:t>
            </a:r>
            <a:r>
              <a:rPr b="1" lang="he-IL" sz="2700" spc="-1" strike="noStrike">
                <a:solidFill>
                  <a:srgbClr val="ff0000"/>
                </a:solidFill>
                <a:latin typeface="Calibri"/>
              </a:rPr>
              <a:t>8,510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1" lang="he-IL" sz="2700" spc="-1" strike="noStrike">
                <a:solidFill>
                  <a:srgbClr val="ff0000"/>
                </a:solidFill>
                <a:latin typeface="Calibri"/>
              </a:rPr>
              <a:t> 52%      = 796,536 ₪ (2020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700" spc="-1" strike="noStrike">
                <a:solidFill>
                  <a:srgbClr val="000000"/>
                </a:solidFill>
                <a:latin typeface="Calibri"/>
              </a:rPr>
              <a:t>סכום זה ניתן למשוך מקופה הונית בהיוון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700" spc="-1" strike="noStrike">
                <a:solidFill>
                  <a:srgbClr val="000000"/>
                </a:solidFill>
                <a:latin typeface="Calibri"/>
              </a:rPr>
              <a:t>מכפיל ההמרה להון- מקדם בסיסי (</a:t>
            </a:r>
            <a:r>
              <a:rPr b="0" lang="he-IL" sz="27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0" lang="he-IL" sz="2700" spc="-1" strike="noStrike">
                <a:solidFill>
                  <a:srgbClr val="000000"/>
                </a:solidFill>
                <a:latin typeface="Calibri"/>
              </a:rPr>
              <a:t>) לצורך חישוב שוויו של הפטור בגיל הפרישה.</a:t>
            </a:r>
            <a:br>
              <a:rPr sz="2700"/>
            </a:br>
            <a:r>
              <a:rPr b="1" lang="he-IL" sz="2400" spc="-1" strike="noStrike" u="sng">
                <a:solidFill>
                  <a:srgbClr val="ff0000"/>
                </a:solidFill>
                <a:uFillTx/>
                <a:latin typeface="Calibri"/>
              </a:rPr>
              <a:t>לדוגמה: </a:t>
            </a:r>
            <a:r>
              <a:rPr b="1" lang="he-IL" sz="2400" spc="-1" strike="noStrike" u="sng">
                <a:solidFill>
                  <a:srgbClr val="ff0000"/>
                </a:solidFill>
                <a:uFillTx/>
                <a:latin typeface="Calibri"/>
              </a:rPr>
              <a:t>1,026,306</a:t>
            </a:r>
            <a:r>
              <a:rPr b="1" lang="he-IL" sz="2400" spc="-1" strike="noStrike" u="sng">
                <a:solidFill>
                  <a:srgbClr val="ff0000"/>
                </a:solidFill>
                <a:uFillTx/>
                <a:latin typeface="Calibri"/>
              </a:rPr>
              <a:t> ש"ח = </a:t>
            </a:r>
            <a:r>
              <a:rPr b="1" lang="he-IL" sz="2400" spc="-1" strike="noStrike" u="sng">
                <a:solidFill>
                  <a:srgbClr val="ff0000"/>
                </a:solidFill>
                <a:uFillTx/>
                <a:latin typeface="Calibri"/>
              </a:rPr>
              <a:t>180</a:t>
            </a:r>
            <a:r>
              <a:rPr b="1" lang="he-IL" sz="2400" spc="-1" strike="noStrike" u="sng">
                <a:solidFill>
                  <a:srgbClr val="ff0000"/>
                </a:solidFill>
                <a:uFillTx/>
                <a:latin typeface="Calibri"/>
              </a:rPr>
              <a:t> * </a:t>
            </a:r>
            <a:r>
              <a:rPr b="1" lang="he-IL" sz="2400" spc="-1" strike="noStrike" u="sng">
                <a:solidFill>
                  <a:srgbClr val="ff0000"/>
                </a:solidFill>
                <a:uFillTx/>
                <a:latin typeface="Calibri"/>
              </a:rPr>
              <a:t>5,701.7</a:t>
            </a:r>
            <a:r>
              <a:rPr b="1" lang="he-IL" sz="2400" spc="-1" strike="noStrike" u="sng">
                <a:solidFill>
                  <a:srgbClr val="ff0000"/>
                </a:solidFill>
                <a:uFillTx/>
                <a:latin typeface="Calibri"/>
              </a:rPr>
              <a:t> = </a:t>
            </a:r>
            <a:r>
              <a:rPr b="1" lang="he-IL" sz="2400" spc="-1" strike="noStrike" u="sng">
                <a:solidFill>
                  <a:srgbClr val="ff0000"/>
                </a:solidFill>
                <a:uFillTx/>
                <a:latin typeface="Calibri"/>
              </a:rPr>
              <a:t>8,510</a:t>
            </a:r>
            <a:r>
              <a:rPr b="1" lang="he-IL" sz="2400" spc="-1" strike="noStrike" u="sng">
                <a:solidFill>
                  <a:srgbClr val="ff0000"/>
                </a:solidFill>
                <a:uFillTx/>
                <a:latin typeface="Calibri"/>
              </a:rPr>
              <a:t> * </a:t>
            </a:r>
            <a:r>
              <a:rPr b="1" lang="he-IL" sz="2400" spc="-1" strike="noStrike" u="sng">
                <a:solidFill>
                  <a:srgbClr val="ff0000"/>
                </a:solidFill>
                <a:uFillTx/>
                <a:latin typeface="Calibri"/>
              </a:rPr>
              <a:t>67%</a:t>
            </a:r>
            <a:br>
              <a:rPr sz="2700"/>
            </a:br>
            <a:br>
              <a:rPr sz="2700"/>
            </a:br>
            <a:r>
              <a:rPr b="1" lang="he-IL" sz="27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516640"/>
            <a:ext cx="2627280" cy="865080"/>
          </a:xfrm>
          <a:prstGeom prst="rect">
            <a:avLst/>
          </a:prstGeom>
          <a:ln w="0">
            <a:noFill/>
          </a:ln>
        </p:spPr>
      </p:pic>
      <p:sp>
        <p:nvSpPr>
          <p:cNvPr id="267" name="מציין מיקום של תאריך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360D-1191-441A-B32D-04BBBCBF6281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3657A6D5-94FC-4325-956E-36CFA8761E04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1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מציין מיקום של כותרת תחתונה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1f497d"/>
                </a:solidFill>
                <a:uFillTx/>
                <a:latin typeface="Calibri"/>
              </a:rPr>
              <a:t>דוגמא מספר </a:t>
            </a:r>
            <a:r>
              <a:rPr b="1" lang="he-IL" sz="5400" spc="-1" strike="noStrike" u="sng">
                <a:solidFill>
                  <a:srgbClr val="1f497d"/>
                </a:solidFill>
                <a:uFillTx/>
                <a:latin typeface="Calibri"/>
              </a:rPr>
              <a:t>1</a:t>
            </a:r>
            <a:r>
              <a:rPr b="1" lang="he-IL" sz="54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ספר שנות עבודה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פרש בשנ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– גי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שכורתו האחרונה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5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ענק פרישה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40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פנסיה – מקרן פנסיה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2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לעובד קופת גמל הפקדות קצבה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32,483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ה יתרת הפטור על הקצבה לפי תיקון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9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החדש ,ולפי נוסחת השילוב החדשה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C2E6-180C-41F8-87A2-A25B24BBE7C8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28DDB2DB-0C90-45AB-A1BF-92555574FC2C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1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5992920"/>
            <a:ext cx="262728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חישוב דוגמא מספר </a:t>
            </a: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1</a:t>
            </a:r>
            <a:r>
              <a:rPr b="0" lang="he-IL" sz="4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341000"/>
            <a:ext cx="8291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מענקים פטורים ממס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240,000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/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*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92,000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חייב לזכור כי המענק הפטור יהיה רק על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שנים שקדמו לגיל הזכאו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לפורש יש קופות גמל הפקדות אחרי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2008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32,483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ff0000"/>
                </a:solidFill>
                <a:uFillTx/>
                <a:latin typeface="Calibri"/>
              </a:rPr>
              <a:t>חישוב יתרת ההון הפטורה ממ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52%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8,51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180 = 796,536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₪ 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בהנחה מדד ס –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192,00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1.35 = 259,20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₪ 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א- ב =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796,536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259,20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537,3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משיכת קופות גמל –(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132,483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₪ )- קיבוע זכויות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161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Calibri"/>
              </a:rPr>
              <a:t>פטור קצבה = 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Calibri"/>
              </a:rPr>
              <a:t>404,853/180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Calibri"/>
              </a:rPr>
              <a:t> = 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Calibri"/>
              </a:rPr>
              <a:t>2,249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Calibri"/>
              </a:rPr>
              <a:t> 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Calibri"/>
              </a:rPr>
              <a:t>כלומר הפטור – 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Calibri"/>
              </a:rPr>
              <a:t>2,249/8,510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Calibri"/>
              </a:rPr>
              <a:t> = 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Calibri"/>
              </a:rPr>
              <a:t>26.4%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Calibri"/>
              </a:rPr>
              <a:t> במקום 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Calibri"/>
              </a:rPr>
              <a:t>52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6E51-DBFB-450A-B50F-908BDD7B53CC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6FB133CC-BA20-4313-8409-49C5F410C924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1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70c0"/>
                </a:solidFill>
                <a:uFillTx/>
                <a:latin typeface="Calibri"/>
              </a:rPr>
              <a:t>המשך – נושא מצגת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Calibri"/>
              </a:rPr>
              <a:t>קרן השתלמות  –  מקלט מס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Calibri"/>
              </a:rPr>
              <a:t>קופות גמל- המשך הפקדות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Calibri"/>
              </a:rPr>
              <a:t>הפקדות בעת הפריש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Calibri"/>
              </a:rPr>
              <a:t>פטור על ריבית בגיל פריש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730D-30A5-4B56-89D4-6415977A60AD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38A491F1-3A06-4E9C-B36D-6133AF5DCEB1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3132000" y="5661000"/>
            <a:ext cx="23227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Calibri"/>
              </a:rPr>
              <a:t>חלוקת התבנית בין הנתונים-גיל פרישה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9" name="מציין מיקום תוכן 5"/>
          <p:cNvGraphicFramePr/>
          <p:nvPr/>
        </p:nvGraphicFramePr>
        <p:xfrm>
          <a:off x="496800" y="1362240"/>
          <a:ext cx="831384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0" name="מציין מיקום תוכן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1362240"/>
                    <a:ext cx="831384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0A10-2F66-400B-AAE1-6DB56735D7A2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0F374EB5-0FD2-4498-A9A7-F28B02BCD0E3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C:\Documents and Settings\Administrator\שולחן העבודה\atudot_final.gif"/>
          <p:cNvPicPr/>
          <p:nvPr/>
        </p:nvPicPr>
        <p:blipFill>
          <a:blip r:embed="rId3"/>
          <a:stretch/>
        </p:blipFill>
        <p:spPr>
          <a:xfrm>
            <a:off x="6821640" y="558972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דוגמא </a:t>
            </a: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2</a:t>
            </a: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 - המחשת נוסחת שילוב חדשה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95280" y="1599840"/>
            <a:ext cx="8291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עובד שפרש בשנ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18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בגי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עובד מגי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מועד הפרישה קיב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00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מענק פטור עבור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ות עבודתו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שנ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2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ימלאו לו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והוא יתחיל לקבל קצבה חודשית בסך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0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עובד רוצה לקבל פטור על הקצבה סעיף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א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516640"/>
            <a:ext cx="2627280" cy="865080"/>
          </a:xfrm>
          <a:prstGeom prst="rect">
            <a:avLst/>
          </a:prstGeom>
          <a:ln w="0">
            <a:noFill/>
          </a:ln>
        </p:spPr>
      </p:pic>
      <p:sp>
        <p:nvSpPr>
          <p:cNvPr id="287" name="מציין מיקום של תאריך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4564-02CF-4E3B-A4EA-E70290D09339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BD60A898-2E5B-46CD-A534-EDA18B79C3E9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1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מציין מיקום של כותרת תחתונה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1f497d"/>
                </a:solidFill>
                <a:uFillTx/>
                <a:latin typeface="Calibri"/>
              </a:rPr>
              <a:t>כיצד מבוצע החישוב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כדי לחשב מהו סכום הפטור החודשי לו יהא זכאי לוקחים את גיל הזכאות (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) בניכוי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ות עבודה ומקבלים </a:t>
            </a:r>
            <a:r>
              <a:rPr b="1" lang="he-IL" sz="40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כדי לחשב את המענקים הפטורים יש לחשב את שנות המענק הפטורים השווי 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ה. "המענק הפטור" יהיה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00,000/35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257,143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516640"/>
            <a:ext cx="2627280" cy="865080"/>
          </a:xfrm>
          <a:prstGeom prst="rect">
            <a:avLst/>
          </a:prstGeom>
          <a:ln w="0">
            <a:noFill/>
          </a:ln>
        </p:spPr>
      </p:pic>
      <p:sp>
        <p:nvSpPr>
          <p:cNvPr id="292" name="מציין מיקום של תאריך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9EEE-2BEC-4563-9CFA-C44020C09086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1B0AFC89-7DC8-41A2-A05F-E5B024E62144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1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מציין מיקום של כותרת תחתונה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 u="sng">
                <a:solidFill>
                  <a:srgbClr val="1f497d"/>
                </a:solidFill>
                <a:uFillTx/>
                <a:latin typeface="Calibri"/>
              </a:rPr>
              <a:t>המשך דוגמא- </a:t>
            </a:r>
            <a:r>
              <a:rPr b="1" lang="he-IL" sz="6600" spc="-1" strike="noStrike" u="sng">
                <a:solidFill>
                  <a:srgbClr val="1f497d"/>
                </a:solidFill>
                <a:uFillTx/>
                <a:latin typeface="Calibri"/>
              </a:rPr>
              <a:t>2</a:t>
            </a:r>
            <a:r>
              <a:rPr b="1" lang="he-IL" sz="66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57,143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נמדד לשנ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2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בהתאם לשינוי המדד – יוצא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59,45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. (ע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/1/202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)</a:t>
            </a: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עכשיו נחשב הפטור שנוצל בעת הפרישה -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350,266</a:t>
            </a: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1" lang="he-IL" sz="3000" spc="-1" strike="noStrike">
                <a:solidFill>
                  <a:srgbClr val="ff0000"/>
                </a:solidFill>
                <a:latin typeface="Calibri"/>
              </a:rPr>
              <a:t>1.35</a:t>
            </a:r>
            <a:r>
              <a:rPr b="1" lang="he-IL" sz="30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1" lang="he-IL" sz="3000" spc="-1" strike="noStrike">
                <a:solidFill>
                  <a:srgbClr val="ff0000"/>
                </a:solidFill>
                <a:latin typeface="Calibri"/>
              </a:rPr>
              <a:t>259,457</a:t>
            </a:r>
            <a:br>
              <a:rPr sz="3000"/>
            </a:b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קדם =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1.35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( ראה נוסחה בתחתית השקף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תמיד מכפלים במקדם לפי 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35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* מזכ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180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 *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8,510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 *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35%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he-IL" sz="3600" spc="-1" strike="noStrike">
                <a:solidFill>
                  <a:srgbClr val="ff0000"/>
                </a:solidFill>
                <a:latin typeface="Calibri"/>
              </a:rPr>
              <a:t>1.35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*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2,4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516640"/>
            <a:ext cx="2627280" cy="865080"/>
          </a:xfrm>
          <a:prstGeom prst="rect">
            <a:avLst/>
          </a:prstGeom>
          <a:ln w="0">
            <a:noFill/>
          </a:ln>
        </p:spPr>
      </p:pic>
      <p:sp>
        <p:nvSpPr>
          <p:cNvPr id="297" name="מציין מיקום של תאריך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8AD8-65D9-4BE5-8467-FC92558D2992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1E3F4EB7-8636-4225-AFE4-4205D28B1790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1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מציין מיקום של כותרת תחתונה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1f497d"/>
                </a:solidFill>
                <a:uFillTx/>
                <a:latin typeface="Calibri"/>
              </a:rPr>
              <a:t>חישוב הפטור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500" spc="-1" strike="noStrike" u="sng">
                <a:solidFill>
                  <a:srgbClr val="002060"/>
                </a:solidFill>
                <a:uFillTx/>
                <a:latin typeface="Calibri"/>
              </a:rPr>
              <a:t>יתרון ההון הפטור לפני הפחתה:</a:t>
            </a:r>
            <a:br>
              <a:rPr sz="2500"/>
            </a:b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747,936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 ₪ = 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*(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49%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 * 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8,480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).- מספר קבוע</a:t>
            </a:r>
            <a:br>
              <a:rPr sz="2500"/>
            </a:br>
            <a:r>
              <a:rPr b="1" lang="he-IL" sz="2500" spc="-1" strike="noStrike" u="sng">
                <a:solidFill>
                  <a:srgbClr val="002060"/>
                </a:solidFill>
                <a:uFillTx/>
                <a:latin typeface="Calibri"/>
              </a:rPr>
              <a:t>אחרי הפחתה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500"/>
            </a:br>
            <a:r>
              <a:rPr b="1" lang="he-IL" sz="2500" spc="-1" strike="noStrike">
                <a:solidFill>
                  <a:srgbClr val="ff0000"/>
                </a:solidFill>
                <a:latin typeface="Calibri"/>
              </a:rPr>
              <a:t>397,670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 ₪ = </a:t>
            </a:r>
            <a:r>
              <a:rPr b="1" lang="he-IL" sz="2500" spc="-1" strike="noStrike">
                <a:solidFill>
                  <a:srgbClr val="000000"/>
                </a:solidFill>
                <a:latin typeface="Calibri"/>
              </a:rPr>
              <a:t>350,266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he-IL" sz="2500" spc="-1" strike="noStrike">
                <a:solidFill>
                  <a:srgbClr val="000000"/>
                </a:solidFill>
                <a:latin typeface="Calibri"/>
              </a:rPr>
              <a:t>747,936</a:t>
            </a:r>
            <a:br>
              <a:rPr sz="2500"/>
            </a:b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חילוק במכפיל: </a:t>
            </a:r>
            <a:r>
              <a:rPr b="1" lang="he-IL" sz="2500" spc="-1" strike="noStrike">
                <a:solidFill>
                  <a:srgbClr val="ff0000"/>
                </a:solidFill>
                <a:latin typeface="Calibri"/>
              </a:rPr>
              <a:t>2,209</a:t>
            </a:r>
            <a:r>
              <a:rPr b="1" lang="he-IL" sz="2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 ₪ = </a:t>
            </a:r>
            <a:r>
              <a:rPr b="1" lang="he-IL" sz="2500" spc="-1" strike="noStrike">
                <a:solidFill>
                  <a:srgbClr val="000000"/>
                </a:solidFill>
                <a:latin typeface="Calibri"/>
              </a:rPr>
              <a:t>397,670/180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500"/>
            </a:br>
            <a:r>
              <a:rPr b="1" lang="he-IL" sz="2500" spc="-1" strike="noStrike">
                <a:solidFill>
                  <a:srgbClr val="ff0000"/>
                </a:solidFill>
                <a:latin typeface="Calibri"/>
              </a:rPr>
              <a:t>2,209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 ₪ הינו הפטור החודשי לגמלאי –בהמשך יעודכן לפי המדד כל תחילת שנה ולפי השיעורים שיוגדלו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עד ל- 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67%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 באותו יחס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כלומר הפטור יעמוד על 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26%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 במקום 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49%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וזאת על מנת ולקבל את מענק הפרישה 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250,000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 ₪ פטור ממס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516640"/>
            <a:ext cx="2627280" cy="865080"/>
          </a:xfrm>
          <a:prstGeom prst="rect">
            <a:avLst/>
          </a:prstGeom>
          <a:ln w="0">
            <a:noFill/>
          </a:ln>
        </p:spPr>
      </p:pic>
      <p:sp>
        <p:nvSpPr>
          <p:cNvPr id="302" name="מציין מיקום של תאריך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A8AF-F497-49B9-9AED-BA88B29C95B2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AAF15DC2-939F-4BCE-A21B-90EBA17444BF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1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מציין מיקום של כותרת תחתונה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 u="sng">
                <a:solidFill>
                  <a:srgbClr val="1f497d"/>
                </a:solidFill>
                <a:uFillTx/>
                <a:latin typeface="Calibri"/>
              </a:rPr>
              <a:t>דוגמא </a:t>
            </a:r>
            <a:r>
              <a:rPr b="1" lang="he-IL" sz="6600" spc="-1" strike="noStrike" u="sng">
                <a:solidFill>
                  <a:srgbClr val="1f497d"/>
                </a:solidFill>
                <a:uFillTx/>
                <a:latin typeface="Calibri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עובד פרש בגי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3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טרם קבל קצב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חל לעבוד בגי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– עב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8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י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קבל מענק פרישה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80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קצבה חודשית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1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בגי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הו הפטור שיקבל על הקצבה לפי נוסחת השילוב החדשה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F446-CC4C-4470-A471-BA6C8326E43F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476F929A-123A-43BA-872A-9FC034B907DC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1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516640"/>
            <a:ext cx="2627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כיצד החישוב לאחר התיקו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95280" y="1197000"/>
            <a:ext cx="8353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גיל הזכאות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פחות </a:t>
            </a:r>
            <a:r>
              <a:rPr b="1" lang="he-IL" sz="36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שנות עבודה =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כדי לחשב את המענקים הפטורים יש לחשב את שנות המענק הפטורים השווי ל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63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שנה. "המענק הפטור" יהיה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380,000/35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303,999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הצמדה לשנת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2020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בהתאם לשינוי המדד – יוצא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305,000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₪. (עד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1/1/2020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)</a:t>
            </a:r>
            <a:br>
              <a:rPr sz="2800"/>
            </a:b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עכשיו נחשב הפטור שנוצל בעת הפרישה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305,000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1.35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he-IL" sz="2800" spc="-1" strike="noStrike" u="sng">
                <a:solidFill>
                  <a:srgbClr val="ff0000"/>
                </a:solidFill>
                <a:uFillTx/>
                <a:latin typeface="Calibri"/>
              </a:rPr>
              <a:t>411,750</a:t>
            </a:r>
            <a:br>
              <a:rPr sz="2800"/>
            </a:br>
            <a:r>
              <a:rPr b="1" lang="he-IL" sz="28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BC44-3A37-47E4-866E-5E86118C1061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29256FA5-B8C4-4774-AD18-51C3DB5DC78B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1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805360"/>
            <a:ext cx="2627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חישוב הפטור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2060"/>
                </a:solidFill>
                <a:uFillTx/>
                <a:latin typeface="Calibri"/>
              </a:rPr>
              <a:t>יתרת ההון הפטור לפני הפחתה:</a:t>
            </a: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796,536₪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*(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52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*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8,51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).</a:t>
            </a:r>
            <a:br>
              <a:rPr sz="3200"/>
            </a:br>
            <a:r>
              <a:rPr b="1" lang="he-IL" sz="3200" spc="-1" strike="noStrike" u="sng">
                <a:solidFill>
                  <a:srgbClr val="002060"/>
                </a:solidFill>
                <a:uFillTx/>
                <a:latin typeface="Calibri"/>
              </a:rPr>
              <a:t>אחרי הפחתה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84,786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 = 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411,750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796,536</a:t>
            </a: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חילוק במכפיל: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,13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= 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384,786/180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2,13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הינו הפטור החודשי לגמלאי –בהמשך יעודכן לפי המדד ולפי השיעורים שיוגדלו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עד ל-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AA38-F9E1-4400-B564-FD269593BF58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854F92C9-9601-4AF8-B11E-E06A0081E23A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1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589720"/>
            <a:ext cx="2627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 u="sng">
                <a:solidFill>
                  <a:srgbClr val="1f497d"/>
                </a:solidFill>
                <a:uFillTx/>
                <a:latin typeface="Calibri"/>
              </a:rPr>
              <a:t>דוגמא </a:t>
            </a:r>
            <a:r>
              <a:rPr b="1" lang="he-IL" sz="6600" spc="-1" strike="noStrike" u="sng">
                <a:solidFill>
                  <a:srgbClr val="1f497d"/>
                </a:solidFill>
                <a:uFillTx/>
                <a:latin typeface="Calibri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עובדת פרשה בגי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קופה הצטברו לה –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2,000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קצבה צפויה לפי מקדם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1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9,523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גי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משכה פיצויים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אלף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דד ביום המשיכה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דד ביום החישוב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6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מה הפטור על הקצבה לפי תיקון 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190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76FB-5582-4A03-9D6B-02810DF5ECFF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94B56ADD-D35F-48F3-AA13-1FC4E119A268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1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589720"/>
            <a:ext cx="2627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1f497d"/>
                </a:solidFill>
                <a:uFillTx/>
                <a:latin typeface="Calibri"/>
              </a:rPr>
              <a:t>דרך פעולה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ff0000"/>
                </a:solidFill>
                <a:uFillTx/>
                <a:latin typeface="Calibri"/>
              </a:rPr>
              <a:t>חישוב יתרת ההון הפטור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1" lang="he-IL" sz="4000" spc="-1" strike="noStrike">
                <a:solidFill>
                  <a:srgbClr val="000000"/>
                </a:solidFill>
                <a:latin typeface="Calibri"/>
              </a:rPr>
              <a:t> *</a:t>
            </a:r>
            <a:r>
              <a:rPr b="1" lang="he-IL" sz="4000" spc="-1" strike="noStrike">
                <a:solidFill>
                  <a:srgbClr val="000000"/>
                </a:solidFill>
                <a:latin typeface="Calibri"/>
              </a:rPr>
              <a:t>52%</a:t>
            </a:r>
            <a:r>
              <a:rPr b="1" lang="he-IL" sz="4000" spc="-1" strike="noStrike">
                <a:solidFill>
                  <a:srgbClr val="000000"/>
                </a:solidFill>
                <a:latin typeface="Calibri"/>
              </a:rPr>
              <a:t> * </a:t>
            </a:r>
            <a:r>
              <a:rPr b="1" lang="he-IL" sz="4000" spc="-1" strike="noStrike">
                <a:solidFill>
                  <a:srgbClr val="000000"/>
                </a:solidFill>
                <a:latin typeface="Calibri"/>
              </a:rPr>
              <a:t>8,510</a:t>
            </a:r>
            <a:r>
              <a:rPr b="1" lang="he-IL" sz="40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1" lang="he-IL" sz="4000" spc="-1" strike="noStrike">
                <a:solidFill>
                  <a:srgbClr val="000000"/>
                </a:solidFill>
                <a:latin typeface="Calibri"/>
              </a:rPr>
              <a:t>796,536</a:t>
            </a:r>
            <a:r>
              <a:rPr b="1" lang="he-IL" sz="40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קיזוז המענק ממודד = 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 * 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160/100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320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 אלף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מוכפל במקדם – פגיעה מענק =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32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*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1.35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432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אלף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796,536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432,00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364,5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חלוקה במקדם –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364,536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= 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2025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קצבה חייבת –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9,523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2,025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7,497.8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DD8E-38F6-4A02-823E-BD32D3396929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36918149-0928-4FE6-946D-853DCBFAE1DA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1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805360"/>
            <a:ext cx="262728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00040"/>
            <a:ext cx="7953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0000ff"/>
                </a:solidFill>
                <a:uFillTx/>
                <a:latin typeface="Calibri"/>
                <a:cs typeface="Aharoni"/>
              </a:rPr>
              <a:t>סל הפרישה הראשי מהו כולל-</a:t>
            </a:r>
            <a:r>
              <a:rPr b="0" lang="he-IL" sz="4800" spc="-1" strike="noStrike" u="sng">
                <a:solidFill>
                  <a:srgbClr val="0000ff"/>
                </a:solidFill>
                <a:uFillTx/>
                <a:latin typeface="Calibri"/>
                <a:ea typeface="Aharoni"/>
              </a:rPr>
              <a:t>161</a:t>
            </a:r>
            <a:r>
              <a:rPr b="0" lang="he-IL" sz="4800" spc="-1" strike="noStrike" u="sng">
                <a:solidFill>
                  <a:srgbClr val="0000ff"/>
                </a:solidFill>
                <a:uFillTx/>
                <a:latin typeface="Calibri"/>
                <a:ea typeface="Aharoni"/>
              </a:rPr>
              <a:t> 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5640" y="1341360"/>
            <a:ext cx="813744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00"/>
                </a:solidFill>
                <a:latin typeface="Calibri"/>
                <a:cs typeface="Aharoni"/>
              </a:rPr>
              <a:t>פיצויים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  <a:ea typeface="Aharoni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  <a:ea typeface="Aharoni"/>
              </a:rPr>
              <a:t>- מענק חד פעמי- סכום הוני –מענק פריש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Calibri"/>
                <a:cs typeface="Aharoni"/>
              </a:rPr>
              <a:t>מענק מחלה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  <a:ea typeface="Aharoni"/>
              </a:rPr>
              <a:t>– ימי מחלה שנותרו בצבירה לפי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  <a:ea typeface="Aharoni"/>
              </a:rPr>
              <a:t>30/8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  <a:ea typeface="Aharoni"/>
              </a:rPr>
              <a:t> או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  <a:ea typeface="Aharoni"/>
              </a:rPr>
              <a:t>30/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00"/>
                </a:solidFill>
                <a:latin typeface="Calibri"/>
                <a:cs typeface="Aharoni"/>
              </a:rPr>
              <a:t>מענק הסתגלות-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  <a:cs typeface="Aharoni"/>
              </a:rPr>
              <a:t>תשלום חד פעמ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00"/>
                </a:solidFill>
                <a:latin typeface="Calibri"/>
                <a:cs typeface="Aharoni"/>
              </a:rPr>
              <a:t>חלף הודעה מוקדמת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  <a:ea typeface="Aharoni"/>
              </a:rPr>
              <a:t>– נכלל כפיצויים בטופס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  <a:ea typeface="Aharoni"/>
              </a:rPr>
              <a:t>161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  <a:ea typeface="Aharon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Calibri"/>
                <a:cs typeface="Aharoni"/>
              </a:rPr>
              <a:t>מענק שנים עודפות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  <a:ea typeface="Aharoni"/>
              </a:rPr>
              <a:t>- מעל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  <a:ea typeface="Aharoni"/>
              </a:rPr>
              <a:t>35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  <a:ea typeface="Aharoni"/>
              </a:rPr>
              <a:t> שנות עבוד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00"/>
                </a:solidFill>
                <a:latin typeface="Calibri"/>
                <a:cs typeface="Aharoni"/>
              </a:rPr>
              <a:t>מענקי פרישה מיוחדים-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  <a:cs typeface="Aharoni"/>
              </a:rPr>
              <a:t>סעיף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  <a:ea typeface="Aharoni"/>
              </a:rPr>
              <a:t>22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  <a:ea typeface="Aharoni"/>
              </a:rPr>
              <a:t> לחוק גמלאות, פרישה לפני גיל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  <a:ea typeface="Aharoni"/>
              </a:rPr>
              <a:t>60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  <a:ea typeface="Aharoni"/>
              </a:rPr>
              <a:t> ובתנאי שהפנסיה -  נמוכה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  <a:ea typeface="Aharoni"/>
              </a:rPr>
              <a:t>70%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  <a:ea typeface="Aharoni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ff0000"/>
                </a:solidFill>
                <a:uFillTx/>
                <a:latin typeface="Calibri"/>
              </a:rPr>
              <a:t>המס ניתן לתכנון על ידי הפורש –יש אפשרויות לחסוך באופן מהותי את חבות המס -חליפה מיסוי לכול פור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B6C2-397C-4DF9-BAD3-29233C84F503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2961F49D-C872-4830-A2C4-54F0FACA2502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50920" y="602136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 u="sng">
                <a:solidFill>
                  <a:srgbClr val="1f497d"/>
                </a:solidFill>
                <a:uFillTx/>
                <a:latin typeface="Calibri"/>
              </a:rPr>
              <a:t>דוגמא </a:t>
            </a:r>
            <a:r>
              <a:rPr b="1" lang="he-IL" sz="6600" spc="-1" strike="noStrike" u="sng">
                <a:solidFill>
                  <a:srgbClr val="1f497d"/>
                </a:solidFill>
                <a:uFillTx/>
                <a:latin typeface="Calibri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פרישה בשנ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2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בגי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וקבלת מענק פטור בסך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80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בגין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ות עבודה.</a:t>
            </a: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תחיל לקבל קצבה חודשית ש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0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יש לחשב את הפטור על הקצבה לאחר תיקון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EF69-C167-4ED3-89AE-0075C452AF13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4FC82DA3-3045-4AC4-82BF-C5C346744D25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1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324000" y="5661000"/>
            <a:ext cx="2627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המשך הסבר דוגמא-</a:t>
            </a: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5</a:t>
            </a: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קבל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80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ע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ות עבודה ,יש להתאים ל-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ות עבוד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80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32 = 384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צמדה למדד ליום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/1/202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בהנחה מד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כפלה במקדם =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84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1.35 = 518,4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תקרת – הון =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796,536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=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*(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52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*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8,51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796,536-518,4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78,136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/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1,545₪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F823-1F58-4A07-874C-3125D2C5D3A0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B1A66290-6F21-43EC-B238-222B5E6B6D0D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1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627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בחירה /נוסחה ישנה או חדשה</a:t>
            </a:r>
            <a:br>
              <a:rPr sz="4400"/>
            </a:b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מענק פטור מהו 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מענקים הפטורים כהגדרתם בנוסח החדש הנם מענקים ששולמו לו לאחר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/1/201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 אולם מי שקיבל מענקים לפני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/1/201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, לכשיגיע לגיל הזכאות לקצבה יכול לבחור בין החלת נוסחת השילוב הישנה או נוסחת השילוב החדשה ובלבד שיודיע לפ"ש בתוך </a:t>
            </a:r>
            <a:r>
              <a:rPr b="1" lang="he-IL" sz="60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1" lang="he-IL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יום לאחר שהגיע לגיל הזכאות.</a:t>
            </a: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516640"/>
            <a:ext cx="2627280" cy="865080"/>
          </a:xfrm>
          <a:prstGeom prst="rect">
            <a:avLst/>
          </a:prstGeom>
          <a:ln w="0">
            <a:noFill/>
          </a:ln>
        </p:spPr>
      </p:pic>
      <p:sp>
        <p:nvSpPr>
          <p:cNvPr id="342" name="מציין מיקום של תאריך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03E4-35E8-497C-95B0-49E571886915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B9D85A84-30AD-42EF-9585-4499E038966D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1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מציין מיקום של כותרת תחתונה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קיבוע זכויות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ניתן למשוך כספים שהופקדו אחרי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/1/2008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בקיבוע זכויות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גבר בגי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אישה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רק ובמידה ויש פנסיה מע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אחוז מהשכר הממוצע במשק נכון להיות כ-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,6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אמצעות בקשה למס הכנסה בסמוך לפרישה טופס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61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שיכה זו על חשבון הפטור ממס על הקצב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CE1A-E734-48A8-881C-042FE907063B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3BD46DAE-D17F-4542-98C2-30FE2306D7B7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214200"/>
            <a:ext cx="23223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המשך קיבוע זכויות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מלצה בעת הפרישה לרכז את כול קופות הגמל בהם יש הפקדות לאחר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/1/08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מידה ולא מבקשים פעולה זו ,כל משיכה בעתיד ובמידה וחלפו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יום מיום הבחירה בפטורים על המענק והקצבה ,יהיה חיוב במס ש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5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לחילופין המס יותאם להכנסות של הנישום לפי המס השולי הקיים על הפנסי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לכן חשוב בעת הפרישה לטפל בקופות הנ"ל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E60C-7AF2-4D3F-A371-A625B8968A6D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6541974F-AB6F-4FAA-8CFA-F3E271EF46B6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70c0"/>
                </a:solidFill>
                <a:uFillTx/>
                <a:latin typeface="Calibri"/>
              </a:rPr>
              <a:t>קרן השתלמות</a:t>
            </a:r>
            <a:r>
              <a:rPr b="1" lang="en-US" sz="66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ניתן למשוך בפריש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בתנאי שהגיע לגיל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לפחו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הקרן בת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שנים מינימו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מקלט מס- לא תמיד מומלץ למשו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ניתן לנייד – לקופת פנסיה- קצבה פטור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ניתן לגרור ותק מקרן ותיקה לחדש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אין יותר אפשרות להפקי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A1D3-DF44-4524-95B3-CA0842AA78B0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EF260B46-0E5B-4ECF-B626-50091C724EDB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קופות גמל – הוניות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ניתן למשוך כספים ע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1/12/0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גי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לפחו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ות ות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סוגי קופות עד שנ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03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06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חל משנ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08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רק קצבה לא משלמ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כספים ע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1/12/06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– ניתן למשוך לאחר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ות חסכון -קופות עצמאיות בלב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7707-FEDF-49B7-9530-72F21920C74E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8DB1DE8F-17BB-458C-83FF-5F386A9CBC1A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70c0"/>
                </a:solidFill>
                <a:uFillTx/>
                <a:latin typeface="Calibri"/>
              </a:rPr>
              <a:t>היוון קצב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ניתן להוון קצבה בעת הפרישה(בגיל פרישה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שיעור היוון מרבי –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25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מהקצב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תקופת היוון מרבית –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ים –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7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חוד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ניתן לבקש היוון – עד שנתיים מיום הפריש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אין דרך לחזור מהבחיר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מידה והמקבל נפטר במהלך ההיוון – נמח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פטור לפי סעיף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א – לפני הסכום לפני ההיוון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2753-E8C3-4CC1-89DC-A28649DBAB45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3E8F792B-965D-4506-98CC-00A7D184DD36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C:\Documents and Settings\Administrator\שולחן העבודה\atudot_final.gif"/>
          <p:cNvPicPr/>
          <p:nvPr/>
        </p:nvPicPr>
        <p:blipFill>
          <a:blip r:embed="rId2"/>
          <a:stretch/>
        </p:blipFill>
        <p:spPr>
          <a:xfrm>
            <a:off x="152280" y="152280"/>
            <a:ext cx="232272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70c0"/>
                </a:solidFill>
                <a:uFillTx/>
                <a:latin typeface="Calibri"/>
              </a:rPr>
              <a:t>המשך היוו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חישוב של ההיוון –לפי לוח אקטוארי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במידה ויש עדכון הפנסיה – ההחזר מתעדכן- גוד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שיעור הרבית – כ-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7%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בשנ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מתאים למשפחה – שאין שארים מומלץ לבקש היוו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ניתן לבצע פריסה על היוון חייב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כוחות הביטחון – ניתן לבצע היוון גם ולא הגיע לגיל פריש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יוון פטור ממס – עד הקצבה המזכה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35%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26A7-0039-4897-8FBE-37E2A6EEC631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F2B2F171-E552-43A8-BB9B-8200146A0A42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70c0"/>
                </a:solidFill>
                <a:uFillTx/>
                <a:latin typeface="Calibri"/>
              </a:rPr>
              <a:t>רצף פיצויים(רצף מעסיקים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ניתן לבקש באמצעות טופס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61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א – רצף פיצויי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מומלץ למי שפורש ומתחיל לעבוד – שכר גבוהה יות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תנאי לרצף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א. עד שנה מיום הפרישה החל לעבוד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ב.כספי הפיצויים הופקדו / לא נמשכו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ג. המעביד החדש מפקיד לקופה החדש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דחיית תשלום המס – חישוב סופי יבוצע רק בסיום העבודה אצל המעסיק האחרון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לפי שכרו אצל המעסיק האחרון + תקרה ביום הסיו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ניתן לחזור מרצף עד שנתיים מיום העזיבה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007F-844D-42D6-BA68-A1B3AF9069B8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80C47B1E-0590-4A91-B7E1-776B6C84BD32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0000ff"/>
                </a:solidFill>
                <a:uFillTx/>
                <a:latin typeface="Calibri"/>
                <a:cs typeface="Aharoni"/>
              </a:rPr>
              <a:t>סל הפרישה המשני מהו כולל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557000"/>
            <a:ext cx="78375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Calibri"/>
                <a:cs typeface="Aharoni"/>
              </a:rPr>
              <a:t>פדיון חופשה לעוזב- יתרה בלתי מנוצלת, חייב במס מלא, פטור מביטוח לאומי ומס בריאות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Calibri"/>
                <a:cs typeface="Aharoni"/>
              </a:rPr>
              <a:t>הבראה - תשלום יחסי בשנה הראשונה המשרד משלם מל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Calibri"/>
                <a:cs typeface="Aharoni"/>
              </a:rPr>
              <a:t>ביטוחי רכב- תשלום יחסי לרוב בחודש ינואר- קיזו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Calibri"/>
                <a:cs typeface="Aharoni"/>
              </a:rPr>
              <a:t>ביגוד- חד פעמי בשנה הראשונה מלא משר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Calibri"/>
                <a:cs typeface="Aharoni"/>
              </a:rPr>
              <a:t>מענק יובלות- תשלום חד פעמי  בשנה הראשונה מלא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Calibri"/>
                <a:cs typeface="Aharoni"/>
              </a:rPr>
              <a:t>היות והמס בישראל מחושב על בסיס שנתי מצטבר ,והסבירות שההכנסה מפנסיה נמוכה מההכנסה ממשכורת ,בחישוב שנתי יתכן מאוד ולעובד ייווצר החזר מס ,</a:t>
            </a:r>
            <a:r>
              <a:rPr b="1" lang="he-IL" sz="2800" spc="-1" strike="noStrike" u="sng">
                <a:solidFill>
                  <a:srgbClr val="ff0000"/>
                </a:solidFill>
                <a:uFillTx/>
                <a:latin typeface="Calibri"/>
                <a:cs typeface="Aharoni"/>
              </a:rPr>
              <a:t>לכן ההמלצה היא -הגשת דו"ח שנתי בסוף שנת הפרישה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B585-0B30-4CBF-9647-44A2EE0ED4E2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39D37A02-0854-42DE-8AF3-A0BC8D0E0D88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14200" y="0"/>
            <a:ext cx="23227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7859880" cy="11401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70c0"/>
                </a:solidFill>
                <a:uFillTx/>
                <a:latin typeface="Calibri"/>
              </a:rPr>
              <a:t>תודה רבה על ההקשב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38080" y="2362320"/>
            <a:ext cx="769464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כול פורש חייב להתייעץ בעת הפרישה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לקבל ייעוץ מיועץ פרישה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יורם אזרד  –   יועץ מס ופרישה .פגישה אישית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פגישה – ייעוץ ותכנון – מומחה לסוגיות פרישה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ט.ל.ח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אין להעתיק תוכן מצגת זאת ללא רשות הכותב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כול הזכויות שמורות – יורם אזרד יועץ מס ופרישה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3BD2-2E71-455E-AE13-8F3E9559DC8D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9C3D96D3-D283-4D75-A447-3FA748B0847C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3276720" y="5732640"/>
            <a:ext cx="232236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70c0"/>
                </a:solidFill>
                <a:uFillTx/>
                <a:latin typeface="Calibri"/>
              </a:rPr>
              <a:t>הכרת הטפסים בעזיבה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356840"/>
            <a:ext cx="83296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הודעת </a:t>
            </a:r>
            <a:r>
              <a:rPr b="1" lang="he-IL" sz="2800" spc="-1" strike="noStrike" u="sng">
                <a:solidFill>
                  <a:srgbClr val="ff0000"/>
                </a:solidFill>
                <a:uFillTx/>
                <a:latin typeface="Calibri"/>
              </a:rPr>
              <a:t>מעביד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על פרישה – המעסיק נותן..\טפסים חדש מס הכנסה ביטוח לאומי 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\הודעת מעביד על פרישת עובד -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161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d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הודעת </a:t>
            </a:r>
            <a:r>
              <a:rPr b="1" lang="he-IL" sz="2800" spc="-1" strike="noStrike">
                <a:solidFill>
                  <a:srgbClr val="ff0000"/>
                </a:solidFill>
                <a:latin typeface="Calibri"/>
              </a:rPr>
              <a:t>עובד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על פרישה (חובה על העובד)..\טפסים חדש מס הכנסה ביטוח לאומי 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\הודעת עובד על פרישה - טופס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161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א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d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2970-6693-4481-AEA3-B2CA339CC437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ACA890B2-527D-4955-ABD6-8FF93985CC12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הכרת הטפסים בעזיבה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Calibri"/>
              </a:rPr>
              <a:t>טופס </a:t>
            </a:r>
            <a:r>
              <a:rPr b="0" lang="he-IL" sz="2400" spc="-1" strike="noStrike">
                <a:solidFill>
                  <a:srgbClr val="002060"/>
                </a:solidFill>
                <a:latin typeface="Calibri"/>
              </a:rPr>
              <a:t>161</a:t>
            </a:r>
            <a:r>
              <a:rPr b="0" lang="he-IL" sz="2400" spc="-1" strike="noStrike">
                <a:solidFill>
                  <a:srgbClr val="002060"/>
                </a:solidFill>
                <a:latin typeface="Calibri"/>
              </a:rPr>
              <a:t> ד –</a:t>
            </a:r>
            <a:r>
              <a:rPr b="1" lang="he-IL" sz="2400" spc="-1" strike="noStrike" u="sng">
                <a:solidFill>
                  <a:srgbClr val="002060"/>
                </a:solidFill>
                <a:uFillTx/>
                <a:latin typeface="Calibri"/>
              </a:rPr>
              <a:t>קיבוע זכויות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,היוון קופות גמל מסלול קצב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באמצעות טפסים אלה העובד מבקש מרשויות המס את הבקשות הבאות: ..\טפסים חדש מס הכנסה ביטוח לאומי 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\בקשה לקיבוע זכויות סעיף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א - טופס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61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ד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d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. פטור על המענקים- לפי סעיף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) (א)- 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12,420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₪ במקרה מוות – 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24,840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לכל שנת עבוד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.פטור על פנסיה - סעיף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א עד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52%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מתוך 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8,510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. רצף קצבה - במסלול קצבה בלבד הפקדות אחרי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/1/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.רצף פיצויים –במידה ואין משיכת פיצויים בכלל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,היוון קצבה  - קבלת פטו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. משיכה מקופות גמל לקצבה באופן הוני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EE6E-E938-4AED-808C-6C820D2FE0EC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22E7BE2C-CF44-45EE-96CC-52E037A5B4B5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מה עושים -טיפול מיסוי - מענקי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לפי סעיף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) (א) - יש פטור ממס עד תקר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סך הפטור הנמוך מבין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משכורת אחרונה ברוטו /  ו או תקרת הפטור 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12,4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התוצאה המתקבלת מוכפלת במספר שנות העבודה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ניתן להכליל את כול המוצרים כגון : מחלה, הסתגלות ,מענקי פרישה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   תקופת חל"ת לא נחשבת למרות שנרכשה לזכיות פנסיה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e-IL" sz="3200" spc="-1" strike="noStrike" u="sng">
                <a:solidFill>
                  <a:srgbClr val="ff0000"/>
                </a:solidFill>
                <a:uFillTx/>
                <a:latin typeface="Calibri"/>
              </a:rPr>
              <a:t>חשוב לציין משכורת אחרונה ולא שכר לפיצויי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ff0000"/>
                </a:solidFill>
                <a:uFillTx/>
                <a:latin typeface="Calibri"/>
              </a:rPr>
              <a:t>כולל </a:t>
            </a:r>
            <a:r>
              <a:rPr b="1" lang="he-IL" sz="3200" spc="-1" strike="noStrike" u="sng">
                <a:solidFill>
                  <a:srgbClr val="ff0000"/>
                </a:solidFill>
                <a:uFillTx/>
                <a:latin typeface="Calibri"/>
              </a:rPr>
              <a:t>1/12</a:t>
            </a:r>
            <a:r>
              <a:rPr b="1" lang="he-IL" sz="3200" spc="-1" strike="noStrike" u="sng">
                <a:solidFill>
                  <a:srgbClr val="ff0000"/>
                </a:solidFill>
                <a:uFillTx/>
                <a:latin typeface="Calibri"/>
              </a:rPr>
              <a:t> הבראה ,ביגוד ,יובל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1BBF-0250-4007-88BF-FAD8D313158F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985661E3-D935-4EA5-AA3B-4399719E93AF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3276720" y="566100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7:29:48Z</dcterms:created>
  <dc:creator>xp</dc:creator>
  <dc:description/>
  <dc:language>en-US</dc:language>
  <cp:lastModifiedBy>Admin</cp:lastModifiedBy>
  <dcterms:modified xsi:type="dcterms:W3CDTF">2020-01-02T07:06:39Z</dcterms:modified>
  <cp:revision>286</cp:revision>
  <dc:subject/>
  <dc:title>אזרד יורם – יועץ מס מומחה למיסוי פרישה</dc:title>
</cp:coreProperties>
</file>