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C0BD0-A9D7-49C1-87CE-644243F6F630}" type="slidenum">
              <a:rPr b="0" lang="he-I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27688-E4EC-42EF-87EE-6CB7158BE250}" type="slidenum">
              <a:rPr b="0" lang="he-I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8EB38-3EFC-4217-A775-3EFD2CB93857}" type="slidenum">
              <a:rPr b="0" lang="he-I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17D9C-D4F8-4D50-85D3-632998605D3F}" type="slidenum">
              <a:rPr b="0" lang="he-I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471E2-2DF1-4709-92AB-49EB08122644}" type="slidenum">
              <a:rPr b="0" lang="he-I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DBCC5-E75F-43C2-BA21-059026E7D9A9}" type="slidenum">
              <a:rPr b="0" lang="he-I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C1742-C73F-4CE3-9054-7BD62EE992AB}" type="slidenum">
              <a:rPr b="0" lang="he-I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668BC-4473-465A-B901-C189588B5DDC}" type="slidenum">
              <a:rPr b="0" lang="he-I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6AC00-D63A-4586-BE66-A75ED33A6D86}" type="slidenum">
              <a:rPr b="0" lang="he-I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69FDD-2E76-4B9F-AAED-EAE90492660E}" type="slidenum">
              <a:rPr b="0" lang="he-I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B4D1C-FB66-46AA-97D7-FCEBE7A73867}" type="slidenum">
              <a:rPr b="0" lang="he-I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CEB9-F88C-442D-9492-5615752C2E4F}" type="slidenum">
              <a:rPr b="0" lang="he-I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5A9E0-106C-4095-A5AC-7C59AC1C8B12}" type="slidenum">
              <a:rPr b="0" lang="he-I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02F2-2435-43DC-94A7-5D19ADD1A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54E3-DDC3-447F-8DEC-79AAE3D64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9793-7B93-409D-A1EA-0E6321B5B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6F35-051A-4B3C-88E9-2C67077B8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7DB9-24C7-4008-A47D-797048C36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D14B-6310-46E5-A3CF-29D1BC812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0740-F07C-43E5-B1CA-E62F01234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2142-C752-4B97-A9E5-519E679FD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AEF3-E181-49A0-AD3D-DA11F4648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EBB4-630C-4414-AE8F-B9841045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5F91-D596-4F0F-A68B-21FCE02D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4FD8-BD44-464E-B791-0D3BAC0F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D9E7D-676A-41AE-B94B-5C3F792BF385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AC5A6-4F8E-46BB-AD51-59AC3DC17103}" type="datetime">
              <a:rPr b="0" lang="he-IL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743D549-CEFC-46A7-8085-E26315E9C756}" type="datetime10">
              <a:rPr b="0" lang="he-IL" sz="1200" spc="-1" strike="noStrike">
                <a:solidFill>
                  <a:srgbClr val="898989"/>
                </a:solidFill>
                <a:latin typeface="Calibri"/>
              </a:rPr>
              <a:t>01:5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מציין מיקום של כותרת תחתונה 4"/>
          <p:cNvSpPr/>
          <p:nvPr/>
        </p:nvSpPr>
        <p:spPr>
          <a:xfrm>
            <a:off x="3143160" y="628668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תחום המיסו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מציין מיקום של מספר שקופית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B17AB-DC21-4716-89A0-B2DA4F240E8D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0464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376092"/>
                </a:solidFill>
                <a:latin typeface="Calibri"/>
              </a:rPr>
              <a:t>יורם  אזרד- יועץ מס ופרישה</a:t>
            </a:r>
            <a:br>
              <a:rPr sz="3600"/>
            </a:br>
            <a:r>
              <a:rPr b="1" lang="he-IL" sz="3600" spc="-1" strike="noStrike">
                <a:solidFill>
                  <a:srgbClr val="376092"/>
                </a:solidFill>
                <a:latin typeface="Calibri"/>
              </a:rPr>
              <a:t>052-3808345</a:t>
            </a:r>
            <a:br>
              <a:rPr sz="3600"/>
            </a:br>
            <a:r>
              <a:rPr b="1" lang="he-IL" sz="3600" spc="-1" strike="noStrike">
                <a:solidFill>
                  <a:srgbClr val="376092"/>
                </a:solidFill>
                <a:latin typeface="Calibri"/>
              </a:rPr>
              <a:t>02-623300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94920" y="642960"/>
            <a:ext cx="8534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600" spc="-1" strike="noStrike">
                <a:solidFill>
                  <a:srgbClr val="376092"/>
                </a:solidFill>
                <a:latin typeface="Calibri"/>
              </a:rPr>
              <a:t>חוק להגברת האכיפה של דיני עבודה התשע"ב </a:t>
            </a:r>
            <a:r>
              <a:rPr b="1" i="1" lang="he-IL" sz="3600" spc="-1" strike="noStrike">
                <a:solidFill>
                  <a:srgbClr val="376092"/>
                </a:solidFill>
                <a:latin typeface="Calibri"/>
              </a:rPr>
              <a:t>201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600" spc="-1" strike="noStrike">
                <a:solidFill>
                  <a:srgbClr val="376092"/>
                </a:solidFill>
                <a:latin typeface="Calibri"/>
              </a:rPr>
              <a:t>עתודות – המרכז ללימודי מקצועות השכר בישראל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2662200" y="2700360"/>
            <a:ext cx="3338640" cy="12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 u="sng">
                <a:solidFill>
                  <a:srgbClr val="0070c0"/>
                </a:solidFill>
                <a:uFillTx/>
                <a:latin typeface="Calibri"/>
              </a:rPr>
              <a:t>מיהו בודק השכר 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499760"/>
            <a:ext cx="83296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בודק השכר נדרש להיות עצמאי כלפי הקבלן ומזמין השירות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לא יפעל בניגוד ענייני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לא יהיה עובד של הקבלן או מזמין השירות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לא יהיה נושא משרה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לא יהיה בעל זיקה לאחד הצדדים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קבל רישיון להיות בודק שכר מוסמך – תמ"ת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 u="sng">
                <a:solidFill>
                  <a:srgbClr val="ff0000"/>
                </a:solidFill>
                <a:uFillTx/>
                <a:latin typeface="Calibri"/>
              </a:rPr>
              <a:t>עד </a:t>
            </a:r>
            <a:r>
              <a:rPr b="1" lang="he-IL" sz="2800" spc="-1" strike="noStrike" u="sng">
                <a:solidFill>
                  <a:srgbClr val="ff0000"/>
                </a:solidFill>
                <a:uFillTx/>
                <a:latin typeface="Calibri"/>
              </a:rPr>
              <a:t>18</a:t>
            </a:r>
            <a:r>
              <a:rPr b="1" lang="he-IL" sz="2800" spc="-1" strike="noStrike" u="sng">
                <a:solidFill>
                  <a:srgbClr val="ff0000"/>
                </a:solidFill>
                <a:uFillTx/>
                <a:latin typeface="Calibri"/>
              </a:rPr>
              <a:t> חודשים הראשונים מיום כניסת החוק הבדיקות יערכו על ידי רואה חשבון לגבי </a:t>
            </a:r>
            <a:r>
              <a:rPr b="1" lang="he-IL" sz="2800" spc="-1" strike="noStrike" u="sng">
                <a:solidFill>
                  <a:srgbClr val="ff0000"/>
                </a:solidFill>
                <a:uFillTx/>
                <a:latin typeface="Calibri"/>
              </a:rPr>
              <a:t>10%</a:t>
            </a:r>
            <a:r>
              <a:rPr b="1" lang="he-IL" sz="2800" spc="-1" strike="noStrike" u="sng">
                <a:solidFill>
                  <a:srgbClr val="ff0000"/>
                </a:solidFill>
                <a:uFillTx/>
                <a:latin typeface="Calibri"/>
              </a:rPr>
              <a:t> לפחות מהעובדים לפחות אחת ל- </a:t>
            </a:r>
            <a:r>
              <a:rPr b="1" lang="he-IL" sz="2800" spc="-1" strike="noStrike" u="sng">
                <a:solidFill>
                  <a:srgbClr val="ff0000"/>
                </a:solidFill>
                <a:uFillTx/>
                <a:latin typeface="Calibri"/>
              </a:rPr>
              <a:t>9</a:t>
            </a:r>
            <a:r>
              <a:rPr b="1" lang="he-IL" sz="2800" spc="-1" strike="noStrike" u="sng">
                <a:solidFill>
                  <a:srgbClr val="ff0000"/>
                </a:solidFill>
                <a:uFillTx/>
                <a:latin typeface="Calibri"/>
              </a:rPr>
              <a:t> חודשים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500" spc="-1" strike="noStrike" u="sng">
                <a:solidFill>
                  <a:srgbClr val="0070c0"/>
                </a:solidFill>
                <a:uFillTx/>
                <a:latin typeface="Calibri"/>
              </a:rPr>
              <a:t>בדיקות תקופתיות בהתאם להוראות סעיף </a:t>
            </a:r>
            <a:r>
              <a:rPr b="1" lang="he-IL" sz="3500" spc="-1" strike="noStrike" u="sng">
                <a:solidFill>
                  <a:srgbClr val="0070c0"/>
                </a:solidFill>
                <a:uFillTx/>
                <a:latin typeface="Calibri"/>
              </a:rPr>
              <a:t>54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79280" y="1197000"/>
            <a:ext cx="8640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0000"/>
                </a:solidFill>
                <a:latin typeface="Calibri"/>
              </a:rPr>
              <a:t>תכנית עבודה הכיצד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בביצוע הבדיקות התקופתיות חשוב מאוד שהתאגיד ישתף פעולה להצלחת התהליך כגון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זמינו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שקיפו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העברת מסמכים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שיתוף פעולה בין המזמין לקבלן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הבהרות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0" y="6180840"/>
            <a:ext cx="264312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A9BC9-8A78-4C8F-9DC4-5D567CECE170}" type="datetime">
              <a:rPr b="0" lang="he-IL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797BE3B-190B-4DDA-B0DA-7DE2A2F29511}" type="datetime10">
              <a:rPr b="0" lang="he-IL" sz="1200" spc="-1" strike="noStrike">
                <a:solidFill>
                  <a:srgbClr val="898989"/>
                </a:solidFill>
                <a:latin typeface="Calibri"/>
              </a:rPr>
              <a:t>01:5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תחום המיסו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מציין מיקום של מספר שקופית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32416-88E2-438A-B16D-E8F3C91B583A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376092"/>
                </a:solidFill>
                <a:uFillTx/>
                <a:latin typeface="Calibri"/>
              </a:rPr>
              <a:t>אלו מסמכים יש להעביר לבודק שכר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52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רשימת כלל עובדי הקבלן במהלך תקופת הבדיקה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רישיון עיסוק קבלן עובדים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הודעה לעובד על תנאי השכר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פנקס שכר ,תלושי שכ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פנקס שעות עבודה ,חופשה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אישורי הפקדה לבנק – מס"ב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טפסי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102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למס הכנסה ,ביטוח לאומי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אישור רואה החשבון מטעם הקבלן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אישורי הפקדה לפנסיה חובה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0" y="6180840"/>
            <a:ext cx="264312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F43B5-4EBA-470C-ACE0-515CD61ECBC3}" type="datetime">
              <a:rPr b="0" lang="he-IL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69F1352-878F-4257-85AE-4F7D210FE01A}" type="datetime10">
              <a:rPr b="0" lang="he-IL" sz="1200" spc="-1" strike="noStrike">
                <a:solidFill>
                  <a:srgbClr val="898989"/>
                </a:solidFill>
                <a:latin typeface="Calibri"/>
              </a:rPr>
              <a:t>01:5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תחום המיסו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מציין מיקום של מספר שקופית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72788-B686-468D-A3DF-E2F5DAEDF662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376092"/>
                </a:solidFill>
                <a:uFillTx/>
                <a:latin typeface="Calibri"/>
              </a:rPr>
              <a:t>אילו בדיקות יערוך הבודק שכר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-360" y="1197000"/>
            <a:ext cx="8893080" cy="52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בדיקות מדגמיות ל- 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10%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 מעובדי הקבלן בתחומים שנקבעו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בחינת ימי החופשה ניצול ,זיכוי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בחינת תשלום הבראה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בחינת היקף שעות העבודה ,שעות נוספות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בחינת תשלום הוצאות נסיעה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בחינת ההפרשות לפנסיה ,גמל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בחינת העסקה ביום המנוחה השבועי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בחינת תנאי העסקה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בחינת העסקת נוער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0" y="5609520"/>
            <a:ext cx="2643120" cy="676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C:\Documents and Settings\Administrator\שולחן העבודה\atudot_final.gif"/>
          <p:cNvPicPr/>
          <p:nvPr/>
        </p:nvPicPr>
        <p:blipFill>
          <a:blip r:embed="rId2"/>
          <a:stretch/>
        </p:blipFill>
        <p:spPr>
          <a:xfrm>
            <a:off x="151560" y="5761800"/>
            <a:ext cx="264348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0070c0"/>
                </a:solidFill>
                <a:uFillTx/>
                <a:latin typeface="Calibri"/>
              </a:rPr>
              <a:t>מהלכים של הבוד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בדיקת מסמכים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תשאול עובדי הקבל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השוואת השכר ורכיבי השכר מול חוזה העבודה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השוואת שעות העבודה – מול כרטיס נוכחו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בדיקת עדכון שכר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הוראות החוק באופן רלוונטי לגבי כל הפרה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151560" y="5761800"/>
            <a:ext cx="264348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0070c0"/>
                </a:solidFill>
                <a:uFillTx/>
                <a:latin typeface="Calibri"/>
              </a:rPr>
              <a:t>תוצר סופי 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דוח מסכם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הכולל פירוט הממצאים שעלו בבדיקו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במידה ויש הפרות – הוראות תיקון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המלצו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דיווח למנכ"ל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מעקב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151560" y="5761800"/>
            <a:ext cx="264348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0070c0"/>
                </a:solidFill>
                <a:uFillTx/>
                <a:latin typeface="Calibri"/>
              </a:rPr>
              <a:t>סיכום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בודק שכר מוסמך – פונקציה חשובה מאו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החל מחודש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1/2014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כל מעסיק בישראל יהיה חייב להיעזר בבודק שכר מוסמך על מנת שההגנות בחוק יחולו על מזמין השירו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במהלך שנת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2013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יהיו קורסים להסמכתם של בודקי שכר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151560" y="5761800"/>
            <a:ext cx="264348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B71ED-A63E-4CD0-B163-88847776F16A}" type="datetime">
              <a:rPr b="0" lang="he-IL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E2CA36B-5AC8-4764-9A9E-2409D723F031}" type="datetime10">
              <a:rPr b="0" lang="he-IL" sz="1200" spc="-1" strike="noStrike">
                <a:solidFill>
                  <a:srgbClr val="898989"/>
                </a:solidFill>
                <a:latin typeface="Calibri"/>
              </a:rPr>
              <a:t>01:5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תחום המיסו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מציין מיקום של מספר שקופית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D2802-E8AC-4A12-8FF5-56FF3FE64760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52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000" spc="-1" strike="noStrike" u="sng">
                <a:solidFill>
                  <a:srgbClr val="376092"/>
                </a:solidFill>
                <a:uFillTx/>
                <a:latin typeface="Calibri"/>
              </a:rPr>
              <a:t>תודה על ההקשבה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700" spc="-1" strike="noStrike">
                <a:solidFill>
                  <a:srgbClr val="376092"/>
                </a:solidFill>
                <a:latin typeface="Calibri"/>
              </a:rPr>
              <a:t>יורם אזרד- עתודות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700" spc="-1" strike="noStrike">
                <a:solidFill>
                  <a:srgbClr val="376092"/>
                </a:solidFill>
                <a:latin typeface="Calibri"/>
              </a:rPr>
              <a:t>המרכז ללימודי מקצועות השכר בישראל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700" spc="-1" strike="noStrike">
                <a:solidFill>
                  <a:srgbClr val="376092"/>
                </a:solidFill>
                <a:latin typeface="Calibri"/>
              </a:rPr>
              <a:t>יועץ מס ופרישה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700" spc="-1" strike="noStrike">
                <a:solidFill>
                  <a:srgbClr val="376092"/>
                </a:solidFill>
                <a:latin typeface="Calibri"/>
              </a:rPr>
              <a:t>02-6233008</a:t>
            </a:r>
            <a:r>
              <a:rPr b="1" lang="he-IL" sz="27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he-IL" sz="2700" spc="-1" strike="noStrike">
                <a:solidFill>
                  <a:srgbClr val="376092"/>
                </a:solidFill>
                <a:latin typeface="Calibri"/>
              </a:rPr>
              <a:t>052-3808345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1571040" y="794520"/>
            <a:ext cx="6715080" cy="10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4AF8A-6DB2-493C-9636-4AF80CB2758A}" type="datetime">
              <a:rPr b="0" lang="he-IL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B590E44-158E-4C58-9D6A-6178A8729C8A}" type="datetime10">
              <a:rPr b="0" lang="he-IL" sz="1200" spc="-1" strike="noStrike">
                <a:solidFill>
                  <a:srgbClr val="898989"/>
                </a:solidFill>
                <a:latin typeface="Calibri"/>
              </a:rPr>
              <a:t>01:5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תחום המיסו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מציין מיקום של מספר שקופית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3972D-AF10-4F62-A9C2-A37BD89BF790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 u="sng">
                <a:solidFill>
                  <a:srgbClr val="376092"/>
                </a:solidFill>
                <a:uFillTx/>
                <a:latin typeface="Calibri"/>
              </a:rPr>
              <a:t>נושא ההרצאה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2060"/>
                </a:solidFill>
                <a:latin typeface="Calibri"/>
              </a:rPr>
              <a:t>בדיקות תקופתיות בהתאם להוראות סעיף </a:t>
            </a:r>
            <a:r>
              <a:rPr b="0" lang="he-IL" sz="3000" spc="-1" strike="noStrike">
                <a:solidFill>
                  <a:srgbClr val="002060"/>
                </a:solidFill>
                <a:latin typeface="Calibri"/>
              </a:rPr>
              <a:t>54</a:t>
            </a:r>
            <a:r>
              <a:rPr b="0" lang="he-IL" sz="3000" spc="-1" strike="noStrike">
                <a:solidFill>
                  <a:srgbClr val="002060"/>
                </a:solidFill>
                <a:latin typeface="Calibri"/>
              </a:rPr>
              <a:t> לחוק הגברת האכיפה של דיני עבודה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2060"/>
                </a:solidFill>
                <a:latin typeface="Calibri"/>
              </a:rPr>
              <a:t>רקע – החוק להגברת האכיפה של דיני עבודה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2060"/>
                </a:solidFill>
                <a:latin typeface="Calibri"/>
              </a:rPr>
              <a:t>כללים לביצוע בדיקות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2060"/>
                </a:solidFill>
                <a:latin typeface="Calibri"/>
              </a:rPr>
              <a:t>מיהו בודק שכר מוסמך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2060"/>
                </a:solidFill>
                <a:latin typeface="Calibri"/>
              </a:rPr>
              <a:t>כיצד לערוך את הבדיקות התקופתיות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2060"/>
                </a:solidFill>
                <a:latin typeface="Calibri"/>
              </a:rPr>
              <a:t>הוראות מעבר על לכניסתו של החוק באופן רגיל </a:t>
            </a:r>
            <a:r>
              <a:rPr b="0" lang="he-IL" sz="3000" spc="-1" strike="noStrike">
                <a:solidFill>
                  <a:srgbClr val="002060"/>
                </a:solidFill>
                <a:latin typeface="Calibri"/>
              </a:rPr>
              <a:t>1/2014</a:t>
            </a:r>
            <a:r>
              <a:rPr b="0" lang="he-IL" sz="3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2060"/>
                </a:solidFill>
                <a:latin typeface="Calibri"/>
              </a:rPr>
              <a:t>המלצות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2060"/>
                </a:solidFill>
                <a:latin typeface="Calibri"/>
              </a:rPr>
              <a:t>סיכום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250920" y="6092280"/>
            <a:ext cx="22860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04A80-828A-426C-972B-FB6D264D9110}" type="datetime">
              <a:rPr b="0" lang="he-IL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C1C9DE3-4078-4B0F-8744-86DD49CB81C2}" type="datetime10">
              <a:rPr b="0" lang="he-IL" sz="1200" spc="-1" strike="noStrike">
                <a:solidFill>
                  <a:srgbClr val="898989"/>
                </a:solidFill>
                <a:latin typeface="Calibri"/>
              </a:rPr>
              <a:t>01:5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תחום המיסו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מציין מיקום של מספר שקופית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DD077-28ED-4FCD-A740-D98C8A99D205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 u="sng">
                <a:solidFill>
                  <a:srgbClr val="0000cc"/>
                </a:solidFill>
                <a:uFillTx/>
                <a:latin typeface="Calibri"/>
              </a:rPr>
              <a:t>חוק להגברת האכיפה של דיני עבודה -</a:t>
            </a:r>
            <a:r>
              <a:rPr b="1" lang="he-IL" sz="3600" spc="-1" strike="noStrike" u="sng">
                <a:solidFill>
                  <a:srgbClr val="0000cc"/>
                </a:solidFill>
                <a:uFillTx/>
                <a:latin typeface="Calibri"/>
              </a:rPr>
              <a:t>201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2060"/>
                </a:solidFill>
                <a:latin typeface="Calibri"/>
              </a:rPr>
              <a:t>החוק אושר בחודש </a:t>
            </a:r>
            <a:r>
              <a:rPr b="0" lang="he-IL" sz="2800" spc="-1" strike="noStrike">
                <a:solidFill>
                  <a:srgbClr val="002060"/>
                </a:solidFill>
                <a:latin typeface="Calibri"/>
              </a:rPr>
              <a:t>12/2011</a:t>
            </a:r>
            <a:r>
              <a:rPr b="0" lang="he-IL" sz="2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2060"/>
                </a:solidFill>
                <a:latin typeface="Calibri"/>
              </a:rPr>
              <a:t>נכנס לתוקף חצי שנה מיום פרסומו – </a:t>
            </a:r>
            <a:r>
              <a:rPr b="0" lang="he-IL" sz="2800" spc="-1" strike="noStrike">
                <a:solidFill>
                  <a:srgbClr val="002060"/>
                </a:solidFill>
                <a:latin typeface="Calibri"/>
              </a:rPr>
              <a:t>19/6/12</a:t>
            </a:r>
            <a:r>
              <a:rPr b="0" lang="he-IL" sz="2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2060"/>
                </a:solidFill>
                <a:latin typeface="Calibri"/>
              </a:rPr>
              <a:t>מטרתו של החוק להגביר ולייעל את אכיפתם של דיני העבודה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2060"/>
                </a:solidFill>
                <a:latin typeface="Calibri"/>
              </a:rPr>
              <a:t>על ידי קביעה והנהגת הליך מינהלי ( לא פלילי ) להטלת עיצום כספי על המעבידים ,ומזמיני השירות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2060"/>
                </a:solidFill>
                <a:latin typeface="Calibri"/>
              </a:rPr>
              <a:t>החוק תוחם את האחריות המנהלית ,האזרחית ,הפלילית של מזמני שירות בתחום – שמירה ,האבטחה,הניקיון , הסעד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2060"/>
                </a:solidFill>
                <a:latin typeface="Calibri"/>
              </a:rPr>
              <a:t>חל איסור לבטח ,לשפות ,או לשלם עיצום כספי שהוטל על אחר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0" y="6165000"/>
            <a:ext cx="285768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C6683-04E3-47EA-A06D-B4E92F8B465A}" type="datetime">
              <a:rPr b="0" lang="he-IL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2BAF1FA-47B6-48F6-9EE4-7DEB31136CE3}" type="datetime10">
              <a:rPr b="0" lang="he-IL" sz="1200" spc="-1" strike="noStrike">
                <a:solidFill>
                  <a:srgbClr val="898989"/>
                </a:solidFill>
                <a:latin typeface="Calibri"/>
              </a:rPr>
              <a:t>01:5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תחום המיסו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מציין מיקום של מספר שקופית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1AF23-5CDE-4D07-93F6-33418BCC1E50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351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 u="sng">
                <a:solidFill>
                  <a:srgbClr val="0000cc"/>
                </a:solidFill>
                <a:uFillTx/>
                <a:latin typeface="Calibri"/>
              </a:rPr>
              <a:t>חוק להגברת האכיפה של דיני עבודה-</a:t>
            </a:r>
            <a:r>
              <a:rPr b="1" lang="he-IL" sz="4000" spc="-1" strike="noStrike" u="sng">
                <a:solidFill>
                  <a:srgbClr val="0000cc"/>
                </a:solidFill>
                <a:uFillTx/>
                <a:latin typeface="Calibri"/>
              </a:rPr>
              <a:t>2011</a:t>
            </a:r>
            <a:r>
              <a:rPr b="1" lang="he-IL" sz="4000" spc="-1" strike="noStrike" u="sng">
                <a:solidFill>
                  <a:srgbClr val="0000cc"/>
                </a:solidFill>
                <a:uFillTx/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28760" y="1267920"/>
            <a:ext cx="824688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000" spc="-1" strike="noStrike" u="sng">
                <a:solidFill>
                  <a:srgbClr val="ff0000"/>
                </a:solidFill>
                <a:uFillTx/>
                <a:latin typeface="Calibri"/>
              </a:rPr>
              <a:t>על מי חל החוק 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5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2060"/>
                </a:solidFill>
                <a:latin typeface="Calibri"/>
              </a:rPr>
              <a:t>מעסיק עובדים ( מכל סוג 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5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2060"/>
                </a:solidFill>
                <a:latin typeface="Calibri"/>
              </a:rPr>
              <a:t>מזמין שירות בשלב זה רק בשלושה תחומים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5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2060"/>
                </a:solidFill>
                <a:latin typeface="Calibri"/>
              </a:rPr>
              <a:t>שמירה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5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2060"/>
                </a:solidFill>
                <a:latin typeface="Calibri"/>
              </a:rPr>
              <a:t>אבטחה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5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2060"/>
                </a:solidFill>
                <a:latin typeface="Calibri"/>
              </a:rPr>
              <a:t>ניקיון והסעדה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5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2060"/>
                </a:solidFill>
                <a:latin typeface="Calibri"/>
              </a:rPr>
              <a:t>יחיד המעסיק עובדים שלא במסגרת עסקו ,וכן על עובד ברשות ציבורית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714240" y="5500080"/>
            <a:ext cx="228600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65D7F-A4AB-4206-A1CA-C1DCDBFF4BD8}" type="datetime">
              <a:rPr b="0" lang="he-IL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020F728-B074-4A5E-946E-B279EEFA13D7}" type="datetime10">
              <a:rPr b="0" lang="he-IL" sz="1200" spc="-1" strike="noStrike">
                <a:solidFill>
                  <a:srgbClr val="898989"/>
                </a:solidFill>
                <a:latin typeface="Calibri"/>
              </a:rPr>
              <a:t>01:5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תחום המיסו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מציין מיקום של מספר שקופית 5"/>
          <p:cNvSpPr/>
          <p:nvPr/>
        </p:nvSpPr>
        <p:spPr>
          <a:xfrm>
            <a:off x="42876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8BB8B-2AB4-46FA-95A6-B3BB2B20FA03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93116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70c0"/>
                </a:solidFill>
                <a:uFillTx/>
                <a:latin typeface="Calibri"/>
              </a:rPr>
              <a:t>חוק להגברת האכיפה של דיני עבודה -</a:t>
            </a:r>
            <a:r>
              <a:rPr b="1" lang="he-IL" sz="3200" spc="-1" strike="noStrike" u="sng">
                <a:solidFill>
                  <a:srgbClr val="0070c0"/>
                </a:solidFill>
                <a:uFillTx/>
                <a:latin typeface="Calibri"/>
              </a:rPr>
              <a:t>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57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0000"/>
                </a:solidFill>
                <a:latin typeface="Calibri"/>
              </a:rPr>
              <a:t>תמצית עקרונות החוק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אמצעי אכיפה כלפי המעביד בהליך מנהלי ולא בהליך פלילי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התראה מנהלית למעסיק לצורך הפסקת ההפרה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עיצומים כספיים עד 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17,500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 ליחיד ,ועד 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35,000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 ₪ למעסיק בגין כל הפרה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עיצומים כספיים על מזמין השירות אף ובמידה וההפרה בוצעה על ידי הקבלן ולא על ידי מזמין השירות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הגדלת העיצום הכספי בהפרה נמשכת או חוזרת של אותו מעסי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מתן זכות לעובד לתבוע גם את מזמין השירות במשפט אזרחי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-720" y="5571360"/>
            <a:ext cx="279252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37D0B-C43E-4370-9A64-9D82CF51E721}" type="datetime">
              <a:rPr b="0" lang="he-IL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F08E0A9-3D87-4F33-A7BF-DFB938EAE170}" type="datetime10">
              <a:rPr b="0" lang="he-IL" sz="1200" spc="-1" strike="noStrike">
                <a:solidFill>
                  <a:srgbClr val="898989"/>
                </a:solidFill>
                <a:latin typeface="Calibri"/>
              </a:rPr>
              <a:t>01:5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תחום המיסו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מציין מיקום של מספר שקופית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1289F-4AE6-4E92-BB81-0DCC33275CB7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 u="sng">
                <a:solidFill>
                  <a:srgbClr val="0070c0"/>
                </a:solidFill>
                <a:uFillTx/>
                <a:latin typeface="Calibri"/>
              </a:rPr>
              <a:t>המשך תמצית עקרונות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-360" y="1428480"/>
            <a:ext cx="89298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קביעת תנאים אשר חייבים להיכלל בכל סוג של חוזה המתקיים בין קבלן לבין מזמין שירו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במידה ולא יתקיימו התנאים בהסכם יחויב מזמין השירות באחריות אזרחית כלפי העוב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המעסיק לא ייהנה  מההגנות שהחוק נותן ל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נקבעו הגנות למזמין שירות הן בדין האזרחי ואין בדין הפלילי במידה והסתמך על בדיקות שביצע המעסיק על ידי </a:t>
            </a:r>
            <a:r>
              <a:rPr b="1" lang="he-IL" sz="3200" spc="-1" strike="noStrike">
                <a:solidFill>
                  <a:srgbClr val="ff0000"/>
                </a:solidFill>
                <a:latin typeface="Calibri"/>
              </a:rPr>
              <a:t>"בודק שכר מוסמך 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-720" y="5571360"/>
            <a:ext cx="279252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1A2F-332E-426A-945C-E4A050220908}" type="datetime">
              <a:rPr b="0" lang="he-IL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6141440-DDE0-49AA-AEE6-215AC09E9CB9}" type="datetime10">
              <a:rPr b="0" lang="he-IL" sz="1200" spc="-1" strike="noStrike">
                <a:solidFill>
                  <a:srgbClr val="898989"/>
                </a:solidFill>
                <a:latin typeface="Calibri"/>
              </a:rPr>
              <a:t>01:5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תחום המיסו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מציין מיקום של מספר שקופית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686F3-D5F8-461A-AF97-CA6A9799A463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99640" y="549360"/>
            <a:ext cx="815652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 u="sng">
                <a:solidFill>
                  <a:srgbClr val="0070c0"/>
                </a:solidFill>
                <a:uFillTx/>
                <a:latin typeface="Calibri"/>
              </a:rPr>
              <a:t>חוק להגברת האכיפה של דיני עבודה -</a:t>
            </a:r>
            <a:r>
              <a:rPr b="1" lang="he-IL" sz="4000" spc="-1" strike="noStrike" u="sng">
                <a:solidFill>
                  <a:srgbClr val="0070c0"/>
                </a:solidFill>
                <a:uFillTx/>
                <a:latin typeface="Calibri"/>
              </a:rPr>
              <a:t>201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560" y="1484280"/>
            <a:ext cx="8821800" cy="48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0000"/>
                </a:solidFill>
                <a:latin typeface="Calibri"/>
              </a:rPr>
              <a:t>אחריות פיקוחית של המנכ"ל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Clr>
                <a:srgbClr val="0a1c5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a1c56"/>
                </a:solidFill>
                <a:latin typeface="Calibri"/>
              </a:rPr>
              <a:t>החוק קובע כי המנהל הכללי של התאגיד שהוא מעביד חייב לפקח ולנקוט את כל האמצעים הסבירים למניעת ההפר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Clr>
                <a:srgbClr val="0a1c5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a1c56"/>
                </a:solidFill>
                <a:latin typeface="Calibri"/>
              </a:rPr>
              <a:t>בוצעה הפרה ולא ננקטו אמצעים להפסקת הפרה כפי שפורטה בהתראה – עיצום כספי של </a:t>
            </a:r>
            <a:r>
              <a:rPr b="0" lang="he-IL" sz="3200" spc="-1" strike="noStrike">
                <a:solidFill>
                  <a:srgbClr val="0a1c56"/>
                </a:solidFill>
                <a:latin typeface="Calibri"/>
              </a:rPr>
              <a:t>50%</a:t>
            </a:r>
            <a:r>
              <a:rPr b="0" lang="he-IL" sz="3200" spc="-1" strike="noStrike">
                <a:solidFill>
                  <a:srgbClr val="0a1c56"/>
                </a:solidFill>
                <a:latin typeface="Calibri"/>
              </a:rPr>
              <a:t> מהסכום שניתן להחיל על יחיד – כלפי המנכ"ל עצמו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Clr>
                <a:srgbClr val="0a1c5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a1c56"/>
                </a:solidFill>
                <a:latin typeface="Calibri"/>
              </a:rPr>
              <a:t>אלה הוכיח כי עשה כל שניתן כדי למלא חובתו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Clr>
                <a:srgbClr val="0a1c5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a1c56"/>
                </a:solidFill>
                <a:latin typeface="Calibri"/>
              </a:rPr>
              <a:t>להלן האמצעים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-720" y="5571360"/>
            <a:ext cx="279252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EA023-E487-4C67-9C13-8C2F9B95FD91}" type="datetime">
              <a:rPr b="0" lang="he-IL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EE5A693-1B54-4670-9FE8-4D58EA6BAB67}" type="datetime10">
              <a:rPr b="0" lang="he-IL" sz="1200" spc="-1" strike="noStrike">
                <a:solidFill>
                  <a:srgbClr val="898989"/>
                </a:solidFill>
                <a:latin typeface="Calibri"/>
              </a:rPr>
              <a:t>01:5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תחום המיסו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מציין מיקום של מספר שקופית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1A458-2EB6-4AA0-8A3A-84921B505C7A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 u="sng">
                <a:solidFill>
                  <a:srgbClr val="376092"/>
                </a:solidFill>
                <a:uFillTx/>
                <a:latin typeface="Calibri"/>
              </a:rPr>
              <a:t>אמצעים למניעת הפרה של החוק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14200" y="1341360"/>
            <a:ext cx="8678880" cy="51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a1c5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a1c56"/>
                </a:solidFill>
                <a:latin typeface="Calibri"/>
              </a:rPr>
              <a:t>בדיקות תקופתיות ע"י "בודק שכר מוסמך 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a1c5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a1c56"/>
                </a:solidFill>
                <a:latin typeface="Calibri"/>
              </a:rPr>
              <a:t>תוכנית אכיפת נהלים – מינוי קצין ציות – אדם האחראי לפיקוח על תוכנית אכיפה וקיום נהלים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a1c5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a1c56"/>
                </a:solidFill>
                <a:latin typeface="Calibri"/>
              </a:rPr>
              <a:t>מערך הדרכה – ביצוע הדרכות לעובדי התאגיד בנושאים הקשורים לחוק ( דיני עבודה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a1c5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a1c56"/>
                </a:solidFill>
                <a:latin typeface="Calibri"/>
              </a:rPr>
              <a:t>נקיטת אמצעים סבירים לתיקון הפרות ולמניעת הישנותן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a1c5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a1c56"/>
                </a:solidFill>
                <a:latin typeface="Calibri"/>
              </a:rPr>
              <a:t>כל אלה חייב המנכ"ל להוכיח שפעל למניעת ההפרו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-720" y="5950080"/>
            <a:ext cx="279252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9A714-2B31-4B53-A9F3-F466C0682F26}" type="datetime">
              <a:rPr b="0" lang="he-IL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3C0758A-A1C2-4A1F-A719-281033C70283}" type="datetime10">
              <a:rPr b="0" lang="he-IL" sz="1200" spc="-1" strike="noStrike">
                <a:solidFill>
                  <a:srgbClr val="898989"/>
                </a:solidFill>
                <a:latin typeface="Calibri"/>
              </a:rPr>
              <a:t>01:5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תחום המיסו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מציין מיקום של מספר שקופית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6830C-FCB5-4B1E-B5C2-B6C5AF5F42BD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 u="sng">
                <a:solidFill>
                  <a:srgbClr val="0070c0"/>
                </a:solidFill>
                <a:uFillTx/>
                <a:latin typeface="Calibri"/>
              </a:rPr>
              <a:t>חוק להגברת האכיפה של דיני עבודה -</a:t>
            </a:r>
            <a:r>
              <a:rPr b="1" lang="he-IL" sz="4000" spc="-1" strike="noStrike" u="sng">
                <a:solidFill>
                  <a:srgbClr val="0070c0"/>
                </a:solidFill>
                <a:uFillTx/>
                <a:latin typeface="Calibri"/>
              </a:rPr>
              <a:t>201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560" y="1268280"/>
            <a:ext cx="882180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0000"/>
                </a:solidFill>
                <a:latin typeface="Calibri"/>
              </a:rPr>
              <a:t>אחריות מזמין השירות 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72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900" spc="-1" strike="noStrike">
                <a:solidFill>
                  <a:srgbClr val="000000"/>
                </a:solidFill>
                <a:latin typeface="Calibri"/>
              </a:rPr>
              <a:t>החוק קבע כי מזמין השירות נדרש לנקוט באמצעים סבירים כדי למנוע הפגיעה בזכויות העובדים של הקבלן המועסקים אצלו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72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900" spc="-1" strike="noStrike">
                <a:solidFill>
                  <a:srgbClr val="000000"/>
                </a:solidFill>
                <a:latin typeface="Calibri"/>
              </a:rPr>
              <a:t>כיצד ? קביעת דרך יעילה במקום העבודה למסירת הודעת עובדי הקבלן על פגיעה בזכויותיהם ,מנגנון בירור המידע שבהודעה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72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900" spc="-1" strike="noStrike">
                <a:solidFill>
                  <a:srgbClr val="000000"/>
                </a:solidFill>
                <a:latin typeface="Calibri"/>
              </a:rPr>
              <a:t>ויידוע עובדי הקבלן לגבי דרך זו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72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900" spc="-1" strike="noStrike">
                <a:solidFill>
                  <a:srgbClr val="000000"/>
                </a:solidFill>
                <a:latin typeface="Calibri"/>
              </a:rPr>
              <a:t>העדר נקיטה מסוג זה = אחריות אזרחית של מזמין השירות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72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900" spc="-1" strike="noStrike">
                <a:solidFill>
                  <a:srgbClr val="000000"/>
                </a:solidFill>
                <a:latin typeface="Calibri"/>
              </a:rPr>
              <a:t>הגנה – בודק שכר מוסמך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25800"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0" y="5609520"/>
            <a:ext cx="264312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9T10:56:02Z</dcterms:created>
  <dc:creator>Atidot</dc:creator>
  <dc:description/>
  <dc:language>en-US</dc:language>
  <cp:lastModifiedBy>Atidot</cp:lastModifiedBy>
  <dcterms:modified xsi:type="dcterms:W3CDTF">2012-10-20T10:21:19Z</dcterms:modified>
  <cp:revision>6</cp:revision>
  <dc:subject/>
  <dc:title>יורם  אזרד- יועץ מס ופרישה 052-3808345 02-6233008</dc:title>
</cp:coreProperties>
</file>