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F8B8-5DCB-4785-9680-6C726DFEC3F1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8E68-E3E5-4C9E-87D8-FE8A37525BBF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E928-C32A-4883-B605-C327FBE7B883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A733-F86A-43B5-B0A8-F452B5C55595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B166-48D3-4420-BD7A-861BD17C8661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8199-C7CB-4404-B101-A9BC10529871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8408-828D-4530-804D-E9E28F7DB994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9F88-4D41-40B4-BA8D-B887B7465DFA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1ABC-455F-41CE-A512-29B141EEADDA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E5C6-017F-4DA0-8AC1-00AC45484B99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2884-5D19-400E-9BC7-F8582A9388FE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7539-E6C0-429B-B8D6-D39C6B23E071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3398-7CC4-4D3E-B197-5BB6C880C454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AE54-74F9-47C0-87B0-4F4A358EC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93D8-C98A-49E8-A3C1-E87F825F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1FB0-4431-46DC-8F52-971C04E8D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59B7-1AE4-4060-881B-74DC58638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EDF5-92A1-4269-B0A9-55F4B158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179A-F027-4BD2-AD07-016EA830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065F-D508-461C-B497-BE9DC548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E492-934C-4727-95F7-B7CDCC90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E36D-086A-4576-9EF4-1A611BD1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F9E7-EE13-41DC-A69F-FE763A44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77D1-F556-4311-A937-C1C14A64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4A7F-392D-46E5-AD4D-ACB9DEC2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EF78-569A-4A9A-AF7B-BBDCE8D2CF6D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B6CF-74AB-4319-B1A8-5F73969540B8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6A2178A-3F90-4B22-B460-4A26CA6A914C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1:5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מציין מיקום של כותרת תחתונה 4"/>
          <p:cNvSpPr/>
          <p:nvPr/>
        </p:nvSpPr>
        <p:spPr>
          <a:xfrm>
            <a:off x="3143160" y="62866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תחום המיסו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מציין מיקום של מספר שקופית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B701-90A6-4E7A-BD31-A9ECF3F5FAE9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046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376092"/>
                </a:solidFill>
                <a:latin typeface="Calibri"/>
              </a:rPr>
              <a:t>יורם  אזרד- יועץ מס ופרישה</a:t>
            </a:r>
            <a:br>
              <a:rPr sz="3600"/>
            </a:br>
            <a:r>
              <a:rPr b="1" lang="he-IL" sz="3600" spc="-1" strike="noStrike">
                <a:solidFill>
                  <a:srgbClr val="376092"/>
                </a:solidFill>
                <a:latin typeface="Calibri"/>
              </a:rPr>
              <a:t>052-3808345</a:t>
            </a:r>
            <a:br>
              <a:rPr sz="3600"/>
            </a:br>
            <a:r>
              <a:rPr b="1" lang="he-IL" sz="3600" spc="-1" strike="noStrike">
                <a:solidFill>
                  <a:srgbClr val="376092"/>
                </a:solidFill>
                <a:latin typeface="Calibri"/>
              </a:rPr>
              <a:t>02-623300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4920" y="64296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300" spc="-1" strike="noStrike">
                <a:solidFill>
                  <a:srgbClr val="376092"/>
                </a:solidFill>
                <a:latin typeface="Calibri"/>
              </a:rPr>
              <a:t>ביטוח לאומי – תאונות עבודה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300" spc="-1" strike="noStrike">
                <a:solidFill>
                  <a:srgbClr val="376092"/>
                </a:solidFill>
                <a:latin typeface="Calibri"/>
              </a:rPr>
              <a:t>מעודכן ל - </a:t>
            </a:r>
            <a:r>
              <a:rPr b="1" i="1" lang="en-US" sz="3300" spc="-1" strike="noStrike">
                <a:solidFill>
                  <a:srgbClr val="376092"/>
                </a:solidFill>
                <a:latin typeface="Calibri"/>
              </a:rPr>
              <a:t>2013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300" spc="-1" strike="noStrike">
                <a:solidFill>
                  <a:srgbClr val="376092"/>
                </a:solidFill>
                <a:latin typeface="Calibri"/>
              </a:rPr>
              <a:t>עתודות – המרכז ללימודי מקצועות השכר בישראל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3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2662200" y="2700360"/>
            <a:ext cx="333864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0070c0"/>
                </a:solidFill>
                <a:uFillTx/>
                <a:latin typeface="Calibri"/>
              </a:rPr>
              <a:t>נכות מתאונת עבודה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499760"/>
            <a:ext cx="83296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70c0"/>
                </a:solidFill>
                <a:latin typeface="Calibri"/>
              </a:rPr>
              <a:t>לאחר </a:t>
            </a:r>
            <a:r>
              <a:rPr b="1" lang="he-IL" sz="3200" spc="-1" strike="noStrike">
                <a:solidFill>
                  <a:srgbClr val="0070c0"/>
                </a:solidFill>
                <a:latin typeface="Calibri"/>
              </a:rPr>
              <a:t>91</a:t>
            </a:r>
            <a:r>
              <a:rPr b="1" lang="he-IL" sz="3200" spc="-1" strike="noStrike">
                <a:solidFill>
                  <a:srgbClr val="0070c0"/>
                </a:solidFill>
                <a:latin typeface="Calibri"/>
              </a:rPr>
              <a:t> ימים – תביעה לנכות מתאונת עבוד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70c0"/>
                </a:solidFill>
                <a:latin typeface="Calibri"/>
              </a:rPr>
              <a:t>גם ובמידה ולא ניצל </a:t>
            </a:r>
            <a:r>
              <a:rPr b="1" lang="he-IL" sz="3200" spc="-1" strike="noStrike">
                <a:solidFill>
                  <a:srgbClr val="0070c0"/>
                </a:solidFill>
                <a:latin typeface="Calibri"/>
              </a:rPr>
              <a:t>91</a:t>
            </a:r>
            <a:r>
              <a:rPr b="1" lang="he-IL" sz="3200" spc="-1" strike="noStrike">
                <a:solidFill>
                  <a:srgbClr val="0070c0"/>
                </a:solidFill>
                <a:latin typeface="Calibri"/>
              </a:rPr>
              <a:t> ימים – מומלץ להגיש נכו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70c0"/>
                </a:solidFill>
                <a:latin typeface="Calibri"/>
              </a:rPr>
              <a:t>הקצבה איננה תלויה  בשכר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70c0"/>
                </a:solidFill>
                <a:latin typeface="Calibri"/>
              </a:rPr>
              <a:t>ניתן לקבל קצבת נכות ושכר יחדי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70c0"/>
                </a:solidFill>
                <a:latin typeface="Calibri"/>
              </a:rPr>
              <a:t>שיעור הקצבה -</a:t>
            </a:r>
            <a:r>
              <a:rPr b="1" lang="he-IL" sz="3200" spc="-1" strike="noStrike">
                <a:solidFill>
                  <a:srgbClr val="0070c0"/>
                </a:solidFill>
                <a:latin typeface="Calibri"/>
              </a:rPr>
              <a:t>75%</a:t>
            </a:r>
            <a:r>
              <a:rPr b="1" lang="he-IL" sz="3200" spc="-1" strike="noStrike">
                <a:solidFill>
                  <a:srgbClr val="0070c0"/>
                </a:solidFill>
                <a:latin typeface="Calibri"/>
              </a:rPr>
              <a:t> מהשכר של הנפג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70c0"/>
                </a:solidFill>
                <a:latin typeface="Calibri"/>
              </a:rPr>
              <a:t>במקרה של מוות מתאונת עבוד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70c0"/>
                </a:solidFill>
                <a:latin typeface="Calibri"/>
              </a:rPr>
              <a:t>השאירים מקבלים קצבה – </a:t>
            </a:r>
            <a:r>
              <a:rPr b="1" lang="he-IL" sz="3200" spc="-1" strike="noStrike">
                <a:solidFill>
                  <a:srgbClr val="0070c0"/>
                </a:solidFill>
                <a:latin typeface="Calibri"/>
              </a:rPr>
              <a:t>75%</a:t>
            </a:r>
            <a:r>
              <a:rPr b="1" lang="he-IL" sz="3200" spc="-1" strike="noStrike">
                <a:solidFill>
                  <a:srgbClr val="0070c0"/>
                </a:solidFill>
                <a:latin typeface="Calibri"/>
              </a:rPr>
              <a:t> משכרו של הנפטר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0070c0"/>
                </a:solidFill>
                <a:uFillTx/>
                <a:latin typeface="Calibri"/>
              </a:rPr>
              <a:t>קיזוז מול קופת הפנסיה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70c0"/>
                </a:solidFill>
                <a:latin typeface="Calibri"/>
              </a:rPr>
              <a:t>עובד שנפגע בתאונת עבוד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70c0"/>
                </a:solidFill>
                <a:latin typeface="Calibri"/>
              </a:rPr>
              <a:t>מקבל את שכרו למשך </a:t>
            </a:r>
            <a:r>
              <a:rPr b="1" lang="he-IL" sz="3200" spc="-1" strike="noStrike">
                <a:solidFill>
                  <a:srgbClr val="0070c0"/>
                </a:solidFill>
                <a:latin typeface="Calibri"/>
              </a:rPr>
              <a:t>91</a:t>
            </a:r>
            <a:r>
              <a:rPr b="1" lang="he-IL" sz="3200" spc="-1" strike="noStrike">
                <a:solidFill>
                  <a:srgbClr val="0070c0"/>
                </a:solidFill>
                <a:latin typeface="Calibri"/>
              </a:rPr>
              <a:t> ימים מביטוח לאומ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70c0"/>
                </a:solidFill>
                <a:latin typeface="Calibri"/>
              </a:rPr>
              <a:t>במידה ונקבעת לו נכות – יגיש תביעה לנכות מביטוח לאומ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70c0"/>
                </a:solidFill>
                <a:latin typeface="Calibri"/>
              </a:rPr>
              <a:t>במקביל יכול להגיש נכות בקופת הפנסי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70c0"/>
                </a:solidFill>
                <a:latin typeface="Calibri"/>
              </a:rPr>
              <a:t>קופת הפנסיה תשלם רק את ההפרש העולה על </a:t>
            </a:r>
            <a:r>
              <a:rPr b="1" lang="he-IL" sz="3200" spc="-1" strike="noStrike">
                <a:solidFill>
                  <a:srgbClr val="0070c0"/>
                </a:solidFill>
                <a:latin typeface="Calibri"/>
              </a:rPr>
              <a:t>75%</a:t>
            </a:r>
            <a:r>
              <a:rPr b="1" lang="he-IL" sz="3200" spc="-1" strike="noStrike">
                <a:solidFill>
                  <a:srgbClr val="0070c0"/>
                </a:solidFill>
                <a:latin typeface="Calibri"/>
              </a:rPr>
              <a:t> או שיעור הנכות שביטוח לאומי של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5609520"/>
            <a:ext cx="264312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CF89-6D83-42BE-9EF8-8B766ECF5F6E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8087BD4-2260-4507-B4EB-6E91DCB0509C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1:5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תחום המיסו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מציין מיקום של מספר שקופית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CB18-B2B0-4825-A7C1-00864F8E92F6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 u="sng">
                <a:solidFill>
                  <a:srgbClr val="376092"/>
                </a:solidFill>
                <a:uFillTx/>
                <a:latin typeface="Calibri"/>
              </a:rPr>
              <a:t>תאונות אישיות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500120"/>
            <a:ext cx="9144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כול תושב ישראל מבוטח בתאונות אישיו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תאונה – ארוע פתאומי בארץ ו/או בחו"ל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פיצוי עד </a:t>
            </a: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90</a:t>
            </a: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 יו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כנגד תעודה רפואי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הנפגע חייב להיבדק על ידי רופא תוך </a:t>
            </a: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72</a:t>
            </a: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 שעו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הפיצוי לשכיר - כנגד ניצול ימי מחלה אצל המעסי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גובה הפיצוי - </a:t>
            </a: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75%</a:t>
            </a: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 משכרו ערב הפגיעה - לפי אותה נוסחה של תאונת עבוד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פיצוי עקרת בית - </a:t>
            </a:r>
            <a:r>
              <a:rPr b="1" lang="en-US" sz="2800" spc="-1" strike="noStrike">
                <a:solidFill>
                  <a:srgbClr val="376092"/>
                </a:solidFill>
                <a:latin typeface="Calibri"/>
              </a:rPr>
              <a:t>25%</a:t>
            </a:r>
            <a:r>
              <a:rPr b="1" lang="en-US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מהשכר הממוצע במש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14</a:t>
            </a: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 ימי המתנה - כלומר פיצוי של </a:t>
            </a: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76</a:t>
            </a: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 ימים בלבדֵ</a:t>
            </a:r>
            <a:r>
              <a:rPr b="1" lang="en-US" sz="2800" spc="-1" strike="noStrike">
                <a:solidFill>
                  <a:srgbClr val="376092"/>
                </a:solidFill>
                <a:latin typeface="Calibri"/>
              </a:rPr>
              <a:t>  </a:t>
            </a: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5609520"/>
            <a:ext cx="264312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735D-3583-4CEE-8B7F-E36EB0F754CE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709710A-1E33-43BC-BD9C-353448B2AAC2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1:5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תחום המיסו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מציין מיקום של מספר שקופית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EA46-DDF9-4E4A-8C70-0928D4D5564E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 u="sng">
                <a:solidFill>
                  <a:srgbClr val="376092"/>
                </a:solidFill>
                <a:uFillTx/>
                <a:latin typeface="Calibri"/>
              </a:rPr>
              <a:t>מחלות מקצוע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גם במסגרת ביטוח תאונות עבוד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עובד שחלה כתוצאה מהמקצוע שעב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יש בביטוח לאומי רשימת מחלות מוסכמו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 u="sng">
                <a:solidFill>
                  <a:srgbClr val="376092"/>
                </a:solidFill>
                <a:uFillTx/>
                <a:latin typeface="Calibri"/>
              </a:rPr>
              <a:t>כגון</a:t>
            </a: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מחלות שמיעה - עובדים בסביבת עבודה רועש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מחלות יבלות במיתרי הקול - מורי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מחלות תעלת הרירית - קלדניו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מחלות ראיה - עבודה רבה מול מחש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מחלות סרטן - חשיפה לחומרים מסרטנים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5609520"/>
            <a:ext cx="2643120" cy="676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C:\Documents and Settings\Administrator\שולחן העבודה\atudot_final.gif"/>
          <p:cNvPicPr/>
          <p:nvPr/>
        </p:nvPicPr>
        <p:blipFill>
          <a:blip r:embed="rId2"/>
          <a:stretch/>
        </p:blipFill>
        <p:spPr>
          <a:xfrm>
            <a:off x="151560" y="5761800"/>
            <a:ext cx="264348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50F0-14F3-4759-98A1-6FE2B5691D3B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D168AEE-9A16-4582-AC54-B0A765CE8031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1:5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תחום המיסו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מציין מיקום של מספר שקופית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94DF-66B9-423E-BB57-E88A59A342B2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2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 u="sng">
                <a:solidFill>
                  <a:srgbClr val="376092"/>
                </a:solidFill>
                <a:uFillTx/>
                <a:latin typeface="Calibri"/>
              </a:rPr>
              <a:t>תודה על ההקשבה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700" spc="-1" strike="noStrike">
                <a:solidFill>
                  <a:srgbClr val="376092"/>
                </a:solidFill>
                <a:latin typeface="Calibri"/>
              </a:rPr>
              <a:t>יורם אזרד- עתודות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700" spc="-1" strike="noStrike">
                <a:solidFill>
                  <a:srgbClr val="376092"/>
                </a:solidFill>
                <a:latin typeface="Calibri"/>
              </a:rPr>
              <a:t>המרכז ללימודי מקצועות השכר בישראל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700" spc="-1" strike="noStrike">
                <a:solidFill>
                  <a:srgbClr val="376092"/>
                </a:solidFill>
                <a:latin typeface="Calibri"/>
              </a:rPr>
              <a:t>יועץ מס ופרישה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700" spc="-1" strike="noStrike">
                <a:solidFill>
                  <a:srgbClr val="376092"/>
                </a:solidFill>
                <a:latin typeface="Calibri"/>
              </a:rPr>
              <a:t>02-6233008</a:t>
            </a:r>
            <a:r>
              <a:rPr b="1" lang="he-IL" sz="27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he-IL" sz="2700" spc="-1" strike="noStrike">
                <a:solidFill>
                  <a:srgbClr val="376092"/>
                </a:solidFill>
                <a:latin typeface="Calibri"/>
              </a:rPr>
              <a:t>052-3808345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1571040" y="794520"/>
            <a:ext cx="671508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0796-A161-4DE1-88CF-B39D1BC814B8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A88F79B-89FC-46B4-A38F-07265CC34E40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1:5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תחום המיסו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מציין מיקום של מספר שקופית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2CD4-EF30-4460-AAEA-870D921200BB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 u="sng">
                <a:solidFill>
                  <a:srgbClr val="376092"/>
                </a:solidFill>
                <a:uFillTx/>
                <a:latin typeface="Calibri"/>
              </a:rPr>
              <a:t>נושא ההרצאה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80000"/>
              </a:lnSpc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מהי תאונת עבודה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80000"/>
              </a:lnSpc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מניין הימים- כיצד מחושבים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80000"/>
              </a:lnSpc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חישוב דמי פגיעה- לפי שכר הנפגע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80000"/>
              </a:lnSpc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תאונת דרכים – שהוכרה כתאונת עבודה 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80000"/>
              </a:lnSpc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תקנה 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22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 – מהי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80000"/>
              </a:lnSpc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מעסיק ללא תקנה 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22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- מה קורה לגבי הנפגע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80000"/>
              </a:lnSpc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קיזוז מול קופת הפנסיה- בנכו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80000"/>
              </a:lnSpc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מחלת מקצוע- כיצד להגי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80000"/>
              </a:lnSpc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תאונות אישיות – תחליף לדמי פגיעה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250920" y="6092280"/>
            <a:ext cx="22860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971D-33A3-4556-9C55-3B16420F3E8D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7F92028-51E6-479B-9F83-E58D0A3A6A2A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1:5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תחום המיסו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מציין מיקום של מספר שקופית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2872-4D7E-433A-A6A2-24986F4C2333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0000cc"/>
                </a:solidFill>
                <a:uFillTx/>
                <a:latin typeface="Calibri"/>
              </a:rPr>
              <a:t>תאונות עבודה מהי 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840" y="1341360"/>
            <a:ext cx="860580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4f81bd"/>
                </a:solidFill>
                <a:latin typeface="Calibri"/>
              </a:rPr>
              <a:t>1</a:t>
            </a:r>
            <a:r>
              <a:rPr b="1" lang="he-IL" sz="3000" spc="-1" strike="noStrike">
                <a:solidFill>
                  <a:srgbClr val="376092"/>
                </a:solidFill>
                <a:latin typeface="Calibri"/>
              </a:rPr>
              <a:t>.בדרך אל העבודה </a:t>
            </a:r>
            <a:r>
              <a:rPr b="1" lang="he-IL" sz="3000" spc="-1" strike="noStrike" u="sng">
                <a:solidFill>
                  <a:srgbClr val="ff0000"/>
                </a:solidFill>
                <a:uFillTx/>
                <a:latin typeface="Calibri"/>
              </a:rPr>
              <a:t>ממעונו או מהמקום בו לן</a:t>
            </a:r>
            <a:r>
              <a:rPr b="1" lang="he-IL" sz="3000" spc="-1" strike="noStrike">
                <a:solidFill>
                  <a:srgbClr val="376092"/>
                </a:solidFill>
                <a:latin typeface="Calibri"/>
              </a:rPr>
              <a:t> הנפגע ללא סטייה מהמסלול הרגיל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1" lang="he-IL" sz="3000" spc="-1" strike="noStrike">
                <a:solidFill>
                  <a:srgbClr val="376092"/>
                </a:solidFill>
                <a:latin typeface="Calibri"/>
              </a:rPr>
              <a:t>למעט תפילה ולקיחת הילדים למסגרות הלימודיות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376092"/>
                </a:solidFill>
                <a:latin typeface="Calibri"/>
              </a:rPr>
              <a:t>2</a:t>
            </a:r>
            <a:r>
              <a:rPr b="1" lang="he-IL" sz="3000" spc="-1" strike="noStrike">
                <a:solidFill>
                  <a:srgbClr val="376092"/>
                </a:solidFill>
                <a:latin typeface="Calibri"/>
              </a:rPr>
              <a:t>. תוך כדי עבודה- במהלך יום העבודה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376092"/>
                </a:solidFill>
                <a:latin typeface="Calibri"/>
              </a:rPr>
              <a:t>3</a:t>
            </a:r>
            <a:r>
              <a:rPr b="1" lang="he-IL" sz="3000" spc="-1" strike="noStrike">
                <a:solidFill>
                  <a:srgbClr val="376092"/>
                </a:solidFill>
                <a:latin typeface="Calibri"/>
              </a:rPr>
              <a:t>. בדרך חזרה מהעבודה אל ביתו – </a:t>
            </a:r>
            <a:r>
              <a:rPr b="1" lang="he-IL" sz="3000" spc="-1" strike="noStrike" u="sng">
                <a:solidFill>
                  <a:srgbClr val="ff0000"/>
                </a:solidFill>
                <a:uFillTx/>
                <a:latin typeface="Calibri"/>
              </a:rPr>
              <a:t>ללא סטייה </a:t>
            </a:r>
            <a:r>
              <a:rPr b="1" lang="he-IL" sz="3000" spc="-1" strike="noStrike">
                <a:solidFill>
                  <a:srgbClr val="376092"/>
                </a:solidFill>
                <a:latin typeface="Calibri"/>
              </a:rPr>
              <a:t>מהמסלול הרגיל למעט איסוף הילדים ממסגרות הלימודיות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376092"/>
                </a:solidFill>
                <a:latin typeface="Calibri"/>
              </a:rPr>
              <a:t>4</a:t>
            </a:r>
            <a:r>
              <a:rPr b="1" lang="he-IL" sz="3000" spc="-1" strike="noStrike">
                <a:solidFill>
                  <a:srgbClr val="376092"/>
                </a:solidFill>
                <a:latin typeface="Calibri"/>
              </a:rPr>
              <a:t>. חבר וועד עובדים – מבוטח בתפקיד גם בשעות שאינם שעות העבודה הרגילות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376092"/>
                </a:solidFill>
                <a:latin typeface="Calibri"/>
              </a:rPr>
              <a:t>5</a:t>
            </a:r>
            <a:r>
              <a:rPr b="1" lang="he-IL" sz="3000" spc="-1" strike="noStrike">
                <a:solidFill>
                  <a:srgbClr val="376092"/>
                </a:solidFill>
                <a:latin typeface="Calibri"/>
              </a:rPr>
              <a:t>. השתלמויות – מחוץ למקום העבודה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6165000"/>
            <a:ext cx="285768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359A-9599-4D5D-8230-DE82869EBB19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992CF74-CEC0-42F1-9C2A-DE87364F6E0A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1:5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תחום המיסו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מציין מיקום של מספר שקופית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24DE-2642-4A6E-BC89-8CC19D623835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376092"/>
                </a:solidFill>
                <a:uFillTx/>
                <a:latin typeface="Calibri"/>
              </a:rPr>
              <a:t>דרך הטיפול של חשב השכר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8760" y="1267920"/>
            <a:ext cx="824688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376092"/>
                </a:solidFill>
                <a:latin typeface="Calibri"/>
              </a:rPr>
              <a:t>מייד שנודע על הפגיעה- חייבים למסור לעובד טופס ב.ל - </a:t>
            </a:r>
            <a:r>
              <a:rPr b="1" lang="he-IL" sz="3000" spc="-1" strike="noStrike">
                <a:solidFill>
                  <a:srgbClr val="376092"/>
                </a:solidFill>
                <a:latin typeface="Calibri"/>
              </a:rPr>
              <a:t>250</a:t>
            </a:r>
            <a:r>
              <a:rPr b="1" lang="he-IL" sz="3000" spc="-1" strike="noStrike">
                <a:solidFill>
                  <a:srgbClr val="376092"/>
                </a:solidFill>
                <a:latin typeface="Calibri"/>
              </a:rPr>
              <a:t> ( ללא שום שיקול דעת 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376092"/>
                </a:solidFill>
                <a:latin typeface="Calibri"/>
              </a:rPr>
              <a:t>העובד חייב לראות רופא תוך </a:t>
            </a:r>
            <a:r>
              <a:rPr b="1" lang="he-IL" sz="3000" spc="-1" strike="noStrike">
                <a:solidFill>
                  <a:srgbClr val="376092"/>
                </a:solidFill>
                <a:latin typeface="Calibri"/>
              </a:rPr>
              <a:t>48</a:t>
            </a:r>
            <a:r>
              <a:rPr b="1" lang="he-IL" sz="3000" spc="-1" strike="noStrike">
                <a:solidFill>
                  <a:srgbClr val="376092"/>
                </a:solidFill>
                <a:latin typeface="Calibri"/>
              </a:rPr>
              <a:t> שעות מהתאונה ולהביא למעסיק בתום הטיפול  תעודה ראשונית לנפגע בעבודה - </a:t>
            </a:r>
            <a:r>
              <a:rPr b="1" lang="he-IL" sz="3000" spc="-1" strike="noStrike" u="sng">
                <a:solidFill>
                  <a:srgbClr val="ff0000"/>
                </a:solidFill>
                <a:uFillTx/>
                <a:latin typeface="Calibri"/>
              </a:rPr>
              <a:t>ללא תעודה אין תביעה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376092"/>
                </a:solidFill>
                <a:latin typeface="Calibri"/>
              </a:rPr>
              <a:t>במידה ויש ימי פגיעה נוספים - תעודת המש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376092"/>
                </a:solidFill>
                <a:latin typeface="Calibri"/>
              </a:rPr>
              <a:t>להגיש תביעה לביטוח לאומי - טופס ב.ל </a:t>
            </a:r>
            <a:r>
              <a:rPr b="1" lang="he-IL" sz="3000" spc="-1" strike="noStrike">
                <a:solidFill>
                  <a:srgbClr val="376092"/>
                </a:solidFill>
                <a:latin typeface="Calibri"/>
              </a:rPr>
              <a:t>211</a:t>
            </a:r>
            <a:r>
              <a:rPr b="1" lang="he-IL" sz="30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376092"/>
                </a:solidFill>
                <a:latin typeface="Calibri"/>
              </a:rPr>
              <a:t>בימי בהם העובד נעדר - </a:t>
            </a:r>
            <a:r>
              <a:rPr b="1" lang="he-IL" sz="3000" spc="-1" strike="noStrike" u="sng">
                <a:solidFill>
                  <a:srgbClr val="ff0000"/>
                </a:solidFill>
                <a:uFillTx/>
                <a:latin typeface="Calibri"/>
              </a:rPr>
              <a:t>אין לחייב בימי מחלה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714240" y="5500080"/>
            <a:ext cx="228600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D1CA-9702-4AA9-B962-92FCDDFFFBB6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E23E394-1616-412B-A6AB-809F3C43D6E3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1:5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תחום המיסו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מציין מיקום של מספר שקופית 5"/>
          <p:cNvSpPr/>
          <p:nvPr/>
        </p:nvSpPr>
        <p:spPr>
          <a:xfrm>
            <a:off x="4287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0FF9-6A47-4639-88F8-91C3C9F60EE3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9311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376092"/>
                </a:solidFill>
                <a:uFillTx/>
                <a:latin typeface="Calibri"/>
              </a:rPr>
              <a:t>מניין הימים- כיצד מחשבים את ימי הפגיע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499760"/>
            <a:ext cx="82868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יום הפגיעה – </a:t>
            </a: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100%</a:t>
            </a: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 שכר – לא משנה שעת הפגיעה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12</a:t>
            </a: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 הימים הראשונים שלאחר יום הפגיעה – ע"ח המעסי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תשלום בשיעור של </a:t>
            </a: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75%</a:t>
            </a: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 מהשכר( עד תקרה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מהיום ה - </a:t>
            </a: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13</a:t>
            </a: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 ועד היום ה - </a:t>
            </a: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91</a:t>
            </a: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 על ח-ן ביטוח לאומ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במידה ותקופת דמי פגיעה עד </a:t>
            </a: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12</a:t>
            </a: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 ימי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היום הראשון + השני על חשבון הנפגע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אין חיוב ימי מחלה - בתאונת עבוד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-720" y="5571360"/>
            <a:ext cx="279252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DCE2-2B6B-4F09-B960-CCE8FFAD94C5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B200259-B631-422F-8E7B-DE3A15A3249E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1:5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תחום המיסו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מציין מיקום של מספר שקופית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E6EA-95FB-4834-9FBD-31D539CD8520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376092"/>
                </a:solidFill>
                <a:uFillTx/>
                <a:latin typeface="Calibri"/>
              </a:rPr>
              <a:t>חישוב דמי פגיעה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1428480"/>
            <a:ext cx="8929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376092"/>
                </a:solidFill>
                <a:uFillTx/>
                <a:latin typeface="Calibri"/>
              </a:rPr>
              <a:t>(שכר ברוטו ב- </a:t>
            </a:r>
            <a:r>
              <a:rPr b="1" lang="he-IL" sz="3200" spc="-1" strike="noStrike" u="sng">
                <a:solidFill>
                  <a:srgbClr val="376092"/>
                </a:solidFill>
                <a:uFillTx/>
                <a:latin typeface="Calibri"/>
              </a:rPr>
              <a:t>3</a:t>
            </a:r>
            <a:r>
              <a:rPr b="1" lang="he-IL" sz="3200" spc="-1" strike="noStrike" u="sng">
                <a:solidFill>
                  <a:srgbClr val="376092"/>
                </a:solidFill>
                <a:uFillTx/>
                <a:latin typeface="Calibri"/>
              </a:rPr>
              <a:t> החודשים שקדמו לפגיעה)*</a:t>
            </a:r>
            <a:r>
              <a:rPr b="1" lang="he-IL" sz="3200" spc="-1" strike="noStrike" u="sng">
                <a:solidFill>
                  <a:srgbClr val="376092"/>
                </a:solidFill>
                <a:uFillTx/>
                <a:latin typeface="Calibri"/>
              </a:rPr>
              <a:t>7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                          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9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התוצאה שווה ערך יום פגיע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לא יותר מהתקרה – </a:t>
            </a:r>
            <a:r>
              <a:rPr b="1" lang="en-US" sz="3200" spc="-1" strike="noStrike" u="sng">
                <a:solidFill>
                  <a:srgbClr val="376092"/>
                </a:solidFill>
                <a:uFillTx/>
                <a:latin typeface="Calibri"/>
              </a:rPr>
              <a:t>42.435</a:t>
            </a:r>
            <a:r>
              <a:rPr b="1" lang="he-IL" sz="3200" spc="-1" strike="noStrike" u="sng">
                <a:solidFill>
                  <a:srgbClr val="376092"/>
                </a:solidFill>
                <a:uFillTx/>
                <a:latin typeface="Calibri"/>
              </a:rPr>
              <a:t>, *</a:t>
            </a:r>
            <a:r>
              <a:rPr b="1" lang="he-IL" sz="3200" spc="-1" strike="noStrike" u="sng">
                <a:solidFill>
                  <a:srgbClr val="376092"/>
                </a:solidFill>
                <a:uFillTx/>
                <a:latin typeface="Calibri"/>
              </a:rPr>
              <a:t>75%</a:t>
            </a:r>
            <a:r>
              <a:rPr b="1" lang="he-IL" sz="3200" spc="-1" strike="noStrike" u="sng">
                <a:solidFill>
                  <a:srgbClr val="376092"/>
                </a:solidFill>
                <a:uFillTx/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                                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תגמול מרבי ליום = 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1,061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 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בניכוי מיסוי ביטוח לאומי, מס בריאות, מס הכנס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-720" y="5571360"/>
            <a:ext cx="279252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77A2-64A1-4586-B51B-FA4D9E989243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F46477F-B1ED-41AB-93E9-ED37631CA3E4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1:5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תחום המיסו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מציין מיקום של מספר שקופית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AED1-E2D5-4FB9-95FB-35954E7DC67D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99640" y="549360"/>
            <a:ext cx="815652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200" spc="-1" strike="noStrike" u="sng">
                <a:solidFill>
                  <a:srgbClr val="376092"/>
                </a:solidFill>
                <a:uFillTx/>
                <a:latin typeface="Calibri"/>
              </a:rPr>
              <a:t>תאונת דרכים – שמוגדרת ת.עבודה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560" y="1484280"/>
            <a:ext cx="854388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עובד שנפגע בתאונת דרכים שהוכרה כתאונת עבודה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12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 הימים הראשונים הם על חשבון חברת הביטו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המעסיק חייב להגיש לחברת הביטוח תביעת החז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יש לצרף אישור של ביטוח לאומי על ההכרה של התאונה, 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3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 תלושי שכר אחרוני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אין לוותר לחברות הביטו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-720" y="5571360"/>
            <a:ext cx="279252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4427-8AA2-427A-AA23-0E98BBFF8C09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AFAC085-636A-4E92-B996-104CC114B4B6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1:5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תחום המיסו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מציין מיקום של מספר שקופית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90DA-3777-46B0-8420-F4B2F762D4ED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 u="sng">
                <a:solidFill>
                  <a:srgbClr val="376092"/>
                </a:solidFill>
                <a:uFillTx/>
                <a:latin typeface="Calibri"/>
              </a:rPr>
              <a:t>תקנה </a:t>
            </a:r>
            <a:r>
              <a:rPr b="1" lang="he-IL" sz="6600" spc="-1" strike="noStrike" u="sng">
                <a:solidFill>
                  <a:srgbClr val="376092"/>
                </a:solidFill>
                <a:uFillTx/>
                <a:latin typeface="Calibri"/>
              </a:rPr>
              <a:t>22</a:t>
            </a:r>
            <a:r>
              <a:rPr b="0" lang="he-IL" sz="60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13840" y="1599840"/>
            <a:ext cx="8472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376092"/>
                </a:solidFill>
                <a:uFillTx/>
                <a:latin typeface="Calibri"/>
              </a:rPr>
              <a:t>מעסיק החתום על התקנה</a:t>
            </a:r>
            <a:r>
              <a:rPr b="0" lang="he-IL" sz="32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1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. משלם לעובד את ימי הפגיעה עד – 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91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 יו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2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. המוסד מעביר את התמורה למעסיק ברוט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3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. מתשלום זה מקזז המוסד את 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12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 הימי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4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. מוסיף למעביד עמלה של 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2.5%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5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. מעסיק שמשלם מס שכר חייב להתקזז על תשלום המס מייד שהכספים מגעים מביטוח לאומ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-720" y="5571360"/>
            <a:ext cx="279252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B13D-FBCD-4B4B-A87E-020D390D227C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D083BC6-198F-4DD0-ACC7-F5C8660DBC22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1:5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תחום המיסו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מציין מיקום של מספר שקופית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E3ED-390B-4B9D-AD55-E701B287F2F3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376092"/>
                </a:solidFill>
                <a:uFillTx/>
                <a:latin typeface="Calibri"/>
              </a:rPr>
              <a:t>ללא תקנה </a:t>
            </a:r>
            <a:r>
              <a:rPr b="1" lang="he-IL" sz="4800" spc="-1" strike="noStrike" u="sng">
                <a:solidFill>
                  <a:srgbClr val="376092"/>
                </a:solidFill>
                <a:uFillTx/>
                <a:latin typeface="Calibri"/>
              </a:rPr>
              <a:t>22</a:t>
            </a:r>
            <a:r>
              <a:rPr b="0" lang="he-IL" sz="44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560" y="1600200"/>
            <a:ext cx="854388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המעסיק משלם את 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12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 הימים הראשוני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המוסד מעביר את דמי הפגיעה לחשבון העוב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התשלום כולל 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12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 הימים הראשוני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התשלום על בסיס נטו בניכוי מיסו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במקביל מבקש מהמעסיק 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12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 ימים ראשוני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יכול להיווצר כפל תשלום של 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12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 הימי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יש עדיפות לתביעות שלא בתקנה 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22</a:t>
            </a:r>
            <a:r>
              <a:rPr b="0" lang="he-IL" sz="32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5609520"/>
            <a:ext cx="264312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15:36:32Z</dcterms:created>
  <dc:creator>xp</dc:creator>
  <dc:description/>
  <dc:language>en-US</dc:language>
  <cp:lastModifiedBy>Atidot</cp:lastModifiedBy>
  <dcterms:modified xsi:type="dcterms:W3CDTF">2013-01-22T08:45:31Z</dcterms:modified>
  <cp:revision>16</cp:revision>
  <dc:subject/>
  <dc:title>יורם  אזרד- יועץ מס ופרישה 052-3808345 02-6233008</dc:title>
</cp:coreProperties>
</file>