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53A4-F379-4F33-B664-617367DD1548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A089-AA11-473E-BC44-CBB69D64433A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56AD-197D-4D56-B964-F598BC1D1401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5BDE-B60F-4A28-B658-04A171C5B801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3243-832C-4F53-A8B4-CEB9900B7946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B89D-CE8F-4B21-BDD9-E1FA87243D26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A9D8-D053-4706-9EE3-D23D14E9F6DE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D4B8-BF28-4A0D-BCC0-1CDA20C3DD82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098F-F3BF-4485-BD91-4894915770DB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231C-5016-4619-8310-C789E94F4964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F815-4EF8-449F-96F3-3D12ECCEA39A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A638-B158-4D75-AE7F-5A4ABA16478A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8436-5C56-420B-A656-0DAC80CF6FB5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C6B-2791-42D3-B99C-84E1A884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F4F-C0CF-4B8C-833D-5F428B86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8B2-92E7-4A2E-92D4-C73F09F6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6B1-D33A-4367-895B-C3C5EEF6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860-06DF-4291-9C80-2340A571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A99-3E47-474D-A8D6-B502A603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D2F-B702-4F33-8C86-BAD26F23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9DF-55B3-47D9-96E9-8458A276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AB7-DCF8-477E-9A4B-58D5D437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7A4-1499-4DD8-A3EE-57D4982B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D42-7672-4A0F-8183-A976F419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593-9732-46AE-A3DC-24ECAE42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C20E-B41A-49A1-A8AB-714E28FC475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CA33-72A7-464B-96E6-4B7274ECBDC8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3A7876-DCA0-416C-80DC-50AA953C4FFD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מציין מיקום של כותרת תחתונה 4"/>
          <p:cNvSpPr/>
          <p:nvPr/>
        </p:nvSpPr>
        <p:spPr>
          <a:xfrm>
            <a:off x="3143160" y="62866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D7EC-5E3C-47F4-AE01-5D3392E50948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046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יורם  אזרד- יועץ מס ופרישה</a:t>
            </a:r>
            <a:br>
              <a:rPr sz="3600"/>
            </a:b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052-3808345</a:t>
            </a:r>
            <a:br>
              <a:rPr sz="3600"/>
            </a:br>
            <a:r>
              <a:rPr b="1" lang="he-IL" sz="3600" spc="-1" strike="noStrike">
                <a:solidFill>
                  <a:srgbClr val="376092"/>
                </a:solidFill>
                <a:latin typeface="Calibri"/>
              </a:rPr>
              <a:t>02-6233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3640" y="642600"/>
            <a:ext cx="860580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376092"/>
                </a:solidFill>
                <a:latin typeface="Calibri"/>
              </a:rPr>
              <a:t>ביטוח לאומי – תאונות עבוד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376092"/>
                </a:solidFill>
                <a:latin typeface="Calibri"/>
              </a:rPr>
              <a:t>מעודכן ל - </a:t>
            </a:r>
            <a:r>
              <a:rPr b="1" i="1" lang="he-IL" sz="3600" spc="-1" strike="noStrike">
                <a:solidFill>
                  <a:srgbClr val="376092"/>
                </a:solidFill>
                <a:latin typeface="Calibri"/>
              </a:rPr>
              <a:t>2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376092"/>
                </a:solidFill>
                <a:latin typeface="Calibri"/>
              </a:rPr>
              <a:t>עתודות – המרכז ללימודי מקצועות השכר בישרא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662200" y="2700360"/>
            <a:ext cx="333864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5A9A-66CC-44E8-BD1A-B0B11FC25418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DBC382-EE51-429C-A44C-6BA3A09B67B2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CCF5-3694-4F2C-86AC-70233C94DCF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376092"/>
                </a:solidFill>
                <a:uFillTx/>
                <a:latin typeface="Calibri"/>
              </a:rPr>
              <a:t>תאונות אישיו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כול תושב ישראל מבוטח בתאונות אישי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תאונה – ארוע פתאומי בארץ ו/או בחו"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פיצוי עד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90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יו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כנגד תעודה רפואי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הנפגע חייב להיבדק על ידי רופא תוך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72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שע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הפיצוי לשכיר - כנגד ניצול ימי מחלה אצל המעסי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גובה הפיצוי -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75%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משכרו ערב הפגיעה - לפי אותה נוסחה של תאונת עבוד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פיצוי עקרת בית - </a:t>
            </a: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25%</a:t>
            </a: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השכר הממוצע במש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14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ימי המתנה - כלומר פיצוי של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76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ימים בלבדֵ</a:t>
            </a: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09520"/>
            <a:ext cx="2643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F212-A657-4FAC-8686-FC07DD36E4C7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F18674-CAC2-4F0F-9B6E-77654B9971C7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867C-0ED8-43B8-A399-218C1BA01EC1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376092"/>
                </a:solidFill>
                <a:uFillTx/>
                <a:latin typeface="Calibri"/>
              </a:rPr>
              <a:t>מחלות מקצוע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גם במסגרת ביטוח תאונות עבוד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עובד שחלה כתוצאה מהמקצוע שעב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יש בביטוח לאומי רשימת מחלות מוסכמ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376092"/>
                </a:solidFill>
                <a:uFillTx/>
                <a:latin typeface="Calibri"/>
              </a:rPr>
              <a:t>כגון</a:t>
            </a: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חלות שמיעה - עובדים בסביבת עבודה רועש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חלות יבלות במיתרי הקול - מורי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חלות תעלת הרירית - קלדניו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חלות ראיה - עבודה רבה מול מחש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76092"/>
                </a:solidFill>
                <a:latin typeface="Calibri"/>
              </a:rPr>
              <a:t>מחלות סרטן - חשיפה לחומרים מסרטנים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09520"/>
            <a:ext cx="2643120" cy="67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Administrator\שולחן העבודה\atudot_final.gif"/>
          <p:cNvPicPr/>
          <p:nvPr/>
        </p:nvPicPr>
        <p:blipFill>
          <a:blip r:embed="rId2"/>
          <a:stretch/>
        </p:blipFill>
        <p:spPr>
          <a:xfrm>
            <a:off x="151560" y="5761800"/>
            <a:ext cx="26434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205B-2B9B-439B-A3CC-8BE85A26F615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F826BB-1E24-44A7-AB8C-D6FC485180C4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D7A8-5EC1-4798-97AF-0F9B0BBA23D9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 u="sng">
                <a:solidFill>
                  <a:srgbClr val="376092"/>
                </a:solidFill>
                <a:uFillTx/>
                <a:latin typeface="Calibri"/>
              </a:rPr>
              <a:t>תודה על ההקשבה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יורם אזרד- עתודות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המרכז ללימודי מקצועות השכר בישרא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יועץ מס ופרישה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02-6233008</a:t>
            </a: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he-IL" sz="2700" spc="-1" strike="noStrike">
                <a:solidFill>
                  <a:srgbClr val="376092"/>
                </a:solidFill>
                <a:latin typeface="Calibri"/>
              </a:rPr>
              <a:t>052-380834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571040" y="794520"/>
            <a:ext cx="67150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F960-1B43-4159-8C9F-7D0D8F796579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BC07B7-D56B-4D0F-9CA9-1FC35E698487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99C1-83CA-4246-B731-0D1F46A00286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376092"/>
                </a:solidFill>
                <a:uFillTx/>
                <a:latin typeface="Calibri"/>
              </a:rPr>
              <a:t>נושא ההרצאה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מהי תאונת עבוד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מניין הימ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חישוב דמי פגיע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תאונת עבודה - שהיא תאונת דרכ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תקנה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מעסיק ללא תקנה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מחלת מקצו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תאונות אישיו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714240" y="5786280"/>
            <a:ext cx="228600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8360-840F-456E-B796-D84159712163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5DBA6E-FA63-47F2-A3D2-94CF340EEE46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B42A-D911-4C3F-BCB6-EBEB5A9F2432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Calibri"/>
              </a:rPr>
              <a:t>תאונות עבוד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840" y="1599840"/>
            <a:ext cx="8472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c0504d"/>
                </a:solidFill>
                <a:latin typeface="Calibri"/>
              </a:rPr>
              <a:t>1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בדרך אל העבודה ללא סטייה מהמסלול הרגי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למעט תפילה ולקיחת הילדים למסגרות הלימודיו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תוך כדי עבודה- במהלך יום העבוד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3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בדרך חזרה מהעבודה – ללא סטייה מהמסלול הרגיל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4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פעילות של ועד עובדים- נציגות עובד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5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השתלמויות – מחוץ למקום העבוד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42200" y="5857200"/>
            <a:ext cx="28573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DA83-3345-4A39-96BA-1C19EC04AB90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7D45FA-6FFE-4D7F-A88D-8582682E9B42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FB23-4451-4F04-8B41-9F2EF1679F5B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376092"/>
                </a:solidFill>
                <a:uFillTx/>
                <a:latin typeface="Calibri"/>
              </a:rPr>
              <a:t>דרך הטיפול של חשב השכר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40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מייד שנודע על הפגיעה- חייבים לתת לעובד טופס ב.ל -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50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עובד חייב להביא למעסיק תעודה ראשונית לנפגע בעבודה - ללא תעודה אין תביע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במידה ויש ימי פגיעה נוספים - תעודת המש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להגיש תביעה לביטוח לאומי - טופס ב.ל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11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בימי בהם העובד נעדר - אין לחייב בימי מחל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714240" y="5500080"/>
            <a:ext cx="2286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9693-31CF-47C1-9A6F-26D4438FC75E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849C49-E15C-4727-B566-9DCFBE965EFE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מציין מיקום של מספר שקופית 5"/>
          <p:cNvSpPr/>
          <p:nvPr/>
        </p:nvSpPr>
        <p:spPr>
          <a:xfrm>
            <a:off x="42876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F1CE-B319-4300-9367-5B8031E6BDAB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376092"/>
                </a:solidFill>
                <a:uFillTx/>
                <a:latin typeface="Calibri"/>
              </a:rPr>
              <a:t>מניין הימי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יום הפגיעה – 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100%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 שכר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 הימים הראשונים שלאחר יום הפגיעה – ע"ח המעסי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בשיעור של 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75%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 מהשכר( עד תקרה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מהיום ה - 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13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 ועד היום ה - 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91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 על ח-ן ביטוח לאומ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במידה ותקופת דמי פגיעה עד 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 ימי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היום הראשון + השני על חשבון הנפגע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000" spc="-1" strike="noStrike">
                <a:solidFill>
                  <a:srgbClr val="376092"/>
                </a:solidFill>
                <a:latin typeface="Calibri"/>
              </a:rPr>
              <a:t>אין חיוב ימי מחלה - בתאונת עבודה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4B75-B96A-4F82-A189-2D1FBEADE2CD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513637-AAE6-461B-9D91-C49D9F4E6EC1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CE99-6E8B-45EA-846B-0F2920BC4DA8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376092"/>
                </a:solidFill>
                <a:uFillTx/>
                <a:latin typeface="Calibri"/>
              </a:rPr>
              <a:t>חישוב דמי פגיע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428480"/>
            <a:ext cx="8929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(שכר ברוטו ב- 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3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 החודשים שקדמו לפגיעה)*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                        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תוצאה שווה ערך יום פגיע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לא יותר מהתקרה – 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41,000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 *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75%</a:t>
            </a: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                              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תגמול מרבי ליום =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,025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בניכוי מיסוי ביטוח לאומי, מס בריאות, מס הכנס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528D-39FE-49DA-B83D-36D0F654A982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84F523-5A56-4FC3-8048-BCF0159E64F0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52E9-9E26-41ED-8EB8-B9D257E68901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81565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200" spc="-1" strike="noStrike" u="sng">
                <a:solidFill>
                  <a:srgbClr val="376092"/>
                </a:solidFill>
                <a:uFillTx/>
                <a:latin typeface="Calibri"/>
              </a:rPr>
              <a:t>תאונת דרכים – שמוגדרת ת.עבודה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560" y="1484280"/>
            <a:ext cx="854388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עובד שנפגע בתאונת דרכים שהוכרה כתאונת עבוד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הימים הראשונים הם על חשבון חברת הביטו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מעסיק חייב להגיש לחברת הביטוח תביעת החז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יש לצרף אישור של ביטוח לאומי על ההכרה של התאונה,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3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תלושי שכר אחרונ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אין לוותר לחברות הביטו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66BB-2FF9-43D6-A97A-19DE7C0A4663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6132F9-177C-4B04-8982-1840CF91DF39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672E-92D4-4454-8944-9BB59079C401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 u="sng">
                <a:solidFill>
                  <a:srgbClr val="376092"/>
                </a:solidFill>
                <a:uFillTx/>
                <a:latin typeface="Calibri"/>
              </a:rPr>
              <a:t>תקנה </a:t>
            </a:r>
            <a:r>
              <a:rPr b="1" lang="he-IL" sz="6600" spc="-1" strike="noStrike" u="sng">
                <a:solidFill>
                  <a:srgbClr val="376092"/>
                </a:solidFill>
                <a:uFillTx/>
                <a:latin typeface="Calibri"/>
              </a:rPr>
              <a:t>22</a:t>
            </a:r>
            <a:r>
              <a:rPr b="0" lang="he-IL" sz="60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376092"/>
                </a:solidFill>
                <a:uFillTx/>
                <a:latin typeface="Calibri"/>
              </a:rPr>
              <a:t>מעסיק החתום על התקנה</a:t>
            </a:r>
            <a:r>
              <a:rPr b="0" lang="he-IL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משלם לעובד את ימי הפגיעה עד –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91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יו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המוסד מעביר את התמורה למעסיק ברוט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3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מתשלום זה מקזז המוסד את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הימ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4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מוסיף למעביד עמלה של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.5%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5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. מעסיק שמשלם מס שכר חייב להתקזז על תשלום המס מייד שהכספים מגעים מביטוח לאומ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-720" y="5571360"/>
            <a:ext cx="27925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מציין מיקום של תאריך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DE12-92E2-4497-BBD7-277C867B3C67}" type="datetime">
              <a:rPr b="0" lang="he-I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12FCA3-F187-4BE0-87D9-4D71BF53089D}" type="datetime10">
              <a:rPr b="0" lang="he-IL" sz="1200" spc="-1" strike="noStrike">
                <a:solidFill>
                  <a:srgbClr val="898989"/>
                </a:solidFill>
                <a:latin typeface="Calibri"/>
              </a:rPr>
              <a:t>09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מציין מיקום של כותרת תחתונה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תחום המיסו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מציין מיקום של מספר שקופית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F292-3540-4686-B814-ADBF7BEB9135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376092"/>
                </a:solidFill>
                <a:uFillTx/>
                <a:latin typeface="Calibri"/>
              </a:rPr>
              <a:t>ללא תקנה </a:t>
            </a:r>
            <a:r>
              <a:rPr b="1" lang="he-IL" sz="4800" spc="-1" strike="noStrike" u="sng">
                <a:solidFill>
                  <a:srgbClr val="376092"/>
                </a:solidFill>
                <a:uFillTx/>
                <a:latin typeface="Calibri"/>
              </a:rPr>
              <a:t>22</a:t>
            </a:r>
            <a:r>
              <a:rPr b="0" lang="he-IL" sz="44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8543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מעסיק משלם את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הימים הראשונ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מוסד מעביר את דמי הפגיעה לחשבון העוב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תשלום כולל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הימים הראשוני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התשלום על בסיס נטו בניכוי מיסו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במקביל מבקש מהמעסיק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ימים ראשוני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יכול להיווצר כפל תשלום של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12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 הימי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יש עדיפות לתביעות שלא בתקנה </a:t>
            </a:r>
            <a:r>
              <a:rPr b="1" lang="he-IL" sz="3200" spc="-1" strike="noStrike">
                <a:solidFill>
                  <a:srgbClr val="376092"/>
                </a:solidFill>
                <a:latin typeface="Calibri"/>
              </a:rPr>
              <a:t>22</a:t>
            </a:r>
            <a:r>
              <a:rPr b="0" lang="he-IL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609520"/>
            <a:ext cx="2643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5:36:32Z</dcterms:created>
  <dc:creator>xp</dc:creator>
  <dc:description/>
  <dc:language>en-US</dc:language>
  <cp:lastModifiedBy>xp</cp:lastModifiedBy>
  <dcterms:modified xsi:type="dcterms:W3CDTF">2011-01-30T15:55:25Z</dcterms:modified>
  <cp:revision>3</cp:revision>
  <dc:subject/>
  <dc:title>יורם  אזרד- יועץ מס ופרישה 052-3808345 02-6233008</dc:title>
</cp:coreProperties>
</file>